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9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9DC-8CB8-4EB7-ACB3-4815E4E9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8C8-CC99-4BDC-A04A-9601BA1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166-14C8-4634-9EB3-A00956DB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625-0F51-4FF3-AEDE-1C48155F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1D5-CEE7-4CA3-B967-95C1D11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441-9074-485E-94A9-7523AC6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5C6-3020-41CA-98F2-55D0AB9F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6AC-F958-4AE9-8AC7-CADBBEA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0F6-593C-4E73-BADE-3A761356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F9A-C9AE-434C-B6D7-B624EC7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616-EB22-471F-AD8C-9253367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F1F-0084-46AF-A115-12C99422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B768-0DDD-4FA7-92AA-5315AB17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4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 Grad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Two-Dimensional Arrays and Referenc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wo-Dimensional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4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two-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ing two examples are eq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943360" cy="222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5486400"/>
            <a:ext cx="725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00360" y="2971800"/>
            <a:ext cx="5543280" cy="2152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9720" y="170028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dimensional numbers array after initial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more array entries than initializers, the remaining entries are initializ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tatement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initialize the entire array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3800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two-dimensional array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ows not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columns is requi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3743280"/>
            <a:ext cx="5067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14920" y="2927520"/>
            <a:ext cx="19526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1800" y="2652840"/>
            <a:ext cx="20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1800" y="26528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1800" y="2652840"/>
            <a:ext cx="20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student in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ree test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While the user enters an invalid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Prompt the user for and input the grad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a table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each student’s test grades and average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For each t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average grade on th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Display the clas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360" y="1339920"/>
            <a:ext cx="59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9000" y="1623960"/>
            <a:ext cx="40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constant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051000"/>
            <a:ext cx="22100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constants representing the number of students an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3432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8912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the number of columns for a two-dimensional array in the function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440" y="1371600"/>
            <a:ext cx="41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function proto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86000"/>
            <a:ext cx="2133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function prototypes that specify two-dimensional arra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6840" y="187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a two-dimensional array and initializing its value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0520" y="1371600"/>
            <a:ext cx="59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d initializing a two-dimensional a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59092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 two-dimensional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3160" y="2514600"/>
            <a:ext cx="62499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760" y="1766880"/>
            <a:ext cx="719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o input test gra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udent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914560"/>
            <a:ext cx="2209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test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219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4956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41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and passing a two-dimensional array as its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60520" y="2209680"/>
            <a:ext cx="6249960" cy="196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8880" y="1547640"/>
            <a:ext cx="74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ing floating-point values and displaying a grade summ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76228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floating-poi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06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50532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est grades and average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09680" y="35809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iate between one-dimensional and two-dimensional arr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nd manipulate two-dimensional arr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applications of two-dimensional arr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 to right justify output in a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3160" y="2209680"/>
            <a:ext cx="6249960" cy="196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6640" y="1562040"/>
            <a:ext cx="55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9548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th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tudentGra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2004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1630440"/>
            <a:ext cx="6249960" cy="2124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s a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s enclosed inside another control statement (usually ano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ularly useful when processing two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8200" y="1233360"/>
            <a:ext cx="40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20968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rating once for each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0520" y="2133720"/>
            <a:ext cx="6249960" cy="2628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5920" y="1492200"/>
            <a:ext cx="56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 nested loop to input each test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590920"/>
            <a:ext cx="19051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ing the user for and inputting each of the student’s three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31240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3160" y="2400480"/>
            <a:ext cx="624996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7360" y="1658880"/>
            <a:ext cx="65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 repeats until the user enters a valid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1240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that the user enters a valid test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429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36840" y="2057400"/>
            <a:ext cx="6249960" cy="226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3760" y="1562040"/>
            <a:ext cx="67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local variable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2004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3526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6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89120" y="2057400"/>
            <a:ext cx="6249960" cy="2438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040" y="1547640"/>
            <a:ext cx="57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descriptive text and a table he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89548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able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eam manipulator right justifies output in a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36840" y="2719440"/>
            <a:ext cx="624996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8520" y="1547640"/>
            <a:ext cx="63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 number corresponding to each stu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3526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number corresponding to each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0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89120" y="2476440"/>
            <a:ext cx="6249960" cy="277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17600" y="1471680"/>
            <a:ext cx="830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ting the student’s grades and adding each grade to the total gr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6668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est grade, right justified in a field of width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124080"/>
            <a:ext cx="1676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886200"/>
            <a:ext cx="19047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e test grade to the student’s total and the class’s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2670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0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6840" y="2362320"/>
            <a:ext cx="6249960" cy="168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6000" y="1547640"/>
            <a:ext cx="66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student’s average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438280"/>
            <a:ext cx="16761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and displaying the student’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28195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581280"/>
            <a:ext cx="16761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ting the student’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81080" y="35809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0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3160" y="1886040"/>
            <a:ext cx="6249960" cy="3952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88520" y="1371600"/>
            <a:ext cx="69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average grade for each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43828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descriptive text for the 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58128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ming each column of the table to find the total grad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038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45846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and displaying the average grad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286000" y="47239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4280" y="2386080"/>
            <a:ext cx="797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2967120"/>
            <a:ext cx="6154560" cy="1790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4200" y="1547640"/>
            <a:ext cx="56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class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355920"/>
            <a:ext cx="15238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and displaying the clas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3733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9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0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600" y="2004840"/>
            <a:ext cx="58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.(Part 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serting Code in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6880" y="2424240"/>
            <a:ext cx="5610240" cy="287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9960" y="1523880"/>
            <a:ext cx="59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. (Part 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220968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constants to represent the number of students an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242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3505320"/>
            <a:ext cx="2590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function prototypes that specify two-dimensional arra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657240" y="3657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0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52388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a two-dimensional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647960" y="106632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666880"/>
            <a:ext cx="3504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for and input test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352680" y="1599840"/>
            <a:ext cx="1981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429000"/>
            <a:ext cx="2590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floating-poi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657240" y="228600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33520"/>
            <a:ext cx="21333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est grades and average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18960" y="83808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6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0" y="0"/>
          <a:ext cx="68565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295280"/>
            <a:ext cx="25146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rate once for each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181480" y="1447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43828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and input each of the student’s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43400" y="28195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5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6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6856560" cy="42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15238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that user enters a valid test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3504960" y="53352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7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68565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152388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76560" y="1143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9" dur="1" fill="hold"/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0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2096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a test grade, right justified in a field of width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715000" y="24379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34290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e test grade to the student’s total and the class’s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123720" y="327636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472428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and display the student’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648320" y="4419360"/>
            <a:ext cx="1676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410080"/>
            <a:ext cx="24382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 the student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61960" y="4952880"/>
            <a:ext cx="1981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5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6" dur="1" fill="hold"/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858000" y="457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Grades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152280"/>
            <a:ext cx="312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descriptive text for the 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81120" y="304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182880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 each column of the table to find the total grad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029200" y="21337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29718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and display the class average for each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25744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464832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and display the class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4120" y="495288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1" dur="1" fill="hold"/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2" dur="1" fill="hold"/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600" y="1700280"/>
            <a:ext cx="62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7360" y="1700280"/>
            <a:ext cx="63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ting grades in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Gr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8160" y="1700280"/>
            <a:ext cx="63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ed after inputting invalid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udent Grade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2367000"/>
            <a:ext cx="561024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7080" y="1371600"/>
            <a:ext cx="49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est grades and avera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two ind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representing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index represents the row, the other represents the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row number and first column number are always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wo-Dimensional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2433600"/>
            <a:ext cx="8229600" cy="2859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0680" y="1700280"/>
            <a:ext cx="66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dimensional array with three rows and four colum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5:19Z</dcterms:created>
  <dc:creator>Eric Winokur</dc:creator>
  <dc:description/>
  <dc:language>en-US</dc:language>
  <cp:lastModifiedBy>Pearson Education</cp:lastModifiedBy>
  <dcterms:modified xsi:type="dcterms:W3CDTF">2004-10-11T14:13:16Z</dcterms:modified>
  <cp:revision>208</cp:revision>
  <dc:subject/>
  <dc:title>Tutorial 14 – Student Grades Application: Introducing Two-Dimensional Arrays and References</dc:title>
</cp:coreProperties>
</file>