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38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39.wmf" ContentType="image/x-wmf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A62-DA84-4DA0-9919-28199477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8D7-C42E-4687-A8B4-96B05D5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058-6941-4F7C-B0CA-32E5619B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7EA-6047-44EB-89B5-05759D2F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5C2-6F9C-4942-8014-F1ACDFD3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B40-F8CA-419C-9314-2584531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D21-D489-41BA-9B3D-A03BEB1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2BC-8D72-4C4F-AF1B-431A958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D55-BDB2-4DDC-AA98-2B07A38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39B-8662-428F-B8D2-46FD84F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A41-DD4B-4D0E-BB3D-00BCBAD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CF3-161F-4820-AAFF-07A8D21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E57-FCB7-4845-B40D-FB6FC9FF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8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cket Inform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equential Access Fil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e Ev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icket Inform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ata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e Ev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: Writing to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icket Inform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8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\Ticket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icket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at changes to file wer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added events to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480" y="1371600"/>
            <a:ext cx="53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nother event and closing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mal digits, letters and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haracters that a particular computer ca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s (or “binary digits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old two values, 0 o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consist of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CII (American Standard Code for Information Interchan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bits p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32 bits per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rograms called database management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 of files (example: list of employe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ntain Records (example: one employ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ntain fields (example: employee’s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field is designated as the record key and has a unique value among all records in the file (example: employee’s social security 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176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7120" y="1111320"/>
            <a:ext cx="28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hier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ata Hierarchy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136600"/>
            <a:ext cx="8229600" cy="1113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quence of byte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file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560" y="1415880"/>
            <a:ext cx="61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’s conceptual view of an n-byte file as a stre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for a file 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ttempt to open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If the file was not opened successfully</a:t>
            </a:r>
            <a:br>
              <a:rPr sz="2100"/>
            </a:b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Display an error message and exit the applic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Do</a:t>
            </a:r>
            <a:br>
              <a:rPr sz="2100"/>
            </a:b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for the day, time, price, name and description of the ev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day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tim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pric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the name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Add a description of the event and a newline to the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Prompt the user whether there are more events to be ad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75aff"/>
                </a:solidFill>
                <a:latin typeface="Times New Roman"/>
              </a:rPr>
              <a:t>While the user indicates that there are more events to 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3280" y="1263600"/>
            <a:ext cx="55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08200" y="2044800"/>
            <a:ext cx="623088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file processing with sequential-acces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040" y="1324080"/>
            <a:ext cx="657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Event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286000"/>
            <a:ext cx="2438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2562120"/>
            <a:ext cx="62308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3640" y="15476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store the file name, event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hether the application should input additional even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96252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5440" y="3048120"/>
            <a:ext cx="6249960" cy="162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1760" y="1928880"/>
            <a:ext cx="57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the file name that the user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8448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the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99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3160" y="1949400"/>
            <a:ext cx="6249960" cy="148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-ope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ap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nds to preexisting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g existing file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s::ap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ppends new data after ol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runcates preexisting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g existing file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s::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scards all of their previou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ile does not exis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_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contents 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840" y="1386000"/>
            <a:ext cx="43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514600"/>
            <a:ext cx="1752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, read from, write to and update fi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a computer’s data hierarch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come familiar with sequential-access file process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to read values and text from a sequential-access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to write values and text to a sequential-access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terminate the application and send an error message to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51120" y="2557440"/>
            <a:ext cx="6240600" cy="261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280" y="1600200"/>
            <a:ext cx="72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ing the application if the specified file could not be ope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26668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whether the file was open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971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76884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ing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921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6880" y="222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.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been created but does not contain an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760" y="1523880"/>
            <a:ext cx="29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89120" y="2476440"/>
            <a:ext cx="6249960" cy="27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92840" y="1700280"/>
            <a:ext cx="62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event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448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ing the even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997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9568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peats until user indicates that there are no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86000" y="46483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3160" y="2305080"/>
            <a:ext cx="6249960" cy="311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1400" y="1623960"/>
            <a:ext cx="69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ting the time, price, event name and event descrip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42900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ing the event time, price, name and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32000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33720" y="36572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8862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8862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3160" y="1787400"/>
            <a:ext cx="6249960" cy="1809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ing the stream insertion operator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480" y="1339920"/>
            <a:ext cx="44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ending user input to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2892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ending the event date, time, price, name and description to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670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74800" y="294804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3560" y="1928880"/>
            <a:ext cx="57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if there are more events to 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342900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whether there are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7339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5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5200" y="1852560"/>
            <a:ext cx="38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ing a file for 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93560" y="2019240"/>
            <a:ext cx="62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the Arts and Crafts Fair even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: Writing to a Fil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19520" y="3205080"/>
            <a:ext cx="5600520" cy="1314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440" y="2004840"/>
            <a:ext cx="70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-access file generat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73392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written 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8862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7" dur="1" fill="hold"/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914400"/>
            <a:ext cx="25905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to access files an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to us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52880" y="1447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38098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520" y="3962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960" y="2800440"/>
            <a:ext cx="7964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2696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the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19520" y="609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10160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863720"/>
            <a:ext cx="4495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whether the file was open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91120" y="201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45736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029200" y="2762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2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99072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to store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90360" y="228240"/>
            <a:ext cx="4647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182880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 the even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048120" y="1294920"/>
            <a:ext cx="2590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89548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 the event time, price, name and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733560" y="23623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6200" y="297144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09880" y="320040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67080" y="3200400"/>
            <a:ext cx="1524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7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0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Event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990720"/>
            <a:ext cx="3048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end the event date, time, price, name and description to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724280" y="7617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190512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whether there are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733560" y="1447920"/>
            <a:ext cx="1904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2819520"/>
            <a:ext cx="2666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…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oop repeats until the user indicates that there are no more events to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428640" y="22860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8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 user has not entered the sentinel value to exi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store a day of the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Open calendar.txt file to read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re are events left in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current event is for the day select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Read the event information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ev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Read the next event’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re are no events for the specified day</a:t>
            </a:r>
            <a:br>
              <a:rPr sz="2000"/>
            </a:b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message indicating that there are no events for that d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6160" y="1263600"/>
            <a:ext cx="62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74800" y="1981080"/>
            <a:ext cx="6240600" cy="1505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n event on the date the user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320" y="1415880"/>
            <a:ext cx="50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251460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46200" y="2405160"/>
            <a:ext cx="6240600" cy="2914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4280" y="1616040"/>
            <a:ext cx="66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8.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392112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7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8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22520" y="2548080"/>
            <a:ext cx="6240600" cy="262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65320" y="1714680"/>
            <a:ext cx="872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and ope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fo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05100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hat open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3432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11480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ing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86000" y="44193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7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8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6240240" cy="2628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1040" y="1547640"/>
            <a:ext cx="472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the first date from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40516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ing the date of the firs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7097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319560"/>
            <a:ext cx="21333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ing while there is more data 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62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input stream function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no more data in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s for “end-of-f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7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/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6240600" cy="4067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2200" y="1339920"/>
            <a:ext cx="58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ly reading event entries from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08440"/>
            <a:ext cx="14475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event information from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3352680"/>
            <a:ext cx="1752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4267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81080" y="4419360"/>
            <a:ext cx="1752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7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8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46200" y="1976400"/>
            <a:ext cx="6240600" cy="3772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8520" y="1415880"/>
            <a:ext cx="44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the next date in th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27464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ads and discards information for incorrec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2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302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ing the nex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45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4440" y="2224080"/>
            <a:ext cx="811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91400" y="1928880"/>
            <a:ext cx="54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1219320"/>
            <a:ext cx="3124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14600" y="9144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144792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27672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2743200"/>
            <a:ext cx="2971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that open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5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114800"/>
            <a:ext cx="2361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 the application if the file could not be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0292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533412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date of the first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96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3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4" dur="1" fill="hold"/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934320" y="685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87200"/>
            <a:ext cx="3657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while there is more data 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124080" y="339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75248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02920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15900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ev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311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1" dur="1" fill="hold"/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2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934320" y="380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Information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990720"/>
            <a:ext cx="3124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reads and discards event information for incorrec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657240" y="8380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259092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the nex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666880" y="2743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1" dur="1" fill="hold"/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2" dur="1" fill="hold"/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9960" y="1852560"/>
            <a:ext cx="57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initial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52880" y="25146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0320" y="1776240"/>
            <a:ext cx="69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cket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event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311640"/>
            <a:ext cx="2514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information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46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1040" y="1776240"/>
            <a:ext cx="66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enables user to store even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ring that identifies a file by a series of directories separa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” in UNIX-ba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i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the parent directory of the curren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6720" y="1523880"/>
            <a:ext cx="63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displayed after the file is opened successfu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8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cke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2960" y="1943280"/>
            <a:ext cx="477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8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even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endar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8:46:22Z</dcterms:created>
  <dc:creator>Eric Winokur</dc:creator>
  <dc:description/>
  <dc:language>en-US</dc:language>
  <cp:lastModifiedBy>Pearson Education</cp:lastModifiedBy>
  <dcterms:modified xsi:type="dcterms:W3CDTF">2004-10-11T14:12:56Z</dcterms:modified>
  <cp:revision>204</cp:revision>
  <dc:subject/>
  <dc:title>Tutorial 18 – Ticket Information Application: Introducing Sequential Access Files</dc:title>
</cp:coreProperties>
</file>