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F6D6-F8CF-47EB-9DDD-2BA868588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4456-5F11-418E-B6D9-CBDE9089B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5762-A841-48C1-9D97-FDB5739D0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6E70-9132-4081-953F-FBE7A7B76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EF51E-4C0B-490C-8D51-947B871207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72D1-FD13-424C-A50D-7CE1FFA4AE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9BD6-B98C-4F82-80E1-1CB2BB32F3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C776-44A4-4C09-BB14-76A0CB8509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73F0-9BE5-4742-8F52-31E56131F7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3E310-BF8E-4C93-9F55-66E229673A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C002-FCD5-4955-B3D3-525788A0D7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9821-90C6-4EAD-824F-E74903704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9878-14D6-4E67-8A38-6A00BCAE26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435D-B5BA-4533-98F8-3BA92A8543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92FB-19F3-439E-B7AA-D5ADF9B3E7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40B9-05FA-4C5F-AEED-1DDFBBE5C6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6393-EA1A-4604-BB55-7B7DCCA48C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53A1-C86B-4673-B7EA-D8225E51D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A55A-E5DC-45B6-B47F-8C443E1E5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6164-DB3B-44AB-B237-D980D832C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5F2A-7400-4DD1-A6B9-BF2351148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B538-CCCD-4AA1-A3C8-BDFEBDC45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C940-7185-4E52-8C20-0708B0772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5F57-ED7C-4D99-A2FB-591013F95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BA79-8889-49B8-8AE7-314AB549B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3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A67E-BAF9-4FBE-BCA8-D7974EA0A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orial 2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lica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troduction to C++ Programming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lcom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mpiling and Running the Templat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lcom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roduction to C++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nstruct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lcom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mpilation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2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66960" y="1673280"/>
            <a:ext cx="5408640" cy="4348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70840" y="1142640"/>
            <a:ext cx="36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Lo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3809880"/>
            <a:ext cx="12952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mplyCp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504960" y="4114800"/>
            <a:ext cx="3886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5410080"/>
            <a:ext cx="12952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7640" y="5562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5" dur="1" fill="hold"/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6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805040" y="1428840"/>
            <a:ext cx="5533920" cy="4835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7000" y="1066680"/>
            <a:ext cx="45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32 Application Wiz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20040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lication Setting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752480" y="33526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7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05040" y="1428840"/>
            <a:ext cx="5533920" cy="4835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96080" y="1066680"/>
            <a:ext cx="70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Settin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32 Application Wiz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057400"/>
            <a:ext cx="16002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ole applic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button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2590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130320" y="4038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3886200"/>
            <a:ext cx="106704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ty proj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ox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19320" y="4267080"/>
            <a:ext cx="2361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7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8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el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l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1663920" cy="1847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69040" y="121932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ution Explor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in Visual Studio .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82880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286000"/>
            <a:ext cx="1752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2819520"/>
            <a:ext cx="2209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urce Fi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9810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24382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352680" y="28954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5" dur="1" fill="hold"/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6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66960" y="1673280"/>
            <a:ext cx="5408640" cy="4348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98120" y="1219320"/>
            <a:ext cx="49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Existing Item - 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98108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.cp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228600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7" dur="1" fill="hold"/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8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40040" y="2133720"/>
            <a:ext cx="1663920" cy="1847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74080" y="1461960"/>
            <a:ext cx="65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ution Explor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after add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.c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297180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.cp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327672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9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0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several files in the dire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ncb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information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telliSe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sln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information about the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vcproj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information regarding the pro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suo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00400" y="2448000"/>
            <a:ext cx="4543200" cy="279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94520" y="1547640"/>
            <a:ext cx="328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rec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5445000"/>
            <a:ext cx="22096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p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286000" y="47239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419720"/>
            <a:ext cx="19051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sl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133720" y="4495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2743200"/>
            <a:ext cx="2210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vcpro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2895480"/>
            <a:ext cx="5331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7" dur="1" fill="hold"/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8" dur="1" fill="hold"/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657600" y="1290600"/>
            <a:ext cx="4809960" cy="2409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machine code created by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executable file created after 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various files that store debugg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8920" y="958680"/>
            <a:ext cx="483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rectory after compi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3006720"/>
            <a:ext cx="2895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ly creat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bu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315900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9" dur="1" fill="hold"/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0" dur="1" fill="hold"/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 &gt; Build 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ex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ecutabl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ex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le is used to run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C++ co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a C++ statement that displays a message on the scre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 a C++ appl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 an appl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scape sequen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nd correct syntax err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4552920" cy="3164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95240" y="1219320"/>
            <a:ext cx="57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ing the contents 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rec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809880"/>
            <a:ext cx="22860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l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x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962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1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2" dur="1" fill="hold"/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66880" y="2200320"/>
            <a:ext cx="5610240" cy="5904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bug &gt; Start Without Debu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does not produc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3080" y="1415880"/>
            <a:ext cx="54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templat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Introduction to C++ Cod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12720" y="1219320"/>
            <a:ext cx="6116760" cy="25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appears similar but every text editor and IDE is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8280" y="838080"/>
            <a:ext cx="72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’s C++ source code in Visual Studio .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Introduction to C++ Code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075040" y="1909800"/>
            <a:ext cx="6230880" cy="11714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two forward slashes 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read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-line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-of-line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ignores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14300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ing comments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’s C++ source code in Visual Studio .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09232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-line 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224460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3" dur="1" fill="hold"/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4" dur="1" fill="hold"/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Introduction to C++ Code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22520" y="1995480"/>
            <a:ext cx="6240600" cy="10000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s lines beginning with a pound sign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d before the source code is comp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cessary for input /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getting to includ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 program that uses input or output is 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45360" y="1187280"/>
            <a:ext cx="35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rocessor direc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438280"/>
            <a:ext cx="20574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or dir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286000" y="25146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5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76" dur="1" fill="hold"/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Introduction to C++ Code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370240" y="1919160"/>
            <a:ext cx="6240240" cy="11527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std (standard)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es C++ Standard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9400" y="1157400"/>
            <a:ext cx="29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rec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666880"/>
            <a:ext cx="16002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828800" y="2666880"/>
            <a:ext cx="1219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7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8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Introduction to C++ Code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09680" y="1590840"/>
            <a:ext cx="6240600" cy="1809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y point of every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n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indicates successful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8680" y="1004760"/>
            <a:ext cx="368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unction defin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1828800"/>
            <a:ext cx="15242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205740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2819520"/>
            <a:ext cx="18288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ing the function 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981080" y="259056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7" dur="1" fill="hold"/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8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Introduction to C++ Code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return typ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 with left br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dy of th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d with right br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s case 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incorrect capitalization for identifiers and keywords is an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applications input / outpu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ain C++ input come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tandard input stream 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tied to keyboard but can be tied to othe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outpu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tandard output stream 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tied to monitor but can be tied to othe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351160" y="1371600"/>
            <a:ext cx="6107040" cy="1819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able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generates code to perform a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 insertion opera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a stream of characters to the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colon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ment term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getting the semicolon at the end of a statement is 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9640" y="990720"/>
            <a:ext cx="68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2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ng a C++ statement that displays text when execu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092320"/>
            <a:ext cx="1981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ing a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2244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9" dur="1" fill="hold"/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0" dur="1" fill="hold"/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1720" y="2057400"/>
            <a:ext cx="7539120" cy="149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1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characters in C++ that perform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and u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subtrac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multiplica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re examples of C++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 that require only one operand such as the preincre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 such as multiplicati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r divisi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hat require two operands to perform their 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quence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66880" y="2200320"/>
            <a:ext cx="5610240" cy="590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16760" y="1461960"/>
            <a:ext cx="58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displa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lit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does not ignore whitespace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litting a statement in the middle of a string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cape character is backslas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escape sequences to be read by compiler inside string lite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687240" y="1371600"/>
          <a:ext cx="7745400" cy="51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371600"/>
                    <a:ext cx="77454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687240" y="1371600"/>
          <a:ext cx="7643880" cy="50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371600"/>
                    <a:ext cx="76438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17600" y="1752480"/>
            <a:ext cx="6240600" cy="1486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 insertion operators resume printing where previous statement has 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breaking up lengthy statements, choose logical break points such as escape sequenc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7480" y="1219320"/>
            <a:ext cx="71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2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using multiple stream insertion opera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2362320"/>
            <a:ext cx="1752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tream insertion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057400" y="24379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057400" y="259056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3" dur="1" fill="hold"/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4" dur="1" fill="hold"/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5" dur="1" fill="hold"/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981080" y="2200320"/>
            <a:ext cx="5610240" cy="590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869400" y="1371600"/>
            <a:ext cx="41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890800" y="2590920"/>
            <a:ext cx="5796000" cy="1527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67960" y="1852560"/>
            <a:ext cx="31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ng newli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nstruct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2971800"/>
            <a:ext cx="167616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ng a newline to displaye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276720"/>
            <a:ext cx="24386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6" dur="1" fill="hold"/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7" dur="1" fill="hold"/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6560" y="457200"/>
            <a:ext cx="21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come.cpp (1 of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0" y="0"/>
          <a:ext cx="6856560" cy="35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65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308400" y="3809880"/>
            <a:ext cx="5302080" cy="108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04920" y="4191120"/>
            <a:ext cx="2666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 using a newline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00800" y="990720"/>
            <a:ext cx="2514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line comments describe the applications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2666880" y="304560"/>
            <a:ext cx="3733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1828800"/>
            <a:ext cx="2362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iostream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d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1447560" y="685800"/>
            <a:ext cx="51051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2666880"/>
            <a:ext cx="25909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ive provides access to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838080" y="1143000"/>
            <a:ext cx="46483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457200"/>
            <a:ext cx="23619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14400" y="609480"/>
            <a:ext cx="1447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1066680"/>
            <a:ext cx="22860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a welcome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752480" y="129528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358128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 the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990720" y="2819520"/>
            <a:ext cx="7617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6" dur="1" fill="hold"/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7" dur="1" fill="hold"/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of locating and removing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ation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detects errors in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ntax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applications to produce erroneous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fixed using a debug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9800" y="2724120"/>
            <a:ext cx="5297400" cy="1084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720" y="2209680"/>
            <a:ext cx="55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ng the comple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1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514680" y="2743200"/>
            <a:ext cx="5019840" cy="13064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95600" y="1981080"/>
            <a:ext cx="48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listing a syntax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124080"/>
            <a:ext cx="2895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ing semicolon at the end of the statement preceding line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3429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8" dur="1" fill="hold"/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9" dur="1" fill="hold"/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473280" y="2743200"/>
            <a:ext cx="4984920" cy="11397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8560" y="1600200"/>
            <a:ext cx="50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3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listing a syntax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2438280"/>
            <a:ext cx="28191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rror within th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2590920"/>
            <a:ext cx="4876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327672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342900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343400"/>
            <a:ext cx="28954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file containin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429000" y="3581280"/>
            <a:ext cx="3429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6" dur="1" fill="hold"/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47" dur="1" fill="hold"/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286000" y="1743120"/>
            <a:ext cx="6221520" cy="15048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syntax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‘n’ in the last escape sequence in lin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italize ‘r’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6120" y="1066680"/>
            <a:ext cx="61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ing two syntax errors into your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2057400"/>
            <a:ext cx="167616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yntax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22096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9810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43680" y="1143000"/>
            <a:ext cx="60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3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 error messages generated by the compi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828800"/>
            <a:ext cx="2895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372280" cy="1486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04920" y="1905120"/>
            <a:ext cx="25146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errors displayed in task list title 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19520" y="21333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3276720"/>
            <a:ext cx="25146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the errors including file name and lin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819520" y="297144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6" dur="1" fill="hold"/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7" dur="1" fill="hold"/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506680" y="1676520"/>
            <a:ext cx="5875200" cy="11728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17480" y="1066680"/>
            <a:ext cx="70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3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 error causes remainder of line to be displayed in cy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198108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error creates unterminated string (displayed in cya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981080" y="2285640"/>
            <a:ext cx="198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8" dur="1" fill="hold"/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9" dur="1" fill="hold"/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ing the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 back to your code and fix the syntax errors indicated in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and Prom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Compilation Errors (Cont.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22400" y="3105000"/>
            <a:ext cx="5299200" cy="1482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66520" y="2209680"/>
            <a:ext cx="61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the comple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1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 applications can contain many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624852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521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s can contain one or more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33680" y="1952640"/>
            <a:ext cx="5875200" cy="264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84480" y="1793880"/>
            <a:ext cx="4776840" cy="410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10350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828800"/>
            <a:ext cx="1676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44792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 Bar (display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w Pro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438280"/>
            <a:ext cx="18288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sual C++ Projec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ory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981080" y="2666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733920"/>
            <a:ext cx="182880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ypes: p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81080" y="373356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4572000"/>
            <a:ext cx="18288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the new project (your location may be differ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81080" y="4952880"/>
            <a:ext cx="1295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1905120"/>
            <a:ext cx="175248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SP .NET Web Appli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l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05520" y="22860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3124080"/>
            <a:ext cx="160020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mplates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943600" y="3352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3886200"/>
            <a:ext cx="167652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project select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mplate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105520" y="434340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5257800"/>
            <a:ext cx="14479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project and solution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114440" y="4647960"/>
            <a:ext cx="3352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18288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84480" y="1793880"/>
            <a:ext cx="4776840" cy="410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1219320"/>
            <a:ext cx="67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og with updated project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2.2 Compiling and Running the Templ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 Applic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800600"/>
            <a:ext cx="15242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pro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676520" y="4952880"/>
            <a:ext cx="1600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3962520"/>
            <a:ext cx="1752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project and solution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4267080"/>
            <a:ext cx="3200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5334120"/>
            <a:ext cx="121896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400440" y="4952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5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6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6:56:53Z</dcterms:created>
  <dc:creator>Eric Winokur</dc:creator>
  <dc:description/>
  <dc:language>en-US</dc:language>
  <cp:lastModifiedBy>Pearson Education</cp:lastModifiedBy>
  <dcterms:modified xsi:type="dcterms:W3CDTF">2004-10-11T14:10:22Z</dcterms:modified>
  <cp:revision>223</cp:revision>
  <dc:subject/>
  <dc:title>Tutorial 2 - Welcome Application:  Introduction to C++ Programming</dc:title>
</cp:coreProperties>
</file>