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F4C-47AC-42C7-821E-C83F8F3E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6C1-6148-4D87-B675-36A2FAC8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8DD6-B477-4F8B-B8F2-A9FFA49E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E21-1462-47C8-94B0-1FE28B2A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AEA-8F3B-4395-958A-3A2F624C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F77-CE3D-4239-B3F3-501561CA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FE5-B04A-447F-AB72-E2651841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9C2-0E46-4DC2-BEFF-D655E6B3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584-A645-49DB-87E6-6137ED6C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6B6-5CAD-461A-9B45-02E4B29F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00B-FA28-4D98-8E02-BD2A4285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3B0-1ADC-47E4-92E0-BE3450B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3E32-9FE1-48AD-BF76-0094E4F04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20 – Enhance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 Payment Calcul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Exception Handling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Enhance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roduction to Exception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hrowing Exceptions in 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Handling Exceptions in 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++ Stream Error States and Ex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0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238760" y="4054320"/>
            <a:ext cx="72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0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ByZeroExce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ception class defi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981080" y="5715000"/>
            <a:ext cx="4067280" cy="419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44514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ing user defined objects, the application must include the class definition and the function should include a statement such as the one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Handling Exceptions in C++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 and one or m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east on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must immediately follow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Handling Exceptions in C++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86000" y="2052720"/>
          <a:ext cx="6858000" cy="40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052720"/>
                    <a:ext cx="685800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65920" y="1257480"/>
            <a:ext cx="37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examp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Handling Exceptions in C++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control and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exception caugh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terminates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searches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with matching exception-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returns the string description o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executes, program control goes to first executable statement after the la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 exceptions occ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terminates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s are ski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Handling Exceptions in C++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hrowing an 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tch block not able to process exception or can only partially process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hiev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mmand and no operand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exception is passed up to the next enclo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, if a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3495600"/>
            <a:ext cx="401004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++ Stream Error States and Excep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es of bits whose values indicate which stream I/O errors, if any, occur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when format errors occur (integer expected and character or symbol det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returns true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1760" y="3867120"/>
            <a:ext cx="8879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++ Stream Error States and Excep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ing the error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’s member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ts error bits to “good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7080" y="3286080"/>
            <a:ext cx="8888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++ Stream Error States and Excep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ing an exception to be thr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stream objects do not throw exceptions by defa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ses a stream object to throw an exception when the specified stream error bit is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3753000"/>
            <a:ext cx="469584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Try to prompt the user for and store the ca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Catch a stream input error</a:t>
            </a:r>
            <a:br>
              <a:rPr sz="2400"/>
            </a:b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Reset the input stream state</a:t>
            </a:r>
            <a:br>
              <a:rPr sz="2400"/>
            </a:b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Remove all characters from the input buffer</a:t>
            </a:r>
            <a:br>
              <a:rPr sz="2400"/>
            </a:b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Display an error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While a stream input error has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Prompt the user for and store the down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Prompt the user for and store the annual interes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ff"/>
                </a:solidFill>
                <a:latin typeface="Times New Roman"/>
              </a:rPr>
              <a:t>Calculate and display monthly payments for 2, 3, 4 and 5 y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4000" y="1295280"/>
            <a:ext cx="73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enhanc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6173640" cy="307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65200" y="1415880"/>
            <a:ext cx="37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taining the user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067200"/>
            <a:ext cx="21337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nd inputting tw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362320" y="312372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3526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828960"/>
            <a:ext cx="22096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nd input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133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xception handling to make your programs more robus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stand what exceptions a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s to monitor code that may cause excep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s to handle excep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 to rethrow an exception from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03400" y="2125800"/>
            <a:ext cx="6164280" cy="1133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_base::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2240" y="1506600"/>
            <a:ext cx="51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2362320"/>
            <a:ext cx="2743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2666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2066760"/>
            <a:ext cx="6230880" cy="3591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9360" y="1461960"/>
            <a:ext cx="89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op repeats until the user enters a valid value at the first input prom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209680"/>
            <a:ext cx="19814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determines whether an error occurred during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327672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n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419720"/>
            <a:ext cx="21337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ing the loop if an input error occu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2" dur="1" fill="hold"/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3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46200" y="2314440"/>
            <a:ext cx="6164280" cy="309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16160" y="1582560"/>
            <a:ext cx="81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containing code that might throw an excep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3006720"/>
            <a:ext cx="2133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n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15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429000"/>
            <a:ext cx="17528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throw exceptions when errors occ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905120" y="365724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343400"/>
            <a:ext cx="1676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ing that no errors occu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5029200"/>
            <a:ext cx="19051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133720" y="49525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" dur="1" fill="hold"/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9" dur="1" fill="hold"/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74800" y="3133800"/>
            <a:ext cx="6164280" cy="1457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0080" y="1995480"/>
            <a:ext cx="367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505320"/>
            <a:ext cx="21333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0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1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32240" y="2133720"/>
            <a:ext cx="6230880" cy="1990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0440" y="1447920"/>
            <a:ext cx="42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an error mes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819520"/>
            <a:ext cx="2133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earing the error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2971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276720"/>
            <a:ext cx="19810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ing character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209680" y="3504960"/>
            <a:ext cx="1676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684520" y="3033720"/>
            <a:ext cx="6230880" cy="165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94280" y="1852560"/>
            <a:ext cx="699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ing the stream error state and removing the user inp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the input buff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3429000"/>
            <a:ext cx="1676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ing that an error occu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3733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4191120"/>
            <a:ext cx="1371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n error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523880" y="4191120"/>
            <a:ext cx="2514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0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1" dur="1" fill="hold"/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9120" y="1766880"/>
            <a:ext cx="851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message displayed when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os_base::fail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ception occ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781680" y="533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 (1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1371600"/>
            <a:ext cx="36576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57164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495288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Occur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rue if an input error occu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86692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791320"/>
            <a:ext cx="3886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res invalid input from the input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362320" y="59752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8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9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781680" y="533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 (2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15800"/>
            <a:ext cx="35053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s until a valid car price is ent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838080" y="56844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1143000"/>
            <a:ext cx="1752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219320" y="1295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1752480"/>
            <a:ext cx="2590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throw exceptions when errors occ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191120" y="2038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2666880"/>
            <a:ext cx="3352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the user for and input car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962520" y="28605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311640"/>
            <a:ext cx="2743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 that no error occu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63868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3809880"/>
            <a:ext cx="14475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90476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0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1" dur="1" fill="hold"/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0"/>
          <a:ext cx="685656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629400" y="2743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 (3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7632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lock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os_base::fail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114800" y="2282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129528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ear the error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3809520" y="609120"/>
            <a:ext cx="2590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68580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e all characters from the input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733920" y="990720"/>
            <a:ext cx="2666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676520"/>
            <a:ext cx="26672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 that an error occu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971440" y="1752480"/>
            <a:ext cx="3352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2092320"/>
            <a:ext cx="22860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an error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866920" y="2286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3311640"/>
            <a:ext cx="35053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if an error occurred during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876560" y="3463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2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3" dur="1" fill="hold"/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8320" y="2395440"/>
            <a:ext cx="79455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781680" y="533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 (4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781680" y="533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 (5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781680" y="533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Payment.cpp (6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9240" y="2004840"/>
            <a:ext cx="79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Enhanc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8560" y="1943280"/>
            <a:ext cx="831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 non-numeric character at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er the car pri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m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Enhance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5920" y="2004840"/>
            <a:ext cx="69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monthly car payments after input is corr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Exception Handling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er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 preceding task did not execute cor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erform err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erform next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 preceding task did not execute correct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erform err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5aff"/>
                </a:solidFill>
                <a:latin typeface="Times New Roman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2200" y="1263600"/>
            <a:ext cx="699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0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performing tasks without exception handl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Exception Handling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wing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ption hand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when application detects an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xception handler present, application catches exception and executes exception 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caught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ception that does not have an exception 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ses the application to ter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2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hrowing exceptions in C++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ly specify one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 operand can be of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nd can also be an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exception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Standard Libra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xception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2514600" cy="31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47920" y="4019400"/>
            <a:ext cx="660240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20:09:42Z</dcterms:created>
  <dc:creator>Eric Winokur</dc:creator>
  <dc:description/>
  <dc:language>en-US</dc:language>
  <cp:lastModifiedBy>Pearson Education</cp:lastModifiedBy>
  <dcterms:modified xsi:type="dcterms:W3CDTF">2004-10-11T14:12:35Z</dcterms:modified>
  <cp:revision>131</cp:revision>
  <dc:subject/>
  <dc:title>Tutorial 20 – Enhanced Car Payment Calculator Application: Introducing Exception Handling</dc:title>
</cp:coreProperties>
</file>