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wmf" ContentType="image/x-wmf"/>
  <Override PartName="/ppt/media/image2.png" ContentType="image/png"/>
  <Override PartName="/ppt/media/image25.png" ContentType="image/png"/>
  <Override PartName="/ppt/media/image26.png" ContentType="image/png"/>
  <Override PartName="/ppt/media/image14.png" ContentType="image/png"/>
  <Override PartName="/ppt/media/image23.png" ContentType="image/png"/>
  <Override PartName="/ppt/media/image22.wmf" ContentType="image/x-wmf"/>
  <Override PartName="/ppt/media/image20.wmf" ContentType="image/x-wmf"/>
  <Override PartName="/ppt/media/image21.wmf" ContentType="image/x-wmf"/>
  <Override PartName="/ppt/media/image19.wmf" ContentType="image/x-wmf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4.png" ContentType="image/png"/>
  <Override PartName="/ppt/media/image1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7DBF-3B9E-4F39-96DD-C1C011272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C0E8-F8BC-4EB2-BF7F-08D7FA790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5A48-6A9F-44F4-916C-40FFC19F5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20DD-90B7-4EFB-A9A9-0E88F000E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7D58-7835-4977-8F38-865180D5F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7A09-032C-45DB-96EB-9CDD03ED1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3E2F-429C-4ECD-85F9-3D6465002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0C91-2CA4-42EB-90BE-A9EC264E9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8037-F772-4155-8818-219FDE140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CF17-20AD-4E0C-947C-92DC8292C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BFAF-2DDC-4FDB-81BA-8705BF833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DCFB-87A7-48A4-9D86-C051647C7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lick to edit the title text format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6AE5C-FF8B-411A-95DD-F61B0A5A09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90960" y="6248520"/>
            <a:ext cx="644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1992–2005 by Deitel &amp; Associates, Inc. and Pearson Education Inc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0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0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0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0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0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utorial 10 – Enhancing the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age Calculato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Application: Introducing Functions</a:t>
            </a:r>
            <a:endParaRPr b="0" lang="en-US" sz="36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vantGarde"/>
              </a:rPr>
              <a:t>Out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0.1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Test-Driving the Enhanced 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Wage Calculator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 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0.2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C++ Standard Library Functions and Cla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0.3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Function Defini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0.4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Completing the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Maximum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 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0.5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Using Functions in the 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Wage Calculator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 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0.6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Using the Debugger: Controlling Execution Using the 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Step Into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,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Step Over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, 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Step Out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 and 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Continue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 Comma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0.7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Wrap-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766880" y="3395520"/>
            <a:ext cx="5610240" cy="9334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89960" y="1623960"/>
            <a:ext cx="558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0.6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ypotenuse Calculato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pplication updat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0.3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Function Definition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ling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 function is invoked (or called) by a function cal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function call specifies the function name and includes data (arguments) for the callee (function being call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 name: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guments: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ba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expon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0.3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Function Definition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66680" y="3733920"/>
            <a:ext cx="4172040" cy="3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0.3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Function Definition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514600" y="1625760"/>
            <a:ext cx="6249960" cy="21333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413280" y="1125360"/>
            <a:ext cx="421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0.7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oking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quar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unc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2286000"/>
            <a:ext cx="198108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ling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quar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function for each si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09680" y="2590920"/>
            <a:ext cx="1447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63" dur="1" fill="hold"/>
                                  <p:tgtEl>
                                    <p:spTgt spid="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64" dur="1" fill="hold"/>
                                  <p:tgtEl>
                                    <p:spTgt spid="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436840" y="1905120"/>
            <a:ext cx="6249960" cy="37623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412560" y="1278000"/>
            <a:ext cx="424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0.8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leting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unc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0.3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Function Definition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276720"/>
            <a:ext cx="152388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ling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math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function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q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52480" y="35812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52280" y="4191120"/>
            <a:ext cx="1905120" cy="8240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tting and displaying the length of the hypoten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057400" y="4114800"/>
            <a:ext cx="14479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057400" y="457200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85" dur="1" fill="hold"/>
                                  <p:tgtEl>
                                    <p:spTgt spid="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86" dur="1" fill="hold"/>
                                  <p:tgtEl>
                                    <p:spTgt spid="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87" dur="1" fill="hold"/>
                                  <p:tgtEl>
                                    <p:spTgt spid="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0.3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Function Definition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66880" y="2054160"/>
            <a:ext cx="5610240" cy="127656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functions are easier to test, debug and understand than large 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17600" y="1623960"/>
            <a:ext cx="725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0.9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utput from the completed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ypotenuse Calculato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pplic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608200" y="1676520"/>
            <a:ext cx="6154920" cy="43718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414720" y="1201680"/>
            <a:ext cx="554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0.1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oking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termineMaximu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unc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0.4 Completing the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maximum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function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103" name=""/>
          <p:cNvSpPr/>
          <p:nvPr/>
        </p:nvSpPr>
        <p:spPr>
          <a:xfrm>
            <a:off x="228600" y="3124080"/>
            <a:ext cx="198108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putting three val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209680" y="3276720"/>
            <a:ext cx="1295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209680" y="3276720"/>
            <a:ext cx="12956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209680" y="3276720"/>
            <a:ext cx="13716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52280" y="4800600"/>
            <a:ext cx="221004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ling the function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termineMaximu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362320" y="51055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12" dur="1" fill="hold"/>
                                  <p:tgtEl>
                                    <p:spTgt spid="1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13" dur="1" fill="hold"/>
                                  <p:tgtEl>
                                    <p:spTgt spid="1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0.4 Completing the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maximum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func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590920" y="1797120"/>
            <a:ext cx="6154560" cy="179064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termineMaximu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turns the largest of three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90680" y="1233360"/>
            <a:ext cx="553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0.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ing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termineMaximu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unc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52280" y="2133720"/>
            <a:ext cx="2210040" cy="8240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empty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termineMaximu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fun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362320" y="2590920"/>
            <a:ext cx="8380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24" dur="1" fill="hold"/>
                                  <p:tgtEl>
                                    <p:spTgt spid="1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25" dur="1" fill="hold"/>
                                  <p:tgtEl>
                                    <p:spTgt spid="1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0.4 Completing the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maximum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func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608200" y="1797120"/>
            <a:ext cx="6154920" cy="1790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voking pre-existing functi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luded in th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algorithm&g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library header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0240" y="1233360"/>
            <a:ext cx="551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0.12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ax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eturns the larger of its two argumen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28600" y="1905120"/>
            <a:ext cx="2209680" cy="8240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ling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ax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twice to determine the maximum of three val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438280" y="2362320"/>
            <a:ext cx="10670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2280" y="2971800"/>
            <a:ext cx="221004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turning the maximum of all three val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2362320" y="2971440"/>
            <a:ext cx="12189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44" dur="1" fill="hold"/>
                                  <p:tgtEl>
                                    <p:spTgt spid="1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45" dur="1" fill="hold"/>
                                  <p:tgtEl>
                                    <p:spTgt spid="1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0.4 Completing the </a:t>
            </a:r>
            <a:r>
              <a:rPr b="0" lang="en-US" sz="2800" spc="-1" strike="noStrike">
                <a:solidFill>
                  <a:srgbClr val="ff0000"/>
                </a:solidFill>
                <a:latin typeface="Courier New"/>
              </a:rPr>
              <a:t>maximum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func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766880" y="3224160"/>
            <a:ext cx="5610240" cy="12765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489600" y="1623960"/>
            <a:ext cx="425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0.13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ximu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pplication outpu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66880" y="1600200"/>
            <a:ext cx="6181920" cy="45259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57200" y="1219320"/>
            <a:ext cx="53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0.1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alls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culatePa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unc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0.5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Using Functions in the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Wage Calculator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2743200"/>
            <a:ext cx="228600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putting wage and hours work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514600" y="3048120"/>
            <a:ext cx="9907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514600" y="304812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320" y="4057560"/>
            <a:ext cx="243828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ling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culatePa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fun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514600" y="4362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2280" y="5257800"/>
            <a:ext cx="228600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tting and displaying the total w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2438280" y="5410080"/>
            <a:ext cx="106704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2438280" y="4876560"/>
            <a:ext cx="1143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77" dur="1" fill="hold"/>
                                  <p:tgtEl>
                                    <p:spTgt spid="1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78" dur="1" fill="hold"/>
                                  <p:tgtEl>
                                    <p:spTgt spid="1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79" dur="1" fill="hold"/>
                                  <p:tgtEl>
                                    <p:spTgt spid="1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Objectives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this tutorial, you will learn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struct applications modularly from pieces called functions—simplifying your application’s design, implementation and maintenanc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ave time by working with “built-in”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reate your own functions to perform custom task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trol execution using debugger commands to locate logic error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332160" y="1600200"/>
            <a:ext cx="5430960" cy="45259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413640" y="1201680"/>
            <a:ext cx="50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0.15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ing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culatePa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unc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0.5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Using Functions in the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Wage Calculator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" y="2168640"/>
            <a:ext cx="152388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ction hea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752480" y="232092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" y="3753000"/>
            <a:ext cx="281952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ulating gross wages based on the number of hours work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048120" y="40575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28600" y="5140440"/>
            <a:ext cx="274320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turn the wages for the we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971800" y="52927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06" dur="1" fill="hold"/>
                                  <p:tgtEl>
                                    <p:spTgt spid="1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7" dur="1" fill="hold"/>
                                  <p:tgtEl>
                                    <p:spTgt spid="1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0.5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Using Functions in the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Wage Calculator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766880" y="3224160"/>
            <a:ext cx="5610240" cy="12765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565560" y="1776240"/>
            <a:ext cx="49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0.16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age Calculato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pplication outpu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9" name=""/>
          <p:cNvGraphicFramePr/>
          <p:nvPr/>
        </p:nvGraphicFramePr>
        <p:xfrm>
          <a:off x="0" y="0"/>
          <a:ext cx="6856560" cy="4506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450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"/>
          <p:cNvSpPr/>
          <p:nvPr/>
        </p:nvSpPr>
        <p:spPr>
          <a:xfrm>
            <a:off x="6858000" y="3808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ageCalculator.cpp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334120" y="2228760"/>
            <a:ext cx="365760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culatePa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function takes two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parameters, returns a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ou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571640" y="25146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4120" y="3200400"/>
            <a:ext cx="289548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otal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ariable will contain users wages for the we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 flipV="1">
            <a:off x="3809880" y="3048120"/>
            <a:ext cx="15242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715000" y="4191120"/>
            <a:ext cx="213372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novertime hour lim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 flipV="1">
            <a:off x="4190760" y="4114440"/>
            <a:ext cx="15238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34" dur="1" fill="hold"/>
                                  <p:tgtEl>
                                    <p:spTgt spid="1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35" dur="1" fill="hold"/>
                                  <p:tgtEl>
                                    <p:spTgt spid="1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"/>
          <p:cNvGraphicFramePr/>
          <p:nvPr/>
        </p:nvGraphicFramePr>
        <p:xfrm>
          <a:off x="0" y="0"/>
          <a:ext cx="6856560" cy="4003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400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"/>
          <p:cNvSpPr/>
          <p:nvPr/>
        </p:nvSpPr>
        <p:spPr>
          <a:xfrm>
            <a:off x="6858000" y="30492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ageCalculator.cpp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562720" y="1295280"/>
            <a:ext cx="327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1219320"/>
            <a:ext cx="259092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ulate wages based on the number of hours work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 flipV="1">
            <a:off x="3885840" y="1143000"/>
            <a:ext cx="19810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886200" y="2895480"/>
            <a:ext cx="327672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turning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otal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to calling fun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1828440" y="30481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581280" y="4114800"/>
            <a:ext cx="297180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osing brace ends function bod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 flipV="1">
            <a:off x="685440" y="3657240"/>
            <a:ext cx="2895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62" dur="1" fill="hold"/>
                                  <p:tgtEl>
                                    <p:spTgt spid="1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63" dur="1" fill="hold"/>
                                  <p:tgtEl>
                                    <p:spTgt spid="1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8" name=""/>
          <p:cNvGraphicFramePr/>
          <p:nvPr/>
        </p:nvGraphicFramePr>
        <p:xfrm>
          <a:off x="0" y="0"/>
          <a:ext cx="8229600" cy="3510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229600" cy="351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"/>
          <p:cNvSpPr/>
          <p:nvPr/>
        </p:nvSpPr>
        <p:spPr>
          <a:xfrm>
            <a:off x="6858000" y="30492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ageCalculator.cpp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257800" y="1523880"/>
            <a:ext cx="205740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mpt for user inpu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3429000" y="16765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4190760" y="167652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76" dur="1" fill="hold"/>
                                  <p:tgtEl>
                                    <p:spTgt spid="1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77" dur="1" fill="hold"/>
                                  <p:tgtEl>
                                    <p:spTgt spid="1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78" dur="1" fill="hold"/>
                                  <p:tgtEl>
                                    <p:spTgt spid="1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4" name=""/>
          <p:cNvGraphicFramePr/>
          <p:nvPr/>
        </p:nvGraphicFramePr>
        <p:xfrm>
          <a:off x="0" y="0"/>
          <a:ext cx="6856560" cy="3427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342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"/>
          <p:cNvSpPr/>
          <p:nvPr/>
        </p:nvSpPr>
        <p:spPr>
          <a:xfrm>
            <a:off x="6934320" y="304920"/>
            <a:ext cx="2209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ageCalculator.cpp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4 of 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>
            <a:off x="1752480" y="3276720"/>
            <a:ext cx="5610240" cy="127620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3809880" y="790560"/>
            <a:ext cx="312444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l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culatePa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fun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2590920" y="457200"/>
            <a:ext cx="121896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019920" y="1752480"/>
            <a:ext cx="2438280" cy="8240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t and display value returned from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culatePa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fun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4952880" y="1828800"/>
            <a:ext cx="10670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97" dur="1" fill="hold"/>
                                  <p:tgtEl>
                                    <p:spTgt spid="1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98" dur="1" fill="hold"/>
                                  <p:tgtEl>
                                    <p:spTgt spid="1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0.6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Using the Debugger: Controlling Execution Using the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Step Into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,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Step Over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,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Step Out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nd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Continue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Commands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vantGarde"/>
              </a:rPr>
              <a:t>Step</a:t>
            </a:r>
            <a:r>
              <a:rPr b="0" lang="en-US" sz="2800" spc="-1" strike="noStrike">
                <a:solidFill>
                  <a:srgbClr val="000000"/>
                </a:solidFill>
                <a:latin typeface="AvantGarde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vantGarde"/>
              </a:rPr>
              <a:t>Int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mm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ecutes the next statement in the progra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the next statement is a function call, program control goes to that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vantGarde"/>
              </a:rPr>
              <a:t>Step</a:t>
            </a:r>
            <a:r>
              <a:rPr b="0" lang="en-US" sz="2800" spc="-1" strike="noStrike">
                <a:solidFill>
                  <a:srgbClr val="000000"/>
                </a:solidFill>
                <a:latin typeface="AvantGarde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vantGarde"/>
              </a:rPr>
              <a:t>O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mm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cts like the </a:t>
            </a:r>
            <a:r>
              <a:rPr b="1" lang="en-US" sz="2200" spc="-1" strike="noStrike">
                <a:solidFill>
                  <a:srgbClr val="000000"/>
                </a:solidFill>
                <a:latin typeface="AvantGarde"/>
              </a:rPr>
              <a:t>Step Into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comma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next statement is a function call, the function executes in its entirety and control goes to the next executable 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0.6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Using the Debugger: Controlling Execution Using the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Step Into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,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Step Over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,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Step Out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nd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Continue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Command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vantGarde"/>
              </a:rPr>
              <a:t>Step Ou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mm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ecutes remaining statements in a function and returns control to the call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vantGarde"/>
              </a:rPr>
              <a:t>Continu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mm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ecutes until the next breakpoint or the end of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whichever comes first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2532240" y="2743200"/>
            <a:ext cx="6230880" cy="100008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491040" y="1828800"/>
            <a:ext cx="57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0.18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ting a breakpoint in th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age Calculato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0.6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Using the Debugger: Controlling Execution Using the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Step Into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,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Step Over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,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Step Out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nd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Continue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Command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" y="2895480"/>
            <a:ext cx="190512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tting a break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33720" y="30481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09" dur="1" fill="hold"/>
                                  <p:tgtEl>
                                    <p:spTgt spid="1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310" dur="1" fill="hold"/>
                                  <p:tgtEl>
                                    <p:spTgt spid="1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0.6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Using the Debugger: Controlling Execution Using the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Step Into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,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Step Over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,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Step Out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nd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Continue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Command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608200" y="2192400"/>
            <a:ext cx="6230880" cy="100008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the </a:t>
            </a:r>
            <a:r>
              <a:rPr b="1" lang="en-US" sz="2400" spc="-1" strike="noStrike">
                <a:solidFill>
                  <a:srgbClr val="000000"/>
                </a:solidFill>
                <a:latin typeface="AvantGarde"/>
              </a:rPr>
              <a:t>Step In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mand to transfer program control to the called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2560" y="1600200"/>
            <a:ext cx="693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0.19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aching a breakpoint in th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age Calculato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pplic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52280" y="2381400"/>
            <a:ext cx="228600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xt statement to execute is a function c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438280" y="2685960"/>
            <a:ext cx="228600" cy="57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21" dur="1" fill="hold"/>
                                  <p:tgtEl>
                                    <p:spTgt spid="1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322" dur="1" fill="hold"/>
                                  <p:tgtEl>
                                    <p:spTgt spid="1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0.1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Test Driving the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Wage Calculator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182600" y="1600200"/>
            <a:ext cx="67788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0.6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Using the Debugger: Controlling Execution Using the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Step Into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,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Step Over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,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Step Out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nd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Continue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Command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2513160" y="2209680"/>
            <a:ext cx="6249960" cy="213372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490680" y="1614600"/>
            <a:ext cx="548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0.2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ping into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culatePa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unc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52280" y="2362320"/>
            <a:ext cx="2057400" cy="10674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finitions (without assignments) are not considered executable stat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209680" y="2895480"/>
            <a:ext cx="12193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" y="3809880"/>
            <a:ext cx="144792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xt statement to execu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1676520" y="3733920"/>
            <a:ext cx="1523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3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41" dur="1" fill="hold"/>
                                  <p:tgtEl>
                                    <p:spTgt spid="2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342" dur="1" fill="hold"/>
                                  <p:tgtEl>
                                    <p:spTgt spid="2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0.6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Using the Debugger: Controlling Execution Using the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Step Into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,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Step Over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,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Step Out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nd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Continue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Command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2513160" y="2795760"/>
            <a:ext cx="6249960" cy="213336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492840" y="1714680"/>
            <a:ext cx="68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0.2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ping over a statement in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culatePa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unc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80880" y="2971800"/>
            <a:ext cx="1981440" cy="8240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trol is transferred to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…els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stat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362320" y="3352680"/>
            <a:ext cx="8380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53" dur="1" fill="hold"/>
                                  <p:tgtEl>
                                    <p:spTgt spid="2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354" dur="1" fill="hold"/>
                                  <p:tgtEl>
                                    <p:spTgt spid="2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0.6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Using the Debugger: Controlling Execution Using the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Step Into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,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Step Over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,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Step Out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nd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Continue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Command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2455920" y="2286000"/>
            <a:ext cx="6230880" cy="213372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413280" y="1623960"/>
            <a:ext cx="836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0.22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ting a second breakpoint in the enhanced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age Calculato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pplic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52280" y="3048120"/>
            <a:ext cx="144792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tting second break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600200" y="3352680"/>
            <a:ext cx="7621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65" dur="1" fill="hold"/>
                                  <p:tgtEl>
                                    <p:spTgt spid="2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366" dur="1" fill="hold"/>
                                  <p:tgtEl>
                                    <p:spTgt spid="2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0.6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Using the Debugger: Controlling Execution Using the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Step Into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,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Step Over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,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Step Out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nd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Continue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Command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2532240" y="2666880"/>
            <a:ext cx="6230880" cy="116208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490320" y="1776240"/>
            <a:ext cx="547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0.23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ing the debugger’s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tinu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mma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" y="2971800"/>
            <a:ext cx="152388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xt executable stat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1752480" y="3200400"/>
            <a:ext cx="152424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77" dur="1" fill="hold"/>
                                  <p:tgtEl>
                                    <p:spTgt spid="2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378" dur="1" fill="hold"/>
                                  <p:tgtEl>
                                    <p:spTgt spid="2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0.6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Using the Debugger: Controlling Execution Using the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Step Into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,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Step Over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,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Step Out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nd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Continue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Command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2455920" y="2057400"/>
            <a:ext cx="6230880" cy="213372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566280" y="1623960"/>
            <a:ext cx="555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0.24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ing the debugger’s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ep Ov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mma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52280" y="2590920"/>
            <a:ext cx="2133720" cy="13107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culatePa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function is executed without stepping into it when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ep Ov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command is selec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286000" y="2895120"/>
            <a:ext cx="5335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89" dur="1" fill="hold"/>
                                  <p:tgtEl>
                                    <p:spTgt spid="2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390" dur="1" fill="hold"/>
                                  <p:tgtEl>
                                    <p:spTgt spid="2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0.1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Test Driving the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Wage Calculator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766880" y="2995560"/>
            <a:ext cx="5610240" cy="17337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91040" y="1700280"/>
            <a:ext cx="377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0.1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age Calculato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utpu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0.2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++ Standard Library Functions and Classes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++ Standard Library functions and 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e-existing code available for reu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signed for maximum efficienc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ested to eliminate bug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++ Standard Library Function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ow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from th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cmath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library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++ Standard Library Class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u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i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from th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iostream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library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grammer-defined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 be created to meet unique requirements of new applic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682560" y="1371600"/>
          <a:ext cx="7769160" cy="5256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2560" y="1371600"/>
                    <a:ext cx="7769160" cy="525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0.2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++ Standard Library Functions and Classe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625840" y="1600200"/>
            <a:ext cx="6213240" cy="4525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91760" y="1111320"/>
            <a:ext cx="510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0.3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ypotenuse Calculato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emplate cod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0.3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Function Definitions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59" name=""/>
          <p:cNvSpPr/>
          <p:nvPr/>
        </p:nvSpPr>
        <p:spPr>
          <a:xfrm>
            <a:off x="152280" y="2438280"/>
            <a:ext cx="236232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ngths for sides A and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14600" y="2590920"/>
            <a:ext cx="9907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52280" y="4419720"/>
            <a:ext cx="2133720" cy="8240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rror message displays if negative value (or zero) is ente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286000" y="48769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9" dur="1" fill="hold"/>
                                  <p:tgtEl>
                                    <p:spTgt spid="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/>
                                  <p:tgtEl>
                                    <p:spTgt spid="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0.3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Function Definition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878200" y="1600200"/>
            <a:ext cx="5884920" cy="21859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 header includ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nction 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ameter l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12920" y="1157400"/>
            <a:ext cx="420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0.4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ing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quar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unc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52280" y="1981080"/>
            <a:ext cx="152424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ction hea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676520" y="2133720"/>
            <a:ext cx="1828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52280" y="2743200"/>
            <a:ext cx="243864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right brace marks the end of a function defini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590920" y="3048120"/>
            <a:ext cx="9144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9" dur="1" fill="hold"/>
                                  <p:tgtEl>
                                    <p:spTgt spid="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40" dur="1" fill="hold"/>
                                  <p:tgtEl>
                                    <p:spTgt spid="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0.3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Function Definition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665440" y="1797120"/>
            <a:ext cx="6249960" cy="179064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returned is the same type declared in the function hea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promote reusability, each function should perform a single well defined ta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89240" y="1278000"/>
            <a:ext cx="41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0.5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ding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quar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unc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28600" y="2441520"/>
            <a:ext cx="1981080" cy="8240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statement sends a value back to the functions cal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209680" y="28224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1" dur="1" fill="hold"/>
                                  <p:tgtEl>
                                    <p:spTgt spid="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52" dur="1" fill="hold"/>
                                  <p:tgtEl>
                                    <p:spTgt spid="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3T17:39:01Z</dcterms:created>
  <dc:creator>Eric Winokur</dc:creator>
  <dc:description/>
  <dc:language>en-US</dc:language>
  <cp:lastModifiedBy>Pearson Education</cp:lastModifiedBy>
  <dcterms:modified xsi:type="dcterms:W3CDTF">2004-10-11T14:12:05Z</dcterms:modified>
  <cp:revision>124</cp:revision>
  <dc:subject/>
  <dc:title>Tutorial 10 – Enhancing the Wage Calculator Application: Introducing Functions</dc:title>
</cp:coreProperties>
</file>