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7.wmf" ContentType="image/x-wmf"/>
  <Override PartName="/ppt/media/image16.png" ContentType="image/png"/>
  <Override PartName="/ppt/media/image26.wmf" ContentType="image/x-wmf"/>
  <Override PartName="/ppt/media/image15.png" ContentType="image/png"/>
  <Override PartName="/ppt/media/image25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1AC6-C916-4533-B0DE-C044C9A38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34EB-02DE-445A-A96D-BA55E8C1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917E-388E-42F6-A745-DBFF890AA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0ED2-2F52-43F2-9C59-C676382F3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64CD-7ABE-44B3-A746-E6552019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6F8E-D885-46FB-A137-A24E0299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BC7D-4518-4F0C-954C-48D21F01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ED9B-DBCD-4B61-B553-7FDCD005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5708-9FC9-4252-B9F1-36ABF865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A385-3EEB-4257-8A59-1548BA25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6AFC-823A-44F3-A85C-A3EBAA90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8925-1905-4EB4-B72D-59889FD7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36AF-F44F-4886-ADEC-78DF760DD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2485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5 by Deitel &amp; Associates, Inc. and Pearson Education Inc. All Rights Reserved</a:t>
            </a:r>
            <a:r>
              <a:rPr b="0" lang="en-US" sz="1200" spc="-1" strike="noStrike">
                <a:solidFill>
                  <a:srgbClr val="000000"/>
                </a:solidFill>
                <a:latin typeface="AvantGard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orial 19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reen Scrap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pplication: Introducing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cessing</a:t>
            </a:r>
            <a:endParaRPr b="0" lang="en-US" sz="32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0020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9.1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creen Scraping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9.2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Fundamentals of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9.3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creen Scraping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9.4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Locating Substrings in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9.5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Extracting Substrings from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9.6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Other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Function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9.7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Wrap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9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damentals of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mpa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a negative number if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ll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ecedes the argume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lphabet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ll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tains the same text as the argume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a positive number if follows the argume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ll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lphabet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 comparison and equality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“higher” alphabetical order (a is higher than b) is the string with the least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&lt; b and b &lt; c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creen Scrap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82560" y="1370160"/>
          <a:ext cx="7769160" cy="52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370160"/>
                    <a:ext cx="77691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9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Locating Substrings in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22360" y="3110040"/>
            <a:ext cx="6297480" cy="1504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15440" y="1447920"/>
            <a:ext cx="58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9.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 prototypes that use pass-by-refere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495320" y="2286000"/>
            <a:ext cx="4191480" cy="1523880"/>
            <a:chOff x="4495320" y="2286000"/>
            <a:chExt cx="4191480" cy="1523880"/>
          </a:xfrm>
        </p:grpSpPr>
        <p:sp>
          <p:nvSpPr>
            <p:cNvPr id="86" name=""/>
            <p:cNvSpPr/>
            <p:nvPr/>
          </p:nvSpPr>
          <p:spPr>
            <a:xfrm>
              <a:off x="6095880" y="228600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ing functions that p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lues by refere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4495320" y="2590920"/>
              <a:ext cx="160020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2" dur="1" fill="hold"/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9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Locating Substrings in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455840" y="1828800"/>
            <a:ext cx="6230880" cy="3419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13280" y="1447920"/>
            <a:ext cx="575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9.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ML containing the price of the auction ite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105160" y="3562200"/>
            <a:ext cx="3429360" cy="337320"/>
            <a:chOff x="5105160" y="3562200"/>
            <a:chExt cx="3429360" cy="337320"/>
          </a:xfrm>
        </p:grpSpPr>
        <p:sp>
          <p:nvSpPr>
            <p:cNvPr id="92" name=""/>
            <p:cNvSpPr/>
            <p:nvPr/>
          </p:nvSpPr>
          <p:spPr>
            <a:xfrm>
              <a:off x="6248520" y="356220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catena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5105160" y="37144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684360" y="5257800"/>
            <a:ext cx="7769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tial string literals in an assignment statement are concate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1" dur="1" fill="hold"/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9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Locating Substrings in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50800" y="2286000"/>
            <a:ext cx="6240600" cy="2467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11840" y="1447920"/>
            <a:ext cx="454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9.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ting the desired item’s na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495320" y="1638360"/>
            <a:ext cx="4267800" cy="1447920"/>
            <a:chOff x="4495320" y="1638360"/>
            <a:chExt cx="4267800" cy="1447920"/>
          </a:xfrm>
        </p:grpSpPr>
        <p:sp>
          <p:nvSpPr>
            <p:cNvPr id="99" name=""/>
            <p:cNvSpPr/>
            <p:nvPr/>
          </p:nvSpPr>
          <p:spPr>
            <a:xfrm>
              <a:off x="5791320" y="1638360"/>
              <a:ext cx="2971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ing the user for and inputting an item name (stored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arch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riabl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4495320" y="2476800"/>
              <a:ext cx="40388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114800" y="3695400"/>
            <a:ext cx="3200400" cy="657360"/>
            <a:chOff x="4114800" y="3695400"/>
            <a:chExt cx="3200400" cy="657360"/>
          </a:xfrm>
        </p:grpSpPr>
        <p:sp>
          <p:nvSpPr>
            <p:cNvPr id="102" name=""/>
            <p:cNvSpPr/>
            <p:nvPr/>
          </p:nvSpPr>
          <p:spPr>
            <a:xfrm>
              <a:off x="4572000" y="377208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peating unti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arch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tains the empty st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4114800" y="369540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684360" y="5257800"/>
            <a:ext cx="7769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mp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mber function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lling it contains the empty string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ther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5" dur="1" fill="hold"/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9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Locating Substrings in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55840" y="2309760"/>
            <a:ext cx="6230880" cy="3105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10400" y="1447920"/>
            <a:ext cx="57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9.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ing and displaying the price of the i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495320" y="1828800"/>
            <a:ext cx="2667600" cy="1295280"/>
            <a:chOff x="4495320" y="1828800"/>
            <a:chExt cx="2667600" cy="1295280"/>
          </a:xfrm>
        </p:grpSpPr>
        <p:sp>
          <p:nvSpPr>
            <p:cNvPr id="109" name=""/>
            <p:cNvSpPr/>
            <p:nvPr/>
          </p:nvSpPr>
          <p:spPr>
            <a:xfrm>
              <a:off x="4572000" y="182880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ing the user for and inputting the conversion r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4495320" y="2438280"/>
              <a:ext cx="17528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257440" y="2666880"/>
            <a:ext cx="3505680" cy="1067040"/>
            <a:chOff x="5257440" y="2666880"/>
            <a:chExt cx="3505680" cy="1067040"/>
          </a:xfrm>
        </p:grpSpPr>
        <p:sp>
          <p:nvSpPr>
            <p:cNvPr id="112" name=""/>
            <p:cNvSpPr/>
            <p:nvPr/>
          </p:nvSpPr>
          <p:spPr>
            <a:xfrm>
              <a:off x="6019920" y="266688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arching for the price and calculating the converted pr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5257440" y="3276720"/>
              <a:ext cx="2438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5333760" y="4114800"/>
            <a:ext cx="3505320" cy="337320"/>
            <a:chOff x="5333760" y="4114800"/>
            <a:chExt cx="3505320" cy="337320"/>
          </a:xfrm>
        </p:grpSpPr>
        <p:sp>
          <p:nvSpPr>
            <p:cNvPr id="115" name=""/>
            <p:cNvSpPr/>
            <p:nvPr/>
          </p:nvSpPr>
          <p:spPr>
            <a:xfrm>
              <a:off x="5943600" y="4114800"/>
              <a:ext cx="28954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ing the price as currenc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5333760" y="4267080"/>
              <a:ext cx="6094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733560" y="5029200"/>
            <a:ext cx="3200760" cy="1037880"/>
            <a:chOff x="3733560" y="5029200"/>
            <a:chExt cx="3200760" cy="1037880"/>
          </a:xfrm>
        </p:grpSpPr>
        <p:sp>
          <p:nvSpPr>
            <p:cNvPr id="118" name=""/>
            <p:cNvSpPr/>
            <p:nvPr/>
          </p:nvSpPr>
          <p:spPr>
            <a:xfrm>
              <a:off x="4114800" y="5486400"/>
              <a:ext cx="2819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ing the user to select the next item for which to sear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3733560" y="5029200"/>
              <a:ext cx="1523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9" dur="1" fill="hold"/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9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Locating Substrings in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i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mber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the index of the first occurrence of the argume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ll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::npo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f the argume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not fou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also accept a second argument specifying the index at which the function should begin loo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9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Locating Substrings in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450800" y="3038400"/>
            <a:ext cx="6240600" cy="1648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11840" y="1447920"/>
            <a:ext cx="465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9.1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ting the desired item’s na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876560" y="4343400"/>
            <a:ext cx="3353040" cy="1114200"/>
            <a:chOff x="4876560" y="4343400"/>
            <a:chExt cx="3353040" cy="1114200"/>
          </a:xfrm>
        </p:grpSpPr>
        <p:sp>
          <p:nvSpPr>
            <p:cNvPr id="126" name=""/>
            <p:cNvSpPr/>
            <p:nvPr/>
          </p:nvSpPr>
          <p:spPr>
            <a:xfrm>
              <a:off x="5410080" y="4876920"/>
              <a:ext cx="2819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arch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arch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tml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4876560" y="4343400"/>
              <a:ext cx="11430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8" dur="1" fill="hold"/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9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Locating Substrings in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50800" y="3200400"/>
            <a:ext cx="6240600" cy="1324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11480" y="1447920"/>
            <a:ext cx="458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9.1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ting the desired item’s pr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724280" y="4191120"/>
            <a:ext cx="2971800" cy="1037880"/>
            <a:chOff x="4724280" y="4191120"/>
            <a:chExt cx="2971800" cy="1037880"/>
          </a:xfrm>
        </p:grpSpPr>
        <p:sp>
          <p:nvSpPr>
            <p:cNvPr id="132" name=""/>
            <p:cNvSpPr/>
            <p:nvPr/>
          </p:nvSpPr>
          <p:spPr>
            <a:xfrm>
              <a:off x="5334120" y="4648320"/>
              <a:ext cx="2361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cating the beginning of the price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tml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4724280" y="4191120"/>
              <a:ext cx="9907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7" dur="1" fill="hold"/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9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Locating Substrings in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50800" y="3200400"/>
            <a:ext cx="6240600" cy="13240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13280" y="1447920"/>
            <a:ext cx="482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9.1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ting the end of the item’s pr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571640" y="4114800"/>
            <a:ext cx="3886560" cy="870840"/>
            <a:chOff x="4571640" y="4114800"/>
            <a:chExt cx="3886560" cy="870840"/>
          </a:xfrm>
        </p:grpSpPr>
        <p:sp>
          <p:nvSpPr>
            <p:cNvPr id="138" name=""/>
            <p:cNvSpPr/>
            <p:nvPr/>
          </p:nvSpPr>
          <p:spPr>
            <a:xfrm>
              <a:off x="4648320" y="4648320"/>
              <a:ext cx="3809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cating the end of the price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tml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4571640" y="4114800"/>
              <a:ext cx="15238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6" dur="1" fill="hold"/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Objective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tutorial, you will learn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and manipulat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properties and functions of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arch for substrings with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tract substrings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lace substrings with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vert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numbers to its corresponding numeric valu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9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Locating Substrings in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82560" y="1370160"/>
          <a:ext cx="7769160" cy="52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370160"/>
                    <a:ext cx="77691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684360" y="5257800"/>
            <a:ext cx="7769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fi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mber function finds the first occurrence of a substring searching backw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9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Extracting Substrings from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ubs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mber function returns a sub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rst argument specifies the starting inde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argument specifies the length of the subst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_s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mber function returns a character array containing the text of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t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 converts a character array to a floating-point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f the character array does not represent a valid num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 declared in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cstdlib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header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9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Extracting Substrings from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450800" y="2971800"/>
            <a:ext cx="6240600" cy="21146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11840" y="1447920"/>
            <a:ext cx="414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9.1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rieving the desired pr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867280" y="2224080"/>
            <a:ext cx="2971800" cy="1523520"/>
            <a:chOff x="5867280" y="2224080"/>
            <a:chExt cx="2971800" cy="1523520"/>
          </a:xfrm>
        </p:grpSpPr>
        <p:sp>
          <p:nvSpPr>
            <p:cNvPr id="150" name=""/>
            <p:cNvSpPr/>
            <p:nvPr/>
          </p:nvSpPr>
          <p:spPr>
            <a:xfrm>
              <a:off x="5867280" y="2224080"/>
              <a:ext cx="29718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ce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tml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ubstring, conver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ce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storing it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6019920" y="3290760"/>
              <a:ext cx="129528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5" dur="1" fill="hold"/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9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Extracting Substrings from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50800" y="3124080"/>
            <a:ext cx="6240600" cy="1476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13640" y="1447920"/>
            <a:ext cx="516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9.1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rting prices from euros to dolla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85800" y="4114440"/>
            <a:ext cx="2819520" cy="1510200"/>
            <a:chOff x="685800" y="4114440"/>
            <a:chExt cx="2819520" cy="1510200"/>
          </a:xfrm>
        </p:grpSpPr>
        <p:sp>
          <p:nvSpPr>
            <p:cNvPr id="156" name=""/>
            <p:cNvSpPr/>
            <p:nvPr/>
          </p:nvSpPr>
          <p:spPr>
            <a:xfrm>
              <a:off x="685800" y="4800600"/>
              <a:ext cx="2819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verting the price from euros to dollars using the conversion rate entered by the 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2743200" y="411444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4" dur="1" fill="hold"/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9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Extracting Substrings from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766880" y="3052800"/>
            <a:ext cx="5610240" cy="1619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11480" y="1447920"/>
            <a:ext cx="64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9.1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 the complet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reen Scrap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9.6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Other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Function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82560" y="1366920"/>
          <a:ext cx="7769160" cy="52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366920"/>
                    <a:ext cx="77691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0" y="0"/>
          <a:ext cx="6856560" cy="525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7010280" y="914400"/>
            <a:ext cx="19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eenScraping.cpp (1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895120" y="2666880"/>
            <a:ext cx="4800960" cy="580680"/>
            <a:chOff x="2895120" y="2666880"/>
            <a:chExt cx="4800960" cy="580680"/>
          </a:xfrm>
        </p:grpSpPr>
        <p:sp>
          <p:nvSpPr>
            <p:cNvPr id="168" name=""/>
            <p:cNvSpPr/>
            <p:nvPr/>
          </p:nvSpPr>
          <p:spPr>
            <a:xfrm>
              <a:off x="4952880" y="266688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functions that decl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ference parame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2895120" y="2742840"/>
              <a:ext cx="2057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114800" y="2971800"/>
              <a:ext cx="838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3" dur="1" fill="hold"/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0" y="0"/>
          <a:ext cx="6856560" cy="626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62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7010280" y="914400"/>
            <a:ext cx="19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eenScraping.cpp (2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114800" y="228600"/>
            <a:ext cx="3505320" cy="337320"/>
            <a:chOff x="4114800" y="228600"/>
            <a:chExt cx="3505320" cy="337320"/>
          </a:xfrm>
        </p:grpSpPr>
        <p:sp>
          <p:nvSpPr>
            <p:cNvPr id="175" name=""/>
            <p:cNvSpPr/>
            <p:nvPr/>
          </p:nvSpPr>
          <p:spPr>
            <a:xfrm>
              <a:off x="5486400" y="228600"/>
              <a:ext cx="21337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caten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4114800" y="30492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819520" y="2590920"/>
            <a:ext cx="5333760" cy="824040"/>
            <a:chOff x="2819520" y="2590920"/>
            <a:chExt cx="5333760" cy="824040"/>
          </a:xfrm>
        </p:grpSpPr>
        <p:sp>
          <p:nvSpPr>
            <p:cNvPr id="178" name=""/>
            <p:cNvSpPr/>
            <p:nvPr/>
          </p:nvSpPr>
          <p:spPr>
            <a:xfrm>
              <a:off x="5486400" y="25909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 user for an item name and input it in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arch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ri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2819520" y="3276360"/>
              <a:ext cx="26668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3048120" y="3657600"/>
            <a:ext cx="5867280" cy="580680"/>
            <a:chOff x="3048120" y="3657600"/>
            <a:chExt cx="5867280" cy="580680"/>
          </a:xfrm>
        </p:grpSpPr>
        <p:sp>
          <p:nvSpPr>
            <p:cNvPr id="181" name=""/>
            <p:cNvSpPr/>
            <p:nvPr/>
          </p:nvSpPr>
          <p:spPr>
            <a:xfrm>
              <a:off x="5715000" y="365760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peat unti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arch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tains the empty st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048120" y="3962160"/>
              <a:ext cx="26668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895120" y="4419720"/>
            <a:ext cx="5868000" cy="580680"/>
            <a:chOff x="2895120" y="4419720"/>
            <a:chExt cx="5868000" cy="580680"/>
          </a:xfrm>
        </p:grpSpPr>
        <p:sp>
          <p:nvSpPr>
            <p:cNvPr id="184" name=""/>
            <p:cNvSpPr/>
            <p:nvPr/>
          </p:nvSpPr>
          <p:spPr>
            <a:xfrm>
              <a:off x="5867280" y="4419720"/>
              <a:ext cx="2895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 the user for and store the conversion r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2895120" y="4648320"/>
              <a:ext cx="29718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580920" y="5334120"/>
            <a:ext cx="4725000" cy="580680"/>
            <a:chOff x="3580920" y="5334120"/>
            <a:chExt cx="4725000" cy="580680"/>
          </a:xfrm>
        </p:grpSpPr>
        <p:sp>
          <p:nvSpPr>
            <p:cNvPr id="187" name=""/>
            <p:cNvSpPr/>
            <p:nvPr/>
          </p:nvSpPr>
          <p:spPr>
            <a:xfrm>
              <a:off x="5715000" y="533412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arch for the price and calculate the converted pr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3580920" y="5334120"/>
              <a:ext cx="21337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2" dur="1" fill="hold"/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0" y="0"/>
          <a:ext cx="6856560" cy="525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7010280" y="914400"/>
            <a:ext cx="19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eenScraping.cpp (3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885840" y="457200"/>
            <a:ext cx="4191480" cy="337320"/>
            <a:chOff x="3885840" y="457200"/>
            <a:chExt cx="4191480" cy="337320"/>
          </a:xfrm>
        </p:grpSpPr>
        <p:sp>
          <p:nvSpPr>
            <p:cNvPr id="193" name=""/>
            <p:cNvSpPr/>
            <p:nvPr/>
          </p:nvSpPr>
          <p:spPr>
            <a:xfrm>
              <a:off x="5486400" y="457200"/>
              <a:ext cx="2590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 the price as currenc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3885840" y="457200"/>
              <a:ext cx="16002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048120" y="1371600"/>
            <a:ext cx="5715000" cy="1418760"/>
            <a:chOff x="3048120" y="1371600"/>
            <a:chExt cx="5715000" cy="1418760"/>
          </a:xfrm>
        </p:grpSpPr>
        <p:sp>
          <p:nvSpPr>
            <p:cNvPr id="196" name=""/>
            <p:cNvSpPr/>
            <p:nvPr/>
          </p:nvSpPr>
          <p:spPr>
            <a:xfrm>
              <a:off x="5791320" y="220968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 the user to select the next item for which to sear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flipV="1">
              <a:off x="3048120" y="1371600"/>
              <a:ext cx="36576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6" dur="1" fill="hold"/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0" y="0"/>
          <a:ext cx="6856560" cy="601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60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7010280" y="914400"/>
            <a:ext cx="19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eenScraping.cpp (4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9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creen Scrap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84360" y="1370160"/>
          <a:ext cx="7769160" cy="52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0" y="0"/>
          <a:ext cx="6856560" cy="626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62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7010280" y="914400"/>
            <a:ext cx="19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eenScraping.cpp (5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0" y="0"/>
          <a:ext cx="6856560" cy="575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7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7010280" y="914400"/>
            <a:ext cx="19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eenScraping.cpp (6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038480" y="228600"/>
            <a:ext cx="3962520" cy="1600200"/>
            <a:chOff x="4038480" y="228600"/>
            <a:chExt cx="3962520" cy="1600200"/>
          </a:xfrm>
        </p:grpSpPr>
        <p:sp>
          <p:nvSpPr>
            <p:cNvPr id="208" name=""/>
            <p:cNvSpPr/>
            <p:nvPr/>
          </p:nvSpPr>
          <p:spPr>
            <a:xfrm>
              <a:off x="4876920" y="228600"/>
              <a:ext cx="3124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arch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arch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tml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4038480" y="838080"/>
              <a:ext cx="15242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724280" y="1523880"/>
            <a:ext cx="3810240" cy="609840"/>
            <a:chOff x="4724280" y="1523880"/>
            <a:chExt cx="3810240" cy="609840"/>
          </a:xfrm>
        </p:grpSpPr>
        <p:sp>
          <p:nvSpPr>
            <p:cNvPr id="211" name=""/>
            <p:cNvSpPr/>
            <p:nvPr/>
          </p:nvSpPr>
          <p:spPr>
            <a:xfrm>
              <a:off x="6095880" y="1523880"/>
              <a:ext cx="243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cate the beginning of the price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tml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4724280" y="1676520"/>
              <a:ext cx="1371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028840" y="2438280"/>
            <a:ext cx="3657960" cy="580680"/>
            <a:chOff x="5028840" y="2438280"/>
            <a:chExt cx="3657960" cy="580680"/>
          </a:xfrm>
        </p:grpSpPr>
        <p:sp>
          <p:nvSpPr>
            <p:cNvPr id="214" name=""/>
            <p:cNvSpPr/>
            <p:nvPr/>
          </p:nvSpPr>
          <p:spPr>
            <a:xfrm>
              <a:off x="6095880" y="243828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cate the end of the price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tml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5028840" y="2514240"/>
              <a:ext cx="10666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4114440" y="3429000"/>
            <a:ext cx="4800960" cy="824040"/>
            <a:chOff x="4114440" y="3429000"/>
            <a:chExt cx="4800960" cy="824040"/>
          </a:xfrm>
        </p:grpSpPr>
        <p:sp>
          <p:nvSpPr>
            <p:cNvPr id="217" name=""/>
            <p:cNvSpPr/>
            <p:nvPr/>
          </p:nvSpPr>
          <p:spPr>
            <a:xfrm>
              <a:off x="5715000" y="3429000"/>
              <a:ext cx="3200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ce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tml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ubstring, conver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ce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store it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5181480" y="3580920"/>
              <a:ext cx="533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4114440" y="3809880"/>
              <a:ext cx="1600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200400" y="4419720"/>
            <a:ext cx="4419720" cy="1067400"/>
            <a:chOff x="3200400" y="4419720"/>
            <a:chExt cx="4419720" cy="1067400"/>
          </a:xfrm>
        </p:grpSpPr>
        <p:sp>
          <p:nvSpPr>
            <p:cNvPr id="221" name=""/>
            <p:cNvSpPr/>
            <p:nvPr/>
          </p:nvSpPr>
          <p:spPr>
            <a:xfrm>
              <a:off x="4648320" y="4419720"/>
              <a:ext cx="29718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vert the price from euros to dollars using the conversion rate entered by the user and return the dollar price to the 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3200400" y="495288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5" dur="1" fill="hold"/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9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creen Scrap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66880" y="2652840"/>
            <a:ext cx="5610240" cy="2419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11120" y="1447920"/>
            <a:ext cx="633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9.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 the complet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reen Scrap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866920" y="4190760"/>
            <a:ext cx="2439000" cy="1480680"/>
            <a:chOff x="5866920" y="4190760"/>
            <a:chExt cx="2439000" cy="1480680"/>
          </a:xfrm>
        </p:grpSpPr>
        <p:sp>
          <p:nvSpPr>
            <p:cNvPr id="53" name=""/>
            <p:cNvSpPr/>
            <p:nvPr/>
          </p:nvSpPr>
          <p:spPr>
            <a:xfrm>
              <a:off x="5867280" y="5334120"/>
              <a:ext cx="24386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TML source is display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866920" y="4190760"/>
              <a:ext cx="11430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9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creen Scrap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967120" y="2681280"/>
            <a:ext cx="3209760" cy="2362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12920" y="1447920"/>
            <a:ext cx="57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9.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the HTML page in Internet Explor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9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creen Scrap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66880" y="2938320"/>
            <a:ext cx="5610240" cy="1847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14000" y="1447920"/>
            <a:ext cx="448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9.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ing an item from the men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9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creen Scrap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66880" y="2766960"/>
            <a:ext cx="5610240" cy="2190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10400" y="1447920"/>
            <a:ext cx="725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9.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arching for the item’s price and displaying the price in dolla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048120" y="4800600"/>
            <a:ext cx="2361960" cy="961560"/>
            <a:chOff x="3048120" y="4800600"/>
            <a:chExt cx="2361960" cy="961560"/>
          </a:xfrm>
        </p:grpSpPr>
        <p:sp>
          <p:nvSpPr>
            <p:cNvPr id="65" name=""/>
            <p:cNvSpPr/>
            <p:nvPr/>
          </p:nvSpPr>
          <p:spPr>
            <a:xfrm>
              <a:off x="3429000" y="5181480"/>
              <a:ext cx="1981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tracted price (converted to dolla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3048120" y="4800600"/>
              <a:ext cx="761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962520" y="1905120"/>
            <a:ext cx="2666880" cy="1523880"/>
            <a:chOff x="3962520" y="1905120"/>
            <a:chExt cx="2666880" cy="1523880"/>
          </a:xfrm>
        </p:grpSpPr>
        <p:sp>
          <p:nvSpPr>
            <p:cNvPr id="68" name=""/>
            <p:cNvSpPr/>
            <p:nvPr/>
          </p:nvSpPr>
          <p:spPr>
            <a:xfrm>
              <a:off x="3962520" y="19051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ice located in HTML string (specified in euro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5334120" y="2438280"/>
              <a:ext cx="457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" dur="1" fill="hold"/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9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damentals of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ngth of a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member functio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vidual characters in a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 subscript operat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[]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s you would with arr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range che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s range che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throw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_of_ran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9.2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damentals of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a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the subscrip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with 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of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124080" cy="485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85800" y="3581280"/>
            <a:ext cx="4343400" cy="3812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93720" y="4724280"/>
            <a:ext cx="822168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9:59:56Z</dcterms:created>
  <dc:creator>Jeffrey Peng</dc:creator>
  <dc:description/>
  <dc:language>en-US</dc:language>
  <cp:lastModifiedBy>Pearson Education</cp:lastModifiedBy>
  <dcterms:modified xsi:type="dcterms:W3CDTF">2004-10-11T14:13:01Z</dcterms:modified>
  <cp:revision>78</cp:revision>
  <dc:subject/>
  <dc:title>Tutorial 19 – Screen Scraping Application: Introducing string Processing</dc:title>
</cp:coreProperties>
</file>