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8.wmf" ContentType="image/x-wmf"/>
  <Override PartName="/ppt/media/image33.wmf" ContentType="image/x-wmf"/>
  <Override PartName="/ppt/media/image13.png" ContentType="image/png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7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7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0AA-F55C-4B16-A768-BF9DFE3A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380-A5A0-44D7-A977-095B507F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E23-7EE1-485F-97BD-13C8EB50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DE7-21A2-40AD-900D-56B1031D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2EB-784F-4388-B3A1-AFA2B3E5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4FDE-F29F-422E-AED3-F6196E62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763-38BF-4875-9900-04CEC926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8DF-7771-409D-A576-F054C37E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9A7-D223-4F03-B60C-12F67F95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026-2539-4181-B371-B0505946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064E-A251-4DA5-8DFF-E5FA26E9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9E8-076A-4A18-B5E0-2C0FE899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5AF6-A915-45BD-8214-148B967F8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248520"/>
            <a:ext cx="64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22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neBoo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Operator Overloading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2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ok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2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Fundamentals of Operator Over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2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Restrictions on Operator Over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2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Overloaded Operato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2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hone Book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2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Restrictions on Operator Overloading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cedence of an operator cannot b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heses can be used to force the order of eval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vity of operator cannot b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ther the operator works left-to-right, or right-to-le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hange number of operands that operator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possible to create new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on built in types cannot b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overloading only works with user defin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 a mix of built in and user defin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s are never overloaded implici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Restrictions on Operator Overloading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371600"/>
          <a:ext cx="77691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91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85800" y="1371600"/>
          <a:ext cx="77691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91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Restrictions on Operator Overloading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verloaded Operator Function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u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member of the class, it specifies zero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ccess private data members 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 it specifies one 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access private data members 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membe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ing the overloaded operator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the overloaded oper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048120" cy="1523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verloaded Operator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6811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non-membe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ing the overloaded operator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the overloaded oper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verloaded Operator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3533760" cy="381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84027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verloaded Operator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Bi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member of the class, it specifies one 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ccess private data members 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 it specifies two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access private data members 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membe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ing the overloaded operator: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the overloaded oper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verloaded Operator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733920" cy="1781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431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non-membe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ing the overloaded operator: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the overloaded oper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verloaded Operator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4267080" cy="399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0840" y="3809880"/>
            <a:ext cx="88408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While the user has not chosen to exit the applic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Display a menu that presents the option to add a new phone book entry, 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display existing phone book entries or exit the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If the user chooses to add a new phone book entry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Prompt the user for and store the person’s name</a:t>
            </a:r>
            <a:br>
              <a:rPr sz="1800"/>
            </a:b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Prompt the user for and store the person’s phon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If the user chooses to view the existing phone book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For each phone book entry</a:t>
            </a:r>
            <a:br>
              <a:rPr sz="1800"/>
            </a:b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275aff"/>
                </a:solidFill>
                <a:latin typeface="Times New Roman"/>
              </a:rPr>
              <a:t>Display the entry name and phon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2200" y="1263600"/>
            <a:ext cx="55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verloaded operat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operator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 the stream insertion operator to support a user-defined typ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 the stream extraction operator to support a user-defined typ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84280" y="1959120"/>
            <a:ext cx="6174000" cy="1466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oaded stream insertion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myPhoneNumber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&lt;&lt;( cout, myPhoneNumb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9960" y="1447920"/>
            <a:ext cx="68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n overloaded stream insertion operator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84280" y="1959120"/>
            <a:ext cx="6174000" cy="1466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oaded stream insertion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myPhoneNumber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&gt;&gt;( cin, myPhoneNumb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720" y="1295280"/>
            <a:ext cx="706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n overloaded stream extraction operator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6240600" cy="1342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6280" y="1852560"/>
            <a:ext cx="55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rrays to store phone book e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051000"/>
            <a:ext cx="22096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arrays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honeNumb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s and 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22680" y="2071800"/>
            <a:ext cx="6192720" cy="3581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9960" y="1492200"/>
            <a:ext cx="50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ing phone book entry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28600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ing the newline from the input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2666880"/>
            <a:ext cx="2133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20040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ing the user for and inputting a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581280"/>
            <a:ext cx="2133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4038480"/>
            <a:ext cx="243864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ing the user for a phone number and using the overload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or to input the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90920" y="441936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45720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5334120"/>
            <a:ext cx="1676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ing the number of e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05120" y="51814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1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66880" y="2162160"/>
            <a:ext cx="6183360" cy="3400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60280" y="1371600"/>
            <a:ext cx="87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each phone book entry using overloaded stream insertion opera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293040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a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124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505320"/>
            <a:ext cx="18288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n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 to display each e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81080" y="3657240"/>
            <a:ext cx="2286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572000"/>
            <a:ext cx="23623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the overload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&lt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or to output a phon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14600" y="4648320"/>
            <a:ext cx="1981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8" dur="1" fill="hold"/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9" dur="1" fill="hold"/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00440" y="1600200"/>
            <a:ext cx="5962680" cy="2185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s to acc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oaded stream-insertion operator is not part o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hone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9600" y="1125360"/>
            <a:ext cx="48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676520"/>
            <a:ext cx="259056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ting a phone number by acces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mbers using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21337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819520"/>
            <a:ext cx="38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2743200"/>
            <a:ext cx="243864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ing a reference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 to enable ch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8" dur="1" fill="hold"/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9" dur="1" fill="hold"/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97160" y="1600200"/>
            <a:ext cx="4437360" cy="4525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9600" y="1278000"/>
            <a:ext cx="48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gt;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203640"/>
            <a:ext cx="26668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input numbers and 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remove non-numeric charac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32004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971800" y="3504960"/>
            <a:ext cx="1676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65760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65760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3657600"/>
            <a:ext cx="1752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3657600"/>
            <a:ext cx="17524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5410080"/>
            <a:ext cx="3200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ing a reference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 to enable ch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5715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3" dur="1" fill="hold"/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4" dur="1" fill="hold"/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102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52480" y="2971800"/>
            <a:ext cx="5610240" cy="196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87440" y="1339920"/>
            <a:ext cx="60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0" y="4572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Number.h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0"/>
          <a:ext cx="685656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0" y="4572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Number.h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0"/>
          <a:ext cx="6856560" cy="425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4280" y="2662200"/>
            <a:ext cx="79740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0" y="4572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Number.cpp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0" y="0"/>
          <a:ext cx="68565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858000" y="4572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Number.cpp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Book.cpp (1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5334120"/>
            <a:ext cx="2590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e arrays to store phone numbers and n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867280" y="5638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5" dur="1" fill="hold"/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6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6856560" cy="36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Book.cpp (2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Book.cpp (3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2514600"/>
            <a:ext cx="18288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the user for and input a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266720" y="2819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3505320"/>
            <a:ext cx="25909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the user for and input a phone number using the overload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3580920" y="373356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962520" y="3962520"/>
            <a:ext cx="2133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835520"/>
            <a:ext cx="25909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the number of e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361960" y="4987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7" dur="1" fill="hold"/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6856560" cy="639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3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Book.cpp (4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2743200"/>
            <a:ext cx="1600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a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181120" y="2895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3371760"/>
            <a:ext cx="3429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 displays each name and phone number that has been ent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190760" y="3676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4876920"/>
            <a:ext cx="2895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 the phone numbers using the overload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2578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5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Book.cpp (5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Book.cpp (6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838080"/>
            <a:ext cx="25909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s to output the phon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638320" y="1066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1752480"/>
            <a:ext cx="22096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s output ch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1905120" y="1523520"/>
            <a:ext cx="4572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4" dur="1" fill="hold"/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5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Book.cpp (7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2286000"/>
            <a:ext cx="38102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read phone numbers and discard nonnumeric charac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2666880" y="456840"/>
            <a:ext cx="22860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666880" y="1294920"/>
            <a:ext cx="2286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2286000" y="2209320"/>
            <a:ext cx="2666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437920" y="2590920"/>
            <a:ext cx="2514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590560" y="2590920"/>
            <a:ext cx="2361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362320" y="2590920"/>
            <a:ext cx="259056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5562720"/>
            <a:ext cx="21333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s input ch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257440" y="5715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9" dur="1" fill="hold"/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0" dur="1" fill="hold"/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6880" y="2995560"/>
            <a:ext cx="5610240" cy="173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3760" y="1928880"/>
            <a:ext cx="59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0680" y="1905120"/>
            <a:ext cx="76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a name and phone number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 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6280" y="1852560"/>
            <a:ext cx="55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a second name and phone nu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86000" y="1852560"/>
            <a:ext cx="42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phone book e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6880" y="3338640"/>
            <a:ext cx="5610240" cy="104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5640" y="2004840"/>
            <a:ext cx="354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2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ting the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2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damentals of Operator Overloading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llowed by symbol for operator being over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“teach” C++ how to use operators with user defin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mimic the functionality of their built in counterp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nd address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do not need to be overloaded to work with user defin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forms member-wise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the address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33:58Z</dcterms:created>
  <dc:creator>Eric Winokur</dc:creator>
  <dc:description/>
  <dc:language>en-US</dc:language>
  <cp:lastModifiedBy>Pearson Education</cp:lastModifiedBy>
  <dcterms:modified xsi:type="dcterms:W3CDTF">2004-10-11T14:13:29Z</dcterms:modified>
  <cp:revision>109</cp:revision>
  <dc:subject/>
  <dc:title>Tutorial 20 – PhoneBook Application: Introducing Operator Overloading</dc:title>
</cp:coreProperties>
</file>