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30.png" ContentType="image/png"/>
  <Override PartName="/ppt/media/image48.wmf" ContentType="image/x-wmf"/>
  <Override PartName="/ppt/media/image40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9.png" ContentType="image/png"/>
  <Override PartName="/ppt/media/image42.wmf" ContentType="image/x-wmf"/>
  <Override PartName="/ppt/media/image9.png" ContentType="image/png"/>
  <Override PartName="/ppt/media/image49.wmf" ContentType="image/x-wmf"/>
  <Override PartName="/ppt/media/image29.png" ContentType="image/png"/>
  <Override PartName="/ppt/media/image38.png" ContentType="image/png"/>
  <Override PartName="/ppt/media/image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51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50.wmf" ContentType="image/x-wmf"/>
  <Override PartName="/ppt/media/image10.png" ContentType="image/png"/>
  <Override PartName="/ppt/media/image5.png" ContentType="image/png"/>
  <Override PartName="/ppt/media/image3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D4A-4907-4DEB-BD78-D3FD11E9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890-F4BD-4B00-A822-06F5F2CE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99A-950D-46B2-B19E-1AFBF585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315-BA4A-4DFD-A7AF-39752CB9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CAB-7527-4015-B7C1-0B607E94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C79-8FFF-43D9-99AF-B354EB52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CA1-F494-473F-B75B-80D7F575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E06-1F33-40E3-A799-1A5F8BE1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688-32EE-49A5-B9AA-A93D3A54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068-5966-4639-BCAA-2489D68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0DA-A144-404B-BE10-C4BA7EB7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458-E360-4389-96B1-96AE8390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429B-A7F8-4716-8FC4-5B1773715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6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opp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Pointers, References and Dynamic Data Structure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ing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ointer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assing Arguments to Functions by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mplementing a Linked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6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Pointe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51080" y="2004840"/>
            <a:ext cx="6440400" cy="371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15320" y="1295280"/>
            <a:ext cx="55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ly and indirectly referencing a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ointer Operato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address of its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eferencing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synonym for the name of the object to which the operand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attempt to dereference a variable that is not a pointer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ointer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62440" y="2030400"/>
            <a:ext cx="3219120" cy="1324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96320" y="1492200"/>
            <a:ext cx="77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al representation of a pointer pointing to a variable in mem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3695760"/>
            <a:ext cx="1295640" cy="342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 synonym for the nam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ields the same resul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3560760" cy="301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838080" y="5029200"/>
            <a:ext cx="25495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ointer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36520" y="2057400"/>
            <a:ext cx="6869160" cy="3610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92480" y="1333440"/>
            <a:ext cx="57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Poi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mem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66880" y="1963800"/>
            <a:ext cx="6126120" cy="1457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dicate that a function passes parameters by reference, follow the variable type with an ampersand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the function 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2120" y="1371600"/>
            <a:ext cx="66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function that declares a reference para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43828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a function that declare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ferenc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834160" cy="2185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2840" y="1219320"/>
            <a:ext cx="731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ng an argument by reference using a reference arg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228924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a variable name to pass-by-reference using a reference arg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743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5833800" cy="2185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ng variables by reference allows the called function to directly modify the original variable in the 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120" y="1187280"/>
            <a:ext cx="66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function that declares a reference para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438280"/>
            <a:ext cx="1828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rementing the referenc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/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46920" y="1676520"/>
            <a:ext cx="67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demonstrating the value of input before and af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ng a value by reference with a reference arg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37000" y="2116080"/>
            <a:ext cx="6126120" cy="1152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ass a function parameter as a pointer, follow the parameter’s type in the function prototype with an asterisk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1040" y="1492200"/>
            <a:ext cx="65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function that declares a pointer para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28600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a function that declare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inter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2666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60680" y="2286000"/>
            <a:ext cx="6126120" cy="229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65560" y="1623960"/>
            <a:ext cx="68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ng a variable by reference using a pointer arg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743200"/>
            <a:ext cx="23623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the address operator to pass-by-reference using a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12408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648320"/>
            <a:ext cx="82296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n-pointer argument passed-by-reference using a pointer will automatically be derefer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bove figure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xplicitly derefer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0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d initialize point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the address of a variable in a poin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linked list of obje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class members using a poin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ynamic memory management to create and delete obje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28960" y="1600200"/>
            <a:ext cx="583416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dereferencing a pointer is an error when it is necessary to do so to obtain the value to which the pointer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6640" y="1219320"/>
            <a:ext cx="63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function that declares a pointer arg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98432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eferencing the pointer and incrementing the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2365200"/>
            <a:ext cx="9903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" dur="1" fill="hold"/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92840" y="1700280"/>
            <a:ext cx="716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showing input before and after passing it by refer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reference and pointer 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Functions by Reference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are actually pointers pointing to element zero in the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arrayName[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is why arrays are always passed by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a menu containing options for adding a new item to the list,</a:t>
            </a:r>
            <a:br>
              <a:rPr sz="2000"/>
            </a:b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ing the shopping list and exiting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rompt the user for and input the menu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user chose to add a new item to th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rompt the user for and input the name and quantity of th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Create a new ShoppingIte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Add the new ShoppingItem to the linked list of Shopping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user chose to display the shopp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For each item in the list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the item’s name and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If the user chose to exit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elete each ShoppingItem and exit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360" y="1187280"/>
            <a:ext cx="58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p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83000" y="1600200"/>
            <a:ext cx="5432400" cy="452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6000" y="1187280"/>
            <a:ext cx="43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ppingItem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286000"/>
            <a:ext cx="2667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47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505320"/>
            <a:ext cx="1981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362320" y="2971440"/>
            <a:ext cx="1904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5812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365760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114800"/>
            <a:ext cx="2819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ber function that display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419720"/>
            <a:ext cx="12189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81320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variables that represent an item’s name and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124080" y="4952880"/>
            <a:ext cx="10670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638680"/>
            <a:ext cx="1752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057400" y="548604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1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" dur="1" fill="hold"/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81280" y="2035080"/>
            <a:ext cx="5067360" cy="1314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lf-referential class contains a pointer to an object of the sam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etting the link in the last node of a linked data structure to null (0) is a (possibly fatal) logic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840" y="1447920"/>
            <a:ext cx="601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self-referential class objects linked toge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98108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f-referential class objects linked together to form a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2286000"/>
            <a:ext cx="2514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89548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ter to the first self-referential class object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429000" y="2971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1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2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66760" y="1811160"/>
            <a:ext cx="5010480" cy="1762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linked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gth is 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increase and decrease as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y-linked list has one link per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440" y="1339920"/>
            <a:ext cx="51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al representation of a linked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08200" y="2743200"/>
            <a:ext cx="6230880" cy="1495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8880" y="1866960"/>
            <a:ext cx="67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04812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.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.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4290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3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4" dur="1" fill="hold"/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46200" y="2590920"/>
            <a:ext cx="6240600" cy="1828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8520" y="1776240"/>
            <a:ext cx="49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to store user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895480"/>
            <a:ext cx="1752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variables to store user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32004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5" dur="1" fill="hold"/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6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36840" y="2130480"/>
            <a:ext cx="6249960" cy="11239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default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5200" y="1492200"/>
            <a:ext cx="37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2473200"/>
            <a:ext cx="21333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960" y="2519280"/>
            <a:ext cx="7964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0520" y="1981080"/>
            <a:ext cx="6249960" cy="3114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68440" y="1523880"/>
            <a:ext cx="755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the item’s name and quant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04812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ing the newline from the input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333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3867120"/>
            <a:ext cx="22096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the item’s name and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86000" y="394344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4248000"/>
            <a:ext cx="1600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removes one character from the input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7" dur="1" fill="hold"/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8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9" dur="1" fill="hold"/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41760" y="1963800"/>
            <a:ext cx="6249960" cy="1457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an item to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2480" y="1461960"/>
            <a:ext cx="67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320" y="236232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666880"/>
            <a:ext cx="15242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0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1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6249960" cy="1295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89240" y="1843200"/>
            <a:ext cx="843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name and quantity for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linked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321948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contents of the shopping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2" dur="1" fill="hold"/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3" dur="1" fill="hold"/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674800" y="2035080"/>
            <a:ext cx="6240600" cy="13147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should delete any dynamic memory allocated during run-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" y="1523880"/>
            <a:ext cx="73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ing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 from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36232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ing 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6668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5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46200" y="2057400"/>
            <a:ext cx="6240600" cy="3409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39000" y="1409760"/>
            <a:ext cx="355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286000"/>
            <a:ext cx="1676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243828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320" y="312408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 for the pointer to the first item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19112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functions to manipulate the linked list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362320" y="4191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525780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a pointer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057400" y="4876920"/>
            <a:ext cx="1295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0" dur="1" fill="hold"/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1" dur="1" fill="hold"/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760840" y="1868400"/>
            <a:ext cx="6230880" cy="1648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a member function, you can explicitly refer to the object of that class on which the function was called with the 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hand notation for use with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Object-&gt;my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my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.my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5200" y="1278000"/>
            <a:ext cx="40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213372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tializ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 as a null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2438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2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3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46000" y="1733400"/>
            <a:ext cx="7450200" cy="451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6160" y="1187280"/>
            <a:ext cx="79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al representation of inserting an item at the front of a linked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779560" y="1600200"/>
            <a:ext cx="5983560" cy="21859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que of obtaining memory during execu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ed memory can be released so that it can be reus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as an argument the type of object being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pointer to newly create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2480" y="1157400"/>
            <a:ext cx="69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ject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274320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4" dur="1" fill="hold"/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5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608200" y="1868400"/>
            <a:ext cx="6230880" cy="16480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null (zero) to the link member of a new n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itialized pointers often lead to dangerous runtim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6640" y="1295280"/>
            <a:ext cx="75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pointers when adding an item to the front of a linked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1981080"/>
            <a:ext cx="205740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ing the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’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 and the List’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26668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6" dur="1" fill="hold"/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7" dur="1" fill="hold"/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760840" y="2209680"/>
            <a:ext cx="6230880" cy="2610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89960" y="1562040"/>
            <a:ext cx="49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289548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ing a pointer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320040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96252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6" dur="1" fill="hold"/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7" dur="1" fill="hold"/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1880" y="1828800"/>
            <a:ext cx="60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p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532240" y="2209680"/>
            <a:ext cx="6230880" cy="2162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89240" y="1638360"/>
            <a:ext cx="66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’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me and quant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3048120"/>
            <a:ext cx="19814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name and quantity for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34290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8" dur="1" fill="hold"/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9" dur="1" fill="hold"/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locating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releasing dynamically allocated memory when it is no longer needed can cause the system to run out of memory prematur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s the destructor and deallocates the memory allocated by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memory to the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32240" y="2314440"/>
            <a:ext cx="6230880" cy="3095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65560" y="1409760"/>
            <a:ext cx="48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ete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2971800"/>
            <a:ext cx="221004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o that it points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50532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4419720"/>
            <a:ext cx="19810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until reaching the end of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09680" y="419076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8" dur="1" fill="hold"/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9" dur="1" fill="hold"/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159000" y="1600200"/>
            <a:ext cx="5908680" cy="2185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that run just before an object’s memory is rel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800" y="1157400"/>
            <a:ext cx="58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ing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linked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2096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re a temporary copy of the pointer to the nex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1981080"/>
            <a:ext cx="1676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2590920"/>
            <a:ext cx="25909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whi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743200" y="289548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3540240"/>
            <a:ext cx="3124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o the next item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004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6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7" dur="1" fill="hold"/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766880" y="2595600"/>
            <a:ext cx="5610240" cy="2533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67000" y="1562040"/>
            <a:ext cx="67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after entering several i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mplementing a Linked Lis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766880" y="2824200"/>
            <a:ext cx="5610240" cy="2076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89960" y="1714680"/>
            <a:ext cx="56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3048120"/>
            <a:ext cx="1676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5146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0492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 for the pointer to the first item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200400" y="4568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1371600"/>
            <a:ext cx="22860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functions to manipulate the linked list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105520" y="159984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048120"/>
            <a:ext cx="35049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nter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2057040" y="2590560"/>
            <a:ext cx="3048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4" dur="1" fill="hold"/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5" dur="1" fill="hold"/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cpp (1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3124080"/>
            <a:ext cx="3429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tializ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s a null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286000" y="297144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6" dur="1" fill="hold"/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7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6856560" cy="36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cpp (2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16400" y="2157480"/>
            <a:ext cx="49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new item to the shopping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0" y="0"/>
          <a:ext cx="6856560" cy="374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cpp (3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838080"/>
            <a:ext cx="2971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point to the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2819520" y="10666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2743200"/>
            <a:ext cx="2819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the appropriate pointers to add the new item to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590560" y="2438280"/>
            <a:ext cx="1904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6" dur="1" fill="hold"/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7" dur="1" fill="hold"/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0" y="0"/>
          <a:ext cx="6856560" cy="47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cpp (4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91440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pointer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4419360" y="10666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1752480"/>
            <a:ext cx="1600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a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504960" y="1905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3124080"/>
            <a:ext cx="2743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the name and quantity for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895480" y="3276360"/>
            <a:ext cx="33530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4" dur="1" fill="hold"/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5" dur="1" fill="hold"/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0" y="0"/>
          <a:ext cx="6856560" cy="501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cpp (5 o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78120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pointer to the first item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343040" y="1057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72200" y="2895480"/>
            <a:ext cx="2666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e 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80060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4" dur="1" fill="hold"/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5" dur="1" fill="hold"/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3083040"/>
            <a:ext cx="26668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571640" y="323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411480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286000" y="4190760"/>
            <a:ext cx="2362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4" dur="1" fill="hold"/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5" dur="1" fill="hold"/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1695600"/>
            <a:ext cx="2743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ber function that display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209320" y="20001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266688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variables that represent an item name and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3200400" y="289548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3886200"/>
            <a:ext cx="1752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data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2361960" y="3733920"/>
            <a:ext cx="2057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2" dur="1" fill="hold"/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33" dur="1" fill="hold"/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Item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Li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1828800"/>
            <a:ext cx="2895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.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.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428640" y="2133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3124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variables to store user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572000" y="3962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457200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286000" y="4724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0" dur="1" fill="hold"/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1" dur="1" fill="hold"/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6880" y="2595600"/>
            <a:ext cx="5610240" cy="2533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1960" y="1700280"/>
            <a:ext cx="46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the shopping list cont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Li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1863720"/>
            <a:ext cx="37339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 the newline from the input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514240" y="2016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289548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for and input the item’s name and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429000" y="3047760"/>
            <a:ext cx="1905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3200400"/>
            <a:ext cx="2210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4343400"/>
            <a:ext cx="2590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a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4114800" y="45720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1" dur="1" fill="hold"/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92" dur="1" fill="hold"/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Li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304920"/>
            <a:ext cx="19051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the contents of the shopping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533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581280" y="59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1695600"/>
            <a:ext cx="2514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e 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ppingI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s in the 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657600" y="200016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1" dur="1" fill="hold"/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12" dur="1" fill="hold"/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0"/>
          <a:ext cx="6856560" cy="40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pingLi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 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6880" y="2595600"/>
            <a:ext cx="5610240" cy="2533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15680" y="1700280"/>
            <a:ext cx="44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items to the shopping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pping Lis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6880" y="1711440"/>
            <a:ext cx="5610240" cy="1962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displayed in reverse order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320" y="1295280"/>
            <a:ext cx="54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6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the updated shopping list cont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6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Pointe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rectly reference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initializ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mbolic consta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fined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to repres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only integer that can be directly assigned to a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pointers to avoid pointing to unknown or uninitialized areas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40:09Z</dcterms:created>
  <dc:creator>Eric Winokur</dc:creator>
  <dc:description/>
  <dc:language>en-US</dc:language>
  <cp:lastModifiedBy>Pearson Education</cp:lastModifiedBy>
  <dcterms:modified xsi:type="dcterms:W3CDTF">2004-10-11T14:13:06Z</dcterms:modified>
  <cp:revision>238</cp:revision>
  <dc:subject/>
  <dc:title>Tutorial 16 – Shopping List Application: Introducing Pointers, References and Dynamic Data Structures</dc:title>
</cp:coreProperties>
</file>