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48.wmf" ContentType="image/x-wmf"/>
  <Override PartName="/ppt/media/image31.png" ContentType="image/png"/>
  <Override PartName="/ppt/media/image49.wmf" ContentType="image/x-wmf"/>
  <Override PartName="/ppt/media/image29.png" ContentType="image/png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4D3-C480-4BC4-8798-BDBAA90B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422-338A-4BBD-9AF6-989AD36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ED8-FEFF-40A6-8146-6580F38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7AE-854D-4696-B9CD-F3706848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141-52B6-4EC7-95F5-84D1FC62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850-13BC-4529-918B-8DE91E9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A38-7F2D-46D8-98DB-F94500AC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6A1-D112-423A-B7C7-C8FC0A4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113-D969-4891-AA77-73759872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D61-D579-427F-B501-BE90AC6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7F1-4BE4-4AFF-95DB-1664910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5A7-1206-40E0-818F-8BADA589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ED5-9BB7-4B23-89BC-F0CE033E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1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de Boo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emplat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1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ist of formal typ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angle br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ameter is preceded b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type parameters can be used to specify the types for function parameters, local variables and the function’s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type parameters are replaced by actual data types during 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lates enable generi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without specifying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the function template with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the function template with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13396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4334040" cy="676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6440" y="5410080"/>
            <a:ext cx="43527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50800" y="303840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5080" y="1461960"/>
            <a:ext cx="61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4038480"/>
            <a:ext cx="2210040" cy="1571400"/>
            <a:chOff x="609480" y="4038480"/>
            <a:chExt cx="2210040" cy="1571400"/>
          </a:xfrm>
        </p:grpSpPr>
        <p:sp>
          <p:nvSpPr>
            <p:cNvPr id="78" name=""/>
            <p:cNvSpPr/>
            <p:nvPr/>
          </p:nvSpPr>
          <p:spPr>
            <a:xfrm>
              <a:off x="609480" y="50292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9480" y="403848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9600" y="2733840"/>
            <a:ext cx="6183360" cy="225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9680" y="1447920"/>
            <a:ext cx="31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5800" y="3962160"/>
            <a:ext cx="1752480" cy="1480680"/>
            <a:chOff x="685800" y="3962160"/>
            <a:chExt cx="1752480" cy="1480680"/>
          </a:xfrm>
        </p:grpSpPr>
        <p:sp>
          <p:nvSpPr>
            <p:cNvPr id="84" name=""/>
            <p:cNvSpPr/>
            <p:nvPr/>
          </p:nvSpPr>
          <p:spPr>
            <a:xfrm>
              <a:off x="685800" y="510552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800" y="396216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0800" y="2548080"/>
            <a:ext cx="6240600" cy="262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5800" y="1447920"/>
            <a:ext cx="66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ree integer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520" y="3505320"/>
            <a:ext cx="3734280" cy="914400"/>
            <a:chOff x="4952520" y="3505320"/>
            <a:chExt cx="3734280" cy="914400"/>
          </a:xfrm>
        </p:grpSpPr>
        <p:sp>
          <p:nvSpPr>
            <p:cNvPr id="90" name=""/>
            <p:cNvSpPr/>
            <p:nvPr/>
          </p:nvSpPr>
          <p:spPr>
            <a:xfrm>
              <a:off x="6248520" y="3657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028840" y="3505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105160" y="38862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952520" y="388620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0800" y="2952720"/>
            <a:ext cx="6240600" cy="181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3280" y="1461960"/>
            <a:ext cx="70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integer arguments when 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4266720"/>
            <a:ext cx="2743200" cy="1266840"/>
            <a:chOff x="609480" y="4266720"/>
            <a:chExt cx="2743200" cy="1266840"/>
          </a:xfrm>
        </p:grpSpPr>
        <p:sp>
          <p:nvSpPr>
            <p:cNvPr id="98" name=""/>
            <p:cNvSpPr/>
            <p:nvPr/>
          </p:nvSpPr>
          <p:spPr>
            <a:xfrm>
              <a:off x="6094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and displaying the largest of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914400" y="426672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50800" y="2552760"/>
            <a:ext cx="6240600" cy="261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5080" y="1447920"/>
            <a:ext cx="72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ree floating-point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90960" y="3505320"/>
            <a:ext cx="3124440" cy="838080"/>
            <a:chOff x="5790960" y="3505320"/>
            <a:chExt cx="3124440" cy="838080"/>
          </a:xfrm>
        </p:grpSpPr>
        <p:sp>
          <p:nvSpPr>
            <p:cNvPr id="104" name=""/>
            <p:cNvSpPr/>
            <p:nvPr/>
          </p:nvSpPr>
          <p:spPr>
            <a:xfrm>
              <a:off x="6324480" y="35053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ree floating-point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943600" y="3886200"/>
              <a:ext cx="380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867280" y="38862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790960" y="35053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50800" y="2871720"/>
            <a:ext cx="624060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6880" y="1461960"/>
            <a:ext cx="72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gument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560" y="4191120"/>
            <a:ext cx="3200760" cy="1342440"/>
            <a:chOff x="4876560" y="4191120"/>
            <a:chExt cx="3200760" cy="1342440"/>
          </a:xfrm>
        </p:grpSpPr>
        <p:sp>
          <p:nvSpPr>
            <p:cNvPr id="112" name=""/>
            <p:cNvSpPr/>
            <p:nvPr/>
          </p:nvSpPr>
          <p:spPr>
            <a:xfrm>
              <a:off x="533412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and displaying the largest of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876560" y="4191120"/>
              <a:ext cx="23619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3640" y="1461960"/>
            <a:ext cx="52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105520" y="3429000"/>
            <a:ext cx="3733560" cy="580680"/>
            <a:chOff x="5105520" y="3429000"/>
            <a:chExt cx="3733560" cy="580680"/>
          </a:xfrm>
        </p:grpSpPr>
        <p:sp>
          <p:nvSpPr>
            <p:cNvPr id="118" name=""/>
            <p:cNvSpPr/>
            <p:nvPr/>
          </p:nvSpPr>
          <p:spPr>
            <a:xfrm>
              <a:off x="5943600" y="34290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05520" y="36576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50800" y="2157480"/>
            <a:ext cx="6240600" cy="340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2200" y="1447920"/>
            <a:ext cx="43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largest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00400" y="4343400"/>
            <a:ext cx="5181480" cy="533520"/>
            <a:chOff x="3200400" y="4343400"/>
            <a:chExt cx="5181480" cy="533520"/>
          </a:xfrm>
        </p:grpSpPr>
        <p:sp>
          <p:nvSpPr>
            <p:cNvPr id="124" name=""/>
            <p:cNvSpPr/>
            <p:nvPr/>
          </p:nvSpPr>
          <p:spPr>
            <a:xfrm>
              <a:off x="6324480" y="4343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valu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200400" y="4419720"/>
              <a:ext cx="3124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09520" y="3352680"/>
            <a:ext cx="3962880" cy="762120"/>
            <a:chOff x="3809520" y="3352680"/>
            <a:chExt cx="3962880" cy="762120"/>
          </a:xfrm>
        </p:grpSpPr>
        <p:sp>
          <p:nvSpPr>
            <p:cNvPr id="127" name=""/>
            <p:cNvSpPr/>
            <p:nvPr/>
          </p:nvSpPr>
          <p:spPr>
            <a:xfrm>
              <a:off x="495288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ing which value is the grea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885840" y="34286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809520" y="3657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function templates to create a group of related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lass templates to create a group of related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the concept of generic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840" y="1461960"/>
            <a:ext cx="47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rmal type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are parameteriz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one or more type parameters to generate a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ass Templat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ng a “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ocery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800360"/>
            <a:ext cx="3057480" cy="277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4248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904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01720" y="1752480"/>
            <a:ext cx="573876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1840" y="1447920"/>
            <a:ext cx="49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template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1447920"/>
            <a:ext cx="4419720" cy="914400"/>
            <a:chOff x="3657600" y="1447920"/>
            <a:chExt cx="4419720" cy="914400"/>
          </a:xfrm>
        </p:grpSpPr>
        <p:sp>
          <p:nvSpPr>
            <p:cNvPr id="146" name=""/>
            <p:cNvSpPr/>
            <p:nvPr/>
          </p:nvSpPr>
          <p:spPr>
            <a:xfrm>
              <a:off x="54100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 formal type parameter for a class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657600" y="2057400"/>
              <a:ext cx="1905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886200" y="2209680"/>
            <a:ext cx="4419720" cy="762120"/>
            <a:chOff x="3886200" y="2209680"/>
            <a:chExt cx="4419720" cy="762120"/>
          </a:xfrm>
        </p:grpSpPr>
        <p:sp>
          <p:nvSpPr>
            <p:cNvPr id="149" name=""/>
            <p:cNvSpPr/>
            <p:nvPr/>
          </p:nvSpPr>
          <p:spPr>
            <a:xfrm>
              <a:off x="5791320" y="2209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one-argument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886200" y="2819520"/>
              <a:ext cx="1905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352680" y="2971800"/>
            <a:ext cx="5486400" cy="609480"/>
            <a:chOff x="3352680" y="2971800"/>
            <a:chExt cx="5486400" cy="609480"/>
          </a:xfrm>
        </p:grpSpPr>
        <p:sp>
          <p:nvSpPr>
            <p:cNvPr id="152" name=""/>
            <p:cNvSpPr/>
            <p:nvPr/>
          </p:nvSpPr>
          <p:spPr>
            <a:xfrm>
              <a:off x="6172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52680" y="3505320"/>
              <a:ext cx="2819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343040" y="4876560"/>
            <a:ext cx="4496040" cy="733320"/>
            <a:chOff x="4343040" y="4876560"/>
            <a:chExt cx="4496040" cy="733320"/>
          </a:xfrm>
        </p:grpSpPr>
        <p:sp>
          <p:nvSpPr>
            <p:cNvPr id="155" name=""/>
            <p:cNvSpPr/>
            <p:nvPr/>
          </p:nvSpPr>
          <p:spPr>
            <a:xfrm>
              <a:off x="5943600" y="50292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member functions that display statistical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343040" y="48765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29000" y="5486400"/>
            <a:ext cx="5105520" cy="718200"/>
            <a:chOff x="3429000" y="5486400"/>
            <a:chExt cx="5105520" cy="718200"/>
          </a:xfrm>
        </p:grpSpPr>
        <p:sp>
          <p:nvSpPr>
            <p:cNvPr id="158" name=""/>
            <p:cNvSpPr/>
            <p:nvPr/>
          </p:nvSpPr>
          <p:spPr>
            <a:xfrm>
              <a:off x="5486400" y="586728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429000" y="548640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9600" y="2309760"/>
            <a:ext cx="6183360" cy="3105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720" y="1447920"/>
            <a:ext cx="69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’s one-argument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14800" y="2057400"/>
            <a:ext cx="4724280" cy="1219320"/>
            <a:chOff x="4114800" y="2057400"/>
            <a:chExt cx="4724280" cy="1219320"/>
          </a:xfrm>
        </p:grpSpPr>
        <p:sp>
          <p:nvSpPr>
            <p:cNvPr id="164" name=""/>
            <p:cNvSpPr/>
            <p:nvPr/>
          </p:nvSpPr>
          <p:spPr>
            <a:xfrm>
              <a:off x="4800600" y="20574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14800" y="2590920"/>
              <a:ext cx="3124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48320" y="3885840"/>
            <a:ext cx="4190760" cy="1891080"/>
            <a:chOff x="4648320" y="3885840"/>
            <a:chExt cx="4190760" cy="1891080"/>
          </a:xfrm>
        </p:grpSpPr>
        <p:sp>
          <p:nvSpPr>
            <p:cNvPr id="167" name=""/>
            <p:cNvSpPr/>
            <p:nvPr/>
          </p:nvSpPr>
          <p:spPr>
            <a:xfrm>
              <a:off x="5791320" y="4952880"/>
              <a:ext cx="30477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ynamically allocate memory for an array of element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648320" y="3885840"/>
              <a:ext cx="3962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0880" y="4648320"/>
            <a:ext cx="2362320" cy="1175400"/>
            <a:chOff x="380880" y="4648320"/>
            <a:chExt cx="2362320" cy="1175400"/>
          </a:xfrm>
        </p:grpSpPr>
        <p:sp>
          <p:nvSpPr>
            <p:cNvPr id="170" name=""/>
            <p:cNvSpPr/>
            <p:nvPr/>
          </p:nvSpPr>
          <p:spPr>
            <a:xfrm>
              <a:off x="380880" y="5486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ing all grad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143000" y="464832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420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in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76360" y="2209680"/>
            <a:ext cx="5258160" cy="990720"/>
            <a:chOff x="3276360" y="2209680"/>
            <a:chExt cx="5258160" cy="990720"/>
          </a:xfrm>
        </p:grpSpPr>
        <p:sp>
          <p:nvSpPr>
            <p:cNvPr id="176" name=""/>
            <p:cNvSpPr/>
            <p:nvPr/>
          </p:nvSpPr>
          <p:spPr>
            <a:xfrm>
              <a:off x="6172200" y="22096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small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76360" y="2743200"/>
              <a:ext cx="2895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257440" y="3276720"/>
            <a:ext cx="3657960" cy="580680"/>
            <a:chOff x="5257440" y="3276720"/>
            <a:chExt cx="3657960" cy="580680"/>
          </a:xfrm>
        </p:grpSpPr>
        <p:sp>
          <p:nvSpPr>
            <p:cNvPr id="179" name=""/>
            <p:cNvSpPr/>
            <p:nvPr/>
          </p:nvSpPr>
          <p:spPr>
            <a:xfrm>
              <a:off x="6400800" y="32767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25744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72000" y="4647960"/>
            <a:ext cx="4267080" cy="961920"/>
            <a:chOff x="4572000" y="4647960"/>
            <a:chExt cx="4267080" cy="961920"/>
          </a:xfrm>
        </p:grpSpPr>
        <p:sp>
          <p:nvSpPr>
            <p:cNvPr id="182" name=""/>
            <p:cNvSpPr/>
            <p:nvPr/>
          </p:nvSpPr>
          <p:spPr>
            <a:xfrm>
              <a:off x="586728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small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572000" y="464796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438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76360" y="2362320"/>
            <a:ext cx="5562720" cy="824040"/>
            <a:chOff x="3276360" y="2362320"/>
            <a:chExt cx="5562720" cy="824040"/>
          </a:xfrm>
        </p:grpSpPr>
        <p:sp>
          <p:nvSpPr>
            <p:cNvPr id="188" name=""/>
            <p:cNvSpPr/>
            <p:nvPr/>
          </p:nvSpPr>
          <p:spPr>
            <a:xfrm>
              <a:off x="6553080" y="23623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high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76360" y="2590920"/>
              <a:ext cx="3276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440" y="3657600"/>
            <a:ext cx="3657960" cy="657000"/>
            <a:chOff x="5257440" y="3657600"/>
            <a:chExt cx="3657960" cy="657000"/>
          </a:xfrm>
        </p:grpSpPr>
        <p:sp>
          <p:nvSpPr>
            <p:cNvPr id="191" name=""/>
            <p:cNvSpPr/>
            <p:nvPr/>
          </p:nvSpPr>
          <p:spPr>
            <a:xfrm>
              <a:off x="6400800" y="3733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257440" y="36576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33920" y="4724280"/>
            <a:ext cx="4724280" cy="580680"/>
            <a:chOff x="3733920" y="4724280"/>
            <a:chExt cx="4724280" cy="580680"/>
          </a:xfrm>
        </p:grpSpPr>
        <p:sp>
          <p:nvSpPr>
            <p:cNvPr id="194" name=""/>
            <p:cNvSpPr/>
            <p:nvPr/>
          </p:nvSpPr>
          <p:spPr>
            <a:xfrm>
              <a:off x="548640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larg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73392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9600" y="2157480"/>
            <a:ext cx="6183360" cy="340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3280" y="14619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429000" y="2666880"/>
            <a:ext cx="4876920" cy="762120"/>
            <a:chOff x="3429000" y="2666880"/>
            <a:chExt cx="4876920" cy="762120"/>
          </a:xfrm>
        </p:grpSpPr>
        <p:sp>
          <p:nvSpPr>
            <p:cNvPr id="200" name=""/>
            <p:cNvSpPr/>
            <p:nvPr/>
          </p:nvSpPr>
          <p:spPr>
            <a:xfrm>
              <a:off x="5257800" y="26668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nd initializ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29000" y="320040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352320" y="3809880"/>
            <a:ext cx="5258160" cy="580680"/>
            <a:chOff x="3352320" y="3809880"/>
            <a:chExt cx="5258160" cy="580680"/>
          </a:xfrm>
        </p:grpSpPr>
        <p:sp>
          <p:nvSpPr>
            <p:cNvPr id="203" name=""/>
            <p:cNvSpPr/>
            <p:nvPr/>
          </p:nvSpPr>
          <p:spPr>
            <a:xfrm>
              <a:off x="5867280" y="3809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mming the values of all the element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352320" y="4038480"/>
              <a:ext cx="2514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04960" y="4876920"/>
            <a:ext cx="5105520" cy="885240"/>
            <a:chOff x="3504960" y="4876920"/>
            <a:chExt cx="5105520" cy="885240"/>
          </a:xfrm>
        </p:grpSpPr>
        <p:sp>
          <p:nvSpPr>
            <p:cNvPr id="206" name=""/>
            <p:cNvSpPr/>
            <p:nvPr/>
          </p:nvSpPr>
          <p:spPr>
            <a:xfrm>
              <a:off x="5410080" y="5181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vi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alculate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04960" y="4876920"/>
              <a:ext cx="2819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9600" y="2400480"/>
            <a:ext cx="6183360" cy="2923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5080" y="1461960"/>
            <a:ext cx="59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Statis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91320" y="3276720"/>
            <a:ext cx="2895480" cy="533160"/>
            <a:chOff x="5791320" y="3276720"/>
            <a:chExt cx="2895480" cy="533160"/>
          </a:xfrm>
        </p:grpSpPr>
        <p:sp>
          <p:nvSpPr>
            <p:cNvPr id="212" name=""/>
            <p:cNvSpPr/>
            <p:nvPr/>
          </p:nvSpPr>
          <p:spPr>
            <a:xfrm>
              <a:off x="6095880" y="32767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ting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791320" y="3429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562720" y="4648320"/>
            <a:ext cx="2590560" cy="1342440"/>
            <a:chOff x="5562720" y="4648320"/>
            <a:chExt cx="2590560" cy="1342440"/>
          </a:xfrm>
        </p:grpSpPr>
        <p:sp>
          <p:nvSpPr>
            <p:cNvPr id="215" name=""/>
            <p:cNvSpPr/>
            <p:nvPr/>
          </p:nvSpPr>
          <p:spPr>
            <a:xfrm>
              <a:off x="5562720" y="54100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ting the minimum and maximum 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5943240" y="46483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84280" y="2743200"/>
            <a:ext cx="6174000" cy="1476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10760" y="1447920"/>
            <a:ext cx="71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 and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3580920"/>
            <a:ext cx="3200400" cy="1266840"/>
            <a:chOff x="457200" y="3580920"/>
            <a:chExt cx="3200400" cy="1266840"/>
          </a:xfrm>
        </p:grpSpPr>
        <p:sp>
          <p:nvSpPr>
            <p:cNvPr id="221" name=""/>
            <p:cNvSpPr/>
            <p:nvPr/>
          </p:nvSpPr>
          <p:spPr>
            <a:xfrm>
              <a:off x="457200" y="42670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62120" y="35809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84360" y="5334120"/>
            <a:ext cx="776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mplates require clients to explicitly include thei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 as well as thei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79600" y="3052800"/>
            <a:ext cx="618336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4720" y="1461960"/>
            <a:ext cx="61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80880" y="4114440"/>
            <a:ext cx="2971800" cy="1190520"/>
            <a:chOff x="380880" y="4114440"/>
            <a:chExt cx="2971800" cy="1190520"/>
          </a:xfrm>
        </p:grpSpPr>
        <p:sp>
          <p:nvSpPr>
            <p:cNvPr id="228" name=""/>
            <p:cNvSpPr/>
            <p:nvPr/>
          </p:nvSpPr>
          <p:spPr>
            <a:xfrm>
              <a:off x="380880" y="4724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4114440"/>
              <a:ext cx="1524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4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50800" y="2476440"/>
            <a:ext cx="6240600" cy="277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14360" y="146196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Book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520" y="3885840"/>
            <a:ext cx="3809880" cy="1861560"/>
            <a:chOff x="533520" y="3885840"/>
            <a:chExt cx="3809880" cy="1861560"/>
          </a:xfrm>
        </p:grpSpPr>
        <p:sp>
          <p:nvSpPr>
            <p:cNvPr id="234" name=""/>
            <p:cNvSpPr/>
            <p:nvPr/>
          </p:nvSpPr>
          <p:spPr>
            <a:xfrm>
              <a:off x="533520" y="5410080"/>
              <a:ext cx="3809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33520" y="3885840"/>
              <a:ext cx="2057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657600" y="4419360"/>
            <a:ext cx="4495680" cy="1571400"/>
            <a:chOff x="3657600" y="4419360"/>
            <a:chExt cx="4495680" cy="1571400"/>
          </a:xfrm>
        </p:grpSpPr>
        <p:sp>
          <p:nvSpPr>
            <p:cNvPr id="237" name=""/>
            <p:cNvSpPr/>
            <p:nvPr/>
          </p:nvSpPr>
          <p:spPr>
            <a:xfrm>
              <a:off x="541008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657600" y="4419360"/>
              <a:ext cx="2819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8" dur="1" fill="hold"/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50800" y="2386080"/>
            <a:ext cx="6240600" cy="2952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5080" y="1461960"/>
            <a:ext cx="62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Book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3962160"/>
            <a:ext cx="2971800" cy="2028600"/>
            <a:chOff x="304920" y="3962160"/>
            <a:chExt cx="2971800" cy="2028600"/>
          </a:xfrm>
        </p:grpSpPr>
        <p:sp>
          <p:nvSpPr>
            <p:cNvPr id="243" name=""/>
            <p:cNvSpPr/>
            <p:nvPr/>
          </p:nvSpPr>
          <p:spPr>
            <a:xfrm>
              <a:off x="304920" y="5410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ing a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4920" y="396216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57600" y="4495680"/>
            <a:ext cx="4267080" cy="1495080"/>
            <a:chOff x="3657600" y="4495680"/>
            <a:chExt cx="4267080" cy="1495080"/>
          </a:xfrm>
        </p:grpSpPr>
        <p:sp>
          <p:nvSpPr>
            <p:cNvPr id="246" name=""/>
            <p:cNvSpPr/>
            <p:nvPr/>
          </p:nvSpPr>
          <p:spPr>
            <a:xfrm>
              <a:off x="518148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657600" y="4495680"/>
              <a:ext cx="2743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2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355840" y="1752480"/>
            <a:ext cx="44308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15440" y="1447920"/>
            <a:ext cx="55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4920" y="2438280"/>
            <a:ext cx="2666880" cy="580680"/>
            <a:chOff x="304920" y="2438280"/>
            <a:chExt cx="2666880" cy="580680"/>
          </a:xfrm>
        </p:grpSpPr>
        <p:sp>
          <p:nvSpPr>
            <p:cNvPr id="252" name=""/>
            <p:cNvSpPr/>
            <p:nvPr/>
          </p:nvSpPr>
          <p:spPr>
            <a:xfrm>
              <a:off x="304920" y="24382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variable to store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0" y="26668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600" y="3580920"/>
            <a:ext cx="2743200" cy="657360"/>
            <a:chOff x="228600" y="3580920"/>
            <a:chExt cx="2743200" cy="657360"/>
          </a:xfrm>
        </p:grpSpPr>
        <p:sp>
          <p:nvSpPr>
            <p:cNvPr id="255" name=""/>
            <p:cNvSpPr/>
            <p:nvPr/>
          </p:nvSpPr>
          <p:spPr>
            <a:xfrm>
              <a:off x="228600" y="36576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ing once for each student in the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286000" y="35809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3581280"/>
            <a:ext cx="3886200" cy="580680"/>
            <a:chOff x="4952880" y="3581280"/>
            <a:chExt cx="3886200" cy="580680"/>
          </a:xfrm>
        </p:grpSpPr>
        <p:sp>
          <p:nvSpPr>
            <p:cNvPr id="258" name=""/>
            <p:cNvSpPr/>
            <p:nvPr/>
          </p:nvSpPr>
          <p:spPr>
            <a:xfrm>
              <a:off x="6400800" y="35812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952880" y="3886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105520" y="4343040"/>
            <a:ext cx="3581280" cy="581040"/>
            <a:chOff x="5105520" y="4343040"/>
            <a:chExt cx="3581280" cy="581040"/>
          </a:xfrm>
        </p:grpSpPr>
        <p:sp>
          <p:nvSpPr>
            <p:cNvPr id="261" name=""/>
            <p:cNvSpPr/>
            <p:nvPr/>
          </p:nvSpPr>
          <p:spPr>
            <a:xfrm>
              <a:off x="6477120" y="43434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until the user inputs a valid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105520" y="434304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105160" y="5410080"/>
            <a:ext cx="3505320" cy="580680"/>
            <a:chOff x="5105160" y="5410080"/>
            <a:chExt cx="3505320" cy="580680"/>
          </a:xfrm>
        </p:grpSpPr>
        <p:sp>
          <p:nvSpPr>
            <p:cNvPr id="264" name=""/>
            <p:cNvSpPr/>
            <p:nvPr/>
          </p:nvSpPr>
          <p:spPr>
            <a:xfrm>
              <a:off x="5791320" y="54100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ing the grad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16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1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479600" y="2800440"/>
            <a:ext cx="6183360" cy="2124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12920" y="1461960"/>
            <a:ext cx="83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grades and statistic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3809520"/>
            <a:ext cx="2895480" cy="1633320"/>
            <a:chOff x="457200" y="3809520"/>
            <a:chExt cx="2895480" cy="1633320"/>
          </a:xfrm>
        </p:grpSpPr>
        <p:sp>
          <p:nvSpPr>
            <p:cNvPr id="270" name=""/>
            <p:cNvSpPr/>
            <p:nvPr/>
          </p:nvSpPr>
          <p:spPr>
            <a:xfrm>
              <a:off x="457200" y="51055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grade report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57200" y="38095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48320" y="4419360"/>
            <a:ext cx="3733560" cy="947160"/>
            <a:chOff x="4648320" y="4419360"/>
            <a:chExt cx="3733560" cy="947160"/>
          </a:xfrm>
        </p:grpSpPr>
        <p:sp>
          <p:nvSpPr>
            <p:cNvPr id="273" name=""/>
            <p:cNvSpPr/>
            <p:nvPr/>
          </p:nvSpPr>
          <p:spPr>
            <a:xfrm>
              <a:off x="5562720" y="50292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grades and statis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4648320" y="441936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5" dur="1" fill="hold"/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66880" y="1905120"/>
            <a:ext cx="5610240" cy="4019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5440" y="1447920"/>
            <a:ext cx="61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integer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6880" y="1828800"/>
            <a:ext cx="5610240" cy="424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14360" y="1447920"/>
            <a:ext cx="76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when entering floating-point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0866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1080" y="2362320"/>
            <a:ext cx="6248520" cy="580680"/>
            <a:chOff x="1981080" y="2362320"/>
            <a:chExt cx="6248520" cy="580680"/>
          </a:xfrm>
        </p:grpSpPr>
        <p:sp>
          <p:nvSpPr>
            <p:cNvPr id="285" name=""/>
            <p:cNvSpPr/>
            <p:nvPr/>
          </p:nvSpPr>
          <p:spPr>
            <a:xfrm>
              <a:off x="533412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class template with one formal typ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981080" y="2590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981080" y="3429000"/>
            <a:ext cx="5639040" cy="580680"/>
            <a:chOff x="1981080" y="3429000"/>
            <a:chExt cx="5639040" cy="580680"/>
          </a:xfrm>
        </p:grpSpPr>
        <p:sp>
          <p:nvSpPr>
            <p:cNvPr id="288" name=""/>
            <p:cNvSpPr/>
            <p:nvPr/>
          </p:nvSpPr>
          <p:spPr>
            <a:xfrm>
              <a:off x="5257800" y="342900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one-argument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1981080" y="3505320"/>
              <a:ext cx="3276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752120" y="4266720"/>
            <a:ext cx="4115160" cy="885960"/>
            <a:chOff x="1752120" y="4266720"/>
            <a:chExt cx="4115160" cy="885960"/>
          </a:xfrm>
        </p:grpSpPr>
        <p:sp>
          <p:nvSpPr>
            <p:cNvPr id="291" name=""/>
            <p:cNvSpPr/>
            <p:nvPr/>
          </p:nvSpPr>
          <p:spPr>
            <a:xfrm>
              <a:off x="3352680" y="45720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752120" y="426672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0866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514600" y="304920"/>
            <a:ext cx="6248520" cy="580680"/>
            <a:chOff x="2514600" y="304920"/>
            <a:chExt cx="6248520" cy="580680"/>
          </a:xfrm>
        </p:grpSpPr>
        <p:sp>
          <p:nvSpPr>
            <p:cNvPr id="297" name=""/>
            <p:cNvSpPr/>
            <p:nvPr/>
          </p:nvSpPr>
          <p:spPr>
            <a:xfrm>
              <a:off x="6248520" y="3049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514600" y="45720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885840" y="1523520"/>
            <a:ext cx="4800960" cy="977040"/>
            <a:chOff x="3885840" y="1523520"/>
            <a:chExt cx="4800960" cy="977040"/>
          </a:xfrm>
        </p:grpSpPr>
        <p:sp>
          <p:nvSpPr>
            <p:cNvPr id="300" name=""/>
            <p:cNvSpPr/>
            <p:nvPr/>
          </p:nvSpPr>
          <p:spPr>
            <a:xfrm>
              <a:off x="5867280" y="16765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member function and member function templates that display statistical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52352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8" dur="1" fill="hold"/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2200" y="1447920"/>
            <a:ext cx="58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de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62320" y="3352680"/>
            <a:ext cx="5943600" cy="580680"/>
            <a:chOff x="2362320" y="3352680"/>
            <a:chExt cx="5943600" cy="580680"/>
          </a:xfrm>
        </p:grpSpPr>
        <p:sp>
          <p:nvSpPr>
            <p:cNvPr id="306" name=""/>
            <p:cNvSpPr/>
            <p:nvPr/>
          </p:nvSpPr>
          <p:spPr>
            <a:xfrm>
              <a:off x="548640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2362320" y="3504960"/>
              <a:ext cx="3124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95480" y="4191120"/>
            <a:ext cx="5715000" cy="824040"/>
            <a:chOff x="2895480" y="4191120"/>
            <a:chExt cx="5715000" cy="824040"/>
          </a:xfrm>
        </p:grpSpPr>
        <p:sp>
          <p:nvSpPr>
            <p:cNvPr id="309" name=""/>
            <p:cNvSpPr/>
            <p:nvPr/>
          </p:nvSpPr>
          <p:spPr>
            <a:xfrm>
              <a:off x="5638680" y="419112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ynamically allocate memory for an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895480" y="4266720"/>
              <a:ext cx="2743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209680" y="5486400"/>
            <a:ext cx="5562720" cy="642240"/>
            <a:chOff x="2209680" y="5486400"/>
            <a:chExt cx="5562720" cy="642240"/>
          </a:xfrm>
        </p:grpSpPr>
        <p:sp>
          <p:nvSpPr>
            <p:cNvPr id="312" name=""/>
            <p:cNvSpPr/>
            <p:nvPr/>
          </p:nvSpPr>
          <p:spPr>
            <a:xfrm>
              <a:off x="5562720" y="57913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ll grad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2209680" y="5486400"/>
              <a:ext cx="3353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7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90920" y="228600"/>
            <a:ext cx="5105160" cy="762120"/>
            <a:chOff x="2590920" y="228600"/>
            <a:chExt cx="5105160" cy="762120"/>
          </a:xfrm>
        </p:grpSpPr>
        <p:sp>
          <p:nvSpPr>
            <p:cNvPr id="324" name=""/>
            <p:cNvSpPr/>
            <p:nvPr/>
          </p:nvSpPr>
          <p:spPr>
            <a:xfrm>
              <a:off x="4724280" y="228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small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590920" y="457200"/>
              <a:ext cx="21333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733920" y="1676520"/>
            <a:ext cx="4572000" cy="580680"/>
            <a:chOff x="3733920" y="1676520"/>
            <a:chExt cx="4572000" cy="580680"/>
          </a:xfrm>
        </p:grpSpPr>
        <p:sp>
          <p:nvSpPr>
            <p:cNvPr id="327" name=""/>
            <p:cNvSpPr/>
            <p:nvPr/>
          </p:nvSpPr>
          <p:spPr>
            <a:xfrm>
              <a:off x="5943600" y="16765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e over the remaining element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733920" y="1752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057400" y="3123720"/>
            <a:ext cx="5943600" cy="1266840"/>
            <a:chOff x="2057400" y="3123720"/>
            <a:chExt cx="5943600" cy="1266840"/>
          </a:xfrm>
        </p:grpSpPr>
        <p:sp>
          <p:nvSpPr>
            <p:cNvPr id="330" name=""/>
            <p:cNvSpPr/>
            <p:nvPr/>
          </p:nvSpPr>
          <p:spPr>
            <a:xfrm>
              <a:off x="5181480" y="38098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w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small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2057400" y="3123720"/>
              <a:ext cx="3124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666880" y="1143000"/>
            <a:ext cx="5867640" cy="1114200"/>
            <a:chOff x="2666880" y="1143000"/>
            <a:chExt cx="5867640" cy="1114200"/>
          </a:xfrm>
        </p:grpSpPr>
        <p:sp>
          <p:nvSpPr>
            <p:cNvPr id="336" name=""/>
            <p:cNvSpPr/>
            <p:nvPr/>
          </p:nvSpPr>
          <p:spPr>
            <a:xfrm>
              <a:off x="5410080" y="167652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ntain the largest value encountered so f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2666880" y="1143000"/>
              <a:ext cx="2895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37920" y="3428640"/>
            <a:ext cx="5334480" cy="1038240"/>
            <a:chOff x="2437920" y="3428640"/>
            <a:chExt cx="5334480" cy="1038240"/>
          </a:xfrm>
        </p:grpSpPr>
        <p:sp>
          <p:nvSpPr>
            <p:cNvPr id="339" name=""/>
            <p:cNvSpPr/>
            <p:nvPr/>
          </p:nvSpPr>
          <p:spPr>
            <a:xfrm>
              <a:off x="4952880" y="38862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gh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a larger value is 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2437920" y="3428640"/>
              <a:ext cx="2514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0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1142640"/>
            <a:ext cx="5638680" cy="1114560"/>
            <a:chOff x="2057400" y="1142640"/>
            <a:chExt cx="5638680" cy="1114560"/>
          </a:xfrm>
        </p:grpSpPr>
        <p:sp>
          <p:nvSpPr>
            <p:cNvPr id="345" name=""/>
            <p:cNvSpPr/>
            <p:nvPr/>
          </p:nvSpPr>
          <p:spPr>
            <a:xfrm>
              <a:off x="5334120" y="16765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057400" y="1142640"/>
              <a:ext cx="3276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752480" y="2362320"/>
            <a:ext cx="6858000" cy="580680"/>
            <a:chOff x="1752480" y="2362320"/>
            <a:chExt cx="6858000" cy="580680"/>
          </a:xfrm>
        </p:grpSpPr>
        <p:sp>
          <p:nvSpPr>
            <p:cNvPr id="348" name=""/>
            <p:cNvSpPr/>
            <p:nvPr/>
          </p:nvSpPr>
          <p:spPr>
            <a:xfrm>
              <a:off x="5562720" y="236232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m the values of all the elements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1752480" y="2362320"/>
              <a:ext cx="3810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361960" y="3047760"/>
            <a:ext cx="5105520" cy="1114200"/>
            <a:chOff x="2361960" y="3047760"/>
            <a:chExt cx="5105520" cy="1114200"/>
          </a:xfrm>
        </p:grpSpPr>
        <p:sp>
          <p:nvSpPr>
            <p:cNvPr id="351" name=""/>
            <p:cNvSpPr/>
            <p:nvPr/>
          </p:nvSpPr>
          <p:spPr>
            <a:xfrm>
              <a:off x="4419720" y="35812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v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alculate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2361960" y="3047760"/>
              <a:ext cx="297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685656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086600" y="1066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.cpp 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0" y="457200"/>
            <a:ext cx="3657600" cy="685800"/>
            <a:chOff x="4572000" y="457200"/>
            <a:chExt cx="3657600" cy="685800"/>
          </a:xfrm>
        </p:grpSpPr>
        <p:sp>
          <p:nvSpPr>
            <p:cNvPr id="357" name=""/>
            <p:cNvSpPr/>
            <p:nvPr/>
          </p:nvSpPr>
          <p:spPr>
            <a:xfrm>
              <a:off x="5943600" y="457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averag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572000" y="6094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571640" y="1600200"/>
            <a:ext cx="3581640" cy="337320"/>
            <a:chOff x="4571640" y="1600200"/>
            <a:chExt cx="3581640" cy="337320"/>
          </a:xfrm>
        </p:grpSpPr>
        <p:sp>
          <p:nvSpPr>
            <p:cNvPr id="360" name=""/>
            <p:cNvSpPr/>
            <p:nvPr/>
          </p:nvSpPr>
          <p:spPr>
            <a:xfrm>
              <a:off x="5715000" y="160020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minimum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571640" y="1676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95320" y="2286000"/>
            <a:ext cx="2972160" cy="718200"/>
            <a:chOff x="4495320" y="2286000"/>
            <a:chExt cx="2972160" cy="718200"/>
          </a:xfrm>
        </p:grpSpPr>
        <p:sp>
          <p:nvSpPr>
            <p:cNvPr id="363" name=""/>
            <p:cNvSpPr/>
            <p:nvPr/>
          </p:nvSpPr>
          <p:spPr>
            <a:xfrm>
              <a:off x="4952880" y="266688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maximum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4495320" y="228600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8" dur="1" fill="hold"/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0" y="324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286000" y="1828800"/>
            <a:ext cx="5562720" cy="580680"/>
            <a:chOff x="2286000" y="1828800"/>
            <a:chExt cx="5562720" cy="580680"/>
          </a:xfrm>
        </p:grpSpPr>
        <p:sp>
          <p:nvSpPr>
            <p:cNvPr id="369" name=""/>
            <p:cNvSpPr/>
            <p:nvPr/>
          </p:nvSpPr>
          <p:spPr>
            <a:xfrm>
              <a:off x="5562720" y="1828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2286000" y="1904760"/>
              <a:ext cx="3276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80920" y="3200400"/>
            <a:ext cx="4115160" cy="580680"/>
            <a:chOff x="3580920" y="3200400"/>
            <a:chExt cx="4115160" cy="580680"/>
          </a:xfrm>
        </p:grpSpPr>
        <p:sp>
          <p:nvSpPr>
            <p:cNvPr id="372" name=""/>
            <p:cNvSpPr/>
            <p:nvPr/>
          </p:nvSpPr>
          <p:spPr>
            <a:xfrm>
              <a:off x="4876920" y="32004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80920" y="3352680"/>
              <a:ext cx="1295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2" dur="1" fill="hold"/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200040" y="3962520"/>
            <a:ext cx="5639040" cy="580680"/>
            <a:chOff x="3200040" y="3962520"/>
            <a:chExt cx="5639040" cy="580680"/>
          </a:xfrm>
        </p:grpSpPr>
        <p:sp>
          <p:nvSpPr>
            <p:cNvPr id="381" name=""/>
            <p:cNvSpPr/>
            <p:nvPr/>
          </p:nvSpPr>
          <p:spPr>
            <a:xfrm>
              <a:off x="609588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200040" y="4038120"/>
              <a:ext cx="2895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981080" y="4800240"/>
            <a:ext cx="5105520" cy="718560"/>
            <a:chOff x="1981080" y="4800240"/>
            <a:chExt cx="5105520" cy="718560"/>
          </a:xfrm>
        </p:grpSpPr>
        <p:sp>
          <p:nvSpPr>
            <p:cNvPr id="384" name=""/>
            <p:cNvSpPr/>
            <p:nvPr/>
          </p:nvSpPr>
          <p:spPr>
            <a:xfrm>
              <a:off x="3809880" y="518148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1981080" y="4800240"/>
              <a:ext cx="1828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2200" y="1447920"/>
            <a:ext cx="37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the grade 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904760" y="2133360"/>
            <a:ext cx="4572360" cy="1023480"/>
            <a:chOff x="1904760" y="2133360"/>
            <a:chExt cx="4572360" cy="1023480"/>
          </a:xfrm>
        </p:grpSpPr>
        <p:sp>
          <p:nvSpPr>
            <p:cNvPr id="390" name=""/>
            <p:cNvSpPr/>
            <p:nvPr/>
          </p:nvSpPr>
          <p:spPr>
            <a:xfrm>
              <a:off x="3200400" y="281952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cess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1904760" y="213336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33560" y="1447560"/>
            <a:ext cx="4648320" cy="809640"/>
            <a:chOff x="3733560" y="1447560"/>
            <a:chExt cx="4648320" cy="809640"/>
          </a:xfrm>
        </p:grpSpPr>
        <p:sp>
          <p:nvSpPr>
            <p:cNvPr id="393" name=""/>
            <p:cNvSpPr/>
            <p:nvPr/>
          </p:nvSpPr>
          <p:spPr>
            <a:xfrm>
              <a:off x="5257800" y="16765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Book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733560" y="1447560"/>
              <a:ext cx="1523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0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257440" y="1218960"/>
            <a:ext cx="3429360" cy="1038240"/>
            <a:chOff x="5257440" y="1218960"/>
            <a:chExt cx="3429360" cy="1038240"/>
          </a:xfrm>
        </p:grpSpPr>
        <p:sp>
          <p:nvSpPr>
            <p:cNvPr id="399" name=""/>
            <p:cNvSpPr/>
            <p:nvPr/>
          </p:nvSpPr>
          <p:spPr>
            <a:xfrm>
              <a:off x="6781680" y="16765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rate once for each student in the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257440" y="121896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429000" y="1904760"/>
            <a:ext cx="4191120" cy="1114200"/>
            <a:chOff x="3429000" y="1904760"/>
            <a:chExt cx="4191120" cy="1114200"/>
          </a:xfrm>
        </p:grpSpPr>
        <p:sp>
          <p:nvSpPr>
            <p:cNvPr id="402" name=""/>
            <p:cNvSpPr/>
            <p:nvPr/>
          </p:nvSpPr>
          <p:spPr>
            <a:xfrm>
              <a:off x="5791320" y="2438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429000" y="1904760"/>
              <a:ext cx="2362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733560" y="2819520"/>
            <a:ext cx="3429360" cy="1037880"/>
            <a:chOff x="3733560" y="2819520"/>
            <a:chExt cx="3429360" cy="1037880"/>
          </a:xfrm>
        </p:grpSpPr>
        <p:sp>
          <p:nvSpPr>
            <p:cNvPr id="405" name=""/>
            <p:cNvSpPr/>
            <p:nvPr/>
          </p:nvSpPr>
          <p:spPr>
            <a:xfrm>
              <a:off x="5257800" y="327672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the user inputs a valid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733560" y="28195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33560" y="5105520"/>
            <a:ext cx="3429360" cy="580680"/>
            <a:chOff x="3733560" y="5105520"/>
            <a:chExt cx="3429360" cy="580680"/>
          </a:xfrm>
        </p:grpSpPr>
        <p:sp>
          <p:nvSpPr>
            <p:cNvPr id="408" name=""/>
            <p:cNvSpPr/>
            <p:nvPr/>
          </p:nvSpPr>
          <p:spPr>
            <a:xfrm>
              <a:off x="4800600" y="51055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e the grad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Grad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grades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733560" y="5181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4" dur="1" fill="hold"/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6934320" y="1066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deBookManager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352680" y="304920"/>
            <a:ext cx="3353040" cy="337320"/>
            <a:chOff x="3352680" y="304920"/>
            <a:chExt cx="3353040" cy="337320"/>
          </a:xfrm>
        </p:grpSpPr>
        <p:sp>
          <p:nvSpPr>
            <p:cNvPr id="414" name=""/>
            <p:cNvSpPr/>
            <p:nvPr/>
          </p:nvSpPr>
          <p:spPr>
            <a:xfrm>
              <a:off x="4419720" y="3049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grade report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352680" y="304920"/>
              <a:ext cx="10670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742840" y="762120"/>
            <a:ext cx="5105880" cy="337320"/>
            <a:chOff x="2742840" y="762120"/>
            <a:chExt cx="5105880" cy="337320"/>
          </a:xfrm>
        </p:grpSpPr>
        <p:sp>
          <p:nvSpPr>
            <p:cNvPr id="417" name=""/>
            <p:cNvSpPr/>
            <p:nvPr/>
          </p:nvSpPr>
          <p:spPr>
            <a:xfrm>
              <a:off x="5334120" y="762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grades and statis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742840" y="7621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8" dur="1" fill="hold"/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200" y="1447920"/>
            <a:ext cx="29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309760"/>
            <a:ext cx="5610240" cy="31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8600" y="1447920"/>
            <a:ext cx="61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tudents’ grades and class stat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760" y="1447920"/>
            <a:ext cx="50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floating-point grades as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de Boo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1828800"/>
            <a:ext cx="5610240" cy="436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120" y="1447920"/>
            <a:ext cx="65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floating-point grades and displaying the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05:38Z</dcterms:created>
  <dc:creator>Jeffrey Peng</dc:creator>
  <dc:description/>
  <dc:language>en-US</dc:language>
  <cp:lastModifiedBy>Pearson Education</cp:lastModifiedBy>
  <dcterms:modified xsi:type="dcterms:W3CDTF">2004-10-11T14:12:41Z</dcterms:modified>
  <cp:revision>63</cp:revision>
  <dc:subject/>
  <dc:title>Tutorial 21 – Grade Book Application: Introducing Templates</dc:title>
</cp:coreProperties>
</file>