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1.png" ContentType="image/png"/>
  <Override PartName="/ppt/media/image6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9.wmf" ContentType="image/x-wmf"/>
  <Override PartName="/ppt/media/image1.wmf" ContentType="image/x-wmf"/>
  <Override PartName="/ppt/media/image2.png" ContentType="image/png"/>
  <Override PartName="/ppt/media/image4.png" ContentType="image/png"/>
  <Override PartName="/ppt/media/image20.wmf" ContentType="image/x-wmf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D51B-FFEA-4818-A704-434B1ACB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8C3A-9E93-41DE-A00D-8BD1E2CF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D20A-A7B9-4D42-ADEE-A279F3AA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58C6-B455-4A5F-BC51-74FD90A3B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0AB8-81FB-4BA5-9D5B-EF5B4222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BF49-763F-4BDD-92C5-F25AC64C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4758-BCBE-4C06-941B-D843E460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B6B2-EEE6-4DED-9B81-3DA0D1E5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1288-4BEE-40E6-B8DA-C27EFC36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1066-02E2-4CE9-B67A-536675A6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F877-0D2B-461E-9868-940EB4AC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1166-7900-4CD7-98D8-6E69FB24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4D8E-5B40-478D-9C9A-9123434D4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2485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5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torial 9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ome Tax Calcul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pplication: Introducing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ltiple-Selection Statemen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9.1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com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ax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9.2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Introducing th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witch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Multiple-Selection Statement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9.3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come Tax Calculator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9.4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rap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9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come Tax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90480" y="1414440"/>
          <a:ext cx="7737480" cy="514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414440"/>
                    <a:ext cx="773748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9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come Tax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55840" y="2795760"/>
            <a:ext cx="6230880" cy="2133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13280" y="1447920"/>
            <a:ext cx="70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.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variables to contain the tax rate and the yearly sal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09480" y="3886200"/>
            <a:ext cx="1981440" cy="1875960"/>
            <a:chOff x="609480" y="3886200"/>
            <a:chExt cx="1981440" cy="1875960"/>
          </a:xfrm>
        </p:grpSpPr>
        <p:sp>
          <p:nvSpPr>
            <p:cNvPr id="74" name=""/>
            <p:cNvSpPr/>
            <p:nvPr/>
          </p:nvSpPr>
          <p:spPr>
            <a:xfrm>
              <a:off x="609480" y="5181480"/>
              <a:ext cx="1981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ng variables to store user inpu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09480" y="3886200"/>
              <a:ext cx="17528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9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come Tax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455840" y="2881440"/>
            <a:ext cx="6230880" cy="1962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15080" y="1447920"/>
            <a:ext cx="62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.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pting the user for and inputting the yearly sal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57200" y="3886200"/>
            <a:ext cx="2438280" cy="1875960"/>
            <a:chOff x="457200" y="3886200"/>
            <a:chExt cx="2438280" cy="1875960"/>
          </a:xfrm>
        </p:grpSpPr>
        <p:sp>
          <p:nvSpPr>
            <p:cNvPr id="80" name=""/>
            <p:cNvSpPr/>
            <p:nvPr/>
          </p:nvSpPr>
          <p:spPr>
            <a:xfrm>
              <a:off x="457200" y="518148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ing the user for and inputting the yearly sal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457200" y="3886200"/>
              <a:ext cx="18288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" dur="1" fill="hold"/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9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come Tax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50800" y="2376360"/>
            <a:ext cx="6240600" cy="2971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16520" y="1461960"/>
            <a:ext cx="560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.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ng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atement to the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809880" y="4343040"/>
            <a:ext cx="4191120" cy="1724040"/>
            <a:chOff x="3809880" y="4343040"/>
            <a:chExt cx="4191120" cy="1724040"/>
          </a:xfrm>
        </p:grpSpPr>
        <p:sp>
          <p:nvSpPr>
            <p:cNvPr id="86" name=""/>
            <p:cNvSpPr/>
            <p:nvPr/>
          </p:nvSpPr>
          <p:spPr>
            <a:xfrm>
              <a:off x="4952880" y="5486400"/>
              <a:ext cx="3048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ing an error message if the user enters an invalid sal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3809880" y="4343040"/>
              <a:ext cx="13716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" dur="1" fill="hold"/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9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come Tax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50800" y="2862360"/>
            <a:ext cx="6240600" cy="2000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15440" y="1461960"/>
            <a:ext cx="53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.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atement to the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80880" y="2133720"/>
            <a:ext cx="2210040" cy="1523880"/>
            <a:chOff x="380880" y="2133720"/>
            <a:chExt cx="2210040" cy="1523880"/>
          </a:xfrm>
        </p:grpSpPr>
        <p:sp>
          <p:nvSpPr>
            <p:cNvPr id="92" name=""/>
            <p:cNvSpPr/>
            <p:nvPr/>
          </p:nvSpPr>
          <p:spPr>
            <a:xfrm>
              <a:off x="380880" y="213372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eginning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witc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t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0880" y="2743200"/>
              <a:ext cx="22100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6" dur="1" fill="hold"/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9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come Tax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50800" y="2957400"/>
            <a:ext cx="6240600" cy="1809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13280" y="1461960"/>
            <a:ext cx="55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.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abel to the switch stat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191120" y="4114800"/>
            <a:ext cx="3276360" cy="1495080"/>
            <a:chOff x="4191120" y="4114800"/>
            <a:chExt cx="3276360" cy="1495080"/>
          </a:xfrm>
        </p:grpSpPr>
        <p:sp>
          <p:nvSpPr>
            <p:cNvPr id="98" name=""/>
            <p:cNvSpPr/>
            <p:nvPr/>
          </p:nvSpPr>
          <p:spPr>
            <a:xfrm>
              <a:off x="4876920" y="5029200"/>
              <a:ext cx="2590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s the tax rate to 15% 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a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less th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25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4191120" y="4114800"/>
              <a:ext cx="18288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" dur="1" fill="hold"/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9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come Tax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50800" y="1905120"/>
            <a:ext cx="6240600" cy="4209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13280" y="1461960"/>
            <a:ext cx="44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.1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sh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at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791320" y="1371600"/>
            <a:ext cx="2971800" cy="1371600"/>
            <a:chOff x="5791320" y="1371600"/>
            <a:chExt cx="2971800" cy="1371600"/>
          </a:xfrm>
        </p:grpSpPr>
        <p:sp>
          <p:nvSpPr>
            <p:cNvPr id="104" name=""/>
            <p:cNvSpPr/>
            <p:nvPr/>
          </p:nvSpPr>
          <p:spPr>
            <a:xfrm>
              <a:off x="5791320" y="137160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s tax rate to 25% 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a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betwe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25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7499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6629760" y="1981080"/>
              <a:ext cx="21333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28600" y="1828800"/>
            <a:ext cx="2590920" cy="1752480"/>
            <a:chOff x="228600" y="1828800"/>
            <a:chExt cx="2590920" cy="1752480"/>
          </a:xfrm>
        </p:grpSpPr>
        <p:sp>
          <p:nvSpPr>
            <p:cNvPr id="107" name=""/>
            <p:cNvSpPr/>
            <p:nvPr/>
          </p:nvSpPr>
          <p:spPr>
            <a:xfrm>
              <a:off x="228600" y="182880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ultip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labels result in the sam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axR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28%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4920" y="2438280"/>
              <a:ext cx="243828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343400" y="5486040"/>
            <a:ext cx="4572000" cy="809640"/>
            <a:chOff x="4343400" y="5486040"/>
            <a:chExt cx="4572000" cy="809640"/>
          </a:xfrm>
        </p:grpSpPr>
        <p:sp>
          <p:nvSpPr>
            <p:cNvPr id="110" name=""/>
            <p:cNvSpPr/>
            <p:nvPr/>
          </p:nvSpPr>
          <p:spPr>
            <a:xfrm>
              <a:off x="6248520" y="57150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ultip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labels result in the sam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axR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33%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4343400" y="5486040"/>
              <a:ext cx="19051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4" dur="1" fill="hold"/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9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come Tax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450800" y="2666880"/>
            <a:ext cx="6240600" cy="1457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16520" y="1461960"/>
            <a:ext cx="605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.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au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se to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at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33520" y="3495240"/>
            <a:ext cx="2361960" cy="1647720"/>
            <a:chOff x="533520" y="3495240"/>
            <a:chExt cx="2361960" cy="1647720"/>
          </a:xfrm>
        </p:grpSpPr>
        <p:sp>
          <p:nvSpPr>
            <p:cNvPr id="116" name=""/>
            <p:cNvSpPr/>
            <p:nvPr/>
          </p:nvSpPr>
          <p:spPr>
            <a:xfrm>
              <a:off x="533520" y="4562280"/>
              <a:ext cx="2361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efaul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se at the end of th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witch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at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1371600" y="3495240"/>
              <a:ext cx="14479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84360" y="5257800"/>
            <a:ext cx="7769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se is at the end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ody,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tement is un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3" dur="1" fill="hold"/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9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come Tax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50800" y="2948040"/>
            <a:ext cx="6240600" cy="18288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08600" y="1447920"/>
            <a:ext cx="53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.1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ing and displaying the income ta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038480" y="2286000"/>
            <a:ext cx="2438640" cy="1143000"/>
            <a:chOff x="4038480" y="2286000"/>
            <a:chExt cx="2438640" cy="1143000"/>
          </a:xfrm>
        </p:grpSpPr>
        <p:sp>
          <p:nvSpPr>
            <p:cNvPr id="123" name=""/>
            <p:cNvSpPr/>
            <p:nvPr/>
          </p:nvSpPr>
          <p:spPr>
            <a:xfrm>
              <a:off x="4038480" y="2286000"/>
              <a:ext cx="24386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ulating the income ta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95680" y="2666880"/>
              <a:ext cx="1526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962520" y="4419720"/>
            <a:ext cx="3429000" cy="1175400"/>
            <a:chOff x="3962520" y="4419720"/>
            <a:chExt cx="3429000" cy="1175400"/>
          </a:xfrm>
        </p:grpSpPr>
        <p:sp>
          <p:nvSpPr>
            <p:cNvPr id="126" name=""/>
            <p:cNvSpPr/>
            <p:nvPr/>
          </p:nvSpPr>
          <p:spPr>
            <a:xfrm>
              <a:off x="5029200" y="5257800"/>
              <a:ext cx="2362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ing the income ta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3962520" y="4419720"/>
              <a:ext cx="16761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7" dur="1" fill="hold"/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9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come Tax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828800" y="2590920"/>
            <a:ext cx="5610240" cy="1162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14000" y="1447920"/>
            <a:ext cx="579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.1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ome Tax 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828800" y="4038480"/>
            <a:ext cx="561024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bjectiv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tutorial, you will lear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ultiple-selection statement to choose among many alternative a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abels to identify the alternative actions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men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derstand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 types to represent small and large integ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0" y="106668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omeTaxCalculator.cpp (1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0" y="0"/>
          <a:ext cx="6856560" cy="551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5" name=""/>
          <p:cNvGrpSpPr/>
          <p:nvPr/>
        </p:nvGrpSpPr>
        <p:grpSpPr>
          <a:xfrm>
            <a:off x="3048120" y="2590920"/>
            <a:ext cx="4952880" cy="457200"/>
            <a:chOff x="3048120" y="2590920"/>
            <a:chExt cx="4952880" cy="457200"/>
          </a:xfrm>
        </p:grpSpPr>
        <p:sp>
          <p:nvSpPr>
            <p:cNvPr id="136" name=""/>
            <p:cNvSpPr/>
            <p:nvPr/>
          </p:nvSpPr>
          <p:spPr>
            <a:xfrm>
              <a:off x="4800600" y="2590920"/>
              <a:ext cx="3200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e variables to store user inpu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048120" y="2895480"/>
              <a:ext cx="17524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657600" y="3733920"/>
            <a:ext cx="4800600" cy="580680"/>
            <a:chOff x="3657600" y="3733920"/>
            <a:chExt cx="4800600" cy="580680"/>
          </a:xfrm>
        </p:grpSpPr>
        <p:sp>
          <p:nvSpPr>
            <p:cNvPr id="139" name=""/>
            <p:cNvSpPr/>
            <p:nvPr/>
          </p:nvSpPr>
          <p:spPr>
            <a:xfrm>
              <a:off x="5562720" y="373392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 the user for and input the yearly sal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657600" y="4114800"/>
              <a:ext cx="1905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1" dur="1" fill="hold"/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0" y="0"/>
          <a:ext cx="6856560" cy="450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6858000" y="106668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omeTaxCalculator.cpp (2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800240" y="380880"/>
            <a:ext cx="3353040" cy="580680"/>
            <a:chOff x="4800240" y="380880"/>
            <a:chExt cx="3353040" cy="580680"/>
          </a:xfrm>
        </p:grpSpPr>
        <p:sp>
          <p:nvSpPr>
            <p:cNvPr id="145" name=""/>
            <p:cNvSpPr/>
            <p:nvPr/>
          </p:nvSpPr>
          <p:spPr>
            <a:xfrm>
              <a:off x="6324480" y="38088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eginning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witc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t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800240" y="380880"/>
              <a:ext cx="15238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038480" y="1066320"/>
            <a:ext cx="4572000" cy="1190880"/>
            <a:chOff x="4038480" y="1066320"/>
            <a:chExt cx="4572000" cy="1190880"/>
          </a:xfrm>
        </p:grpSpPr>
        <p:sp>
          <p:nvSpPr>
            <p:cNvPr id="148" name=""/>
            <p:cNvSpPr/>
            <p:nvPr/>
          </p:nvSpPr>
          <p:spPr>
            <a:xfrm>
              <a:off x="6019920" y="1676520"/>
              <a:ext cx="2590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the tax rate to 15% 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a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less th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25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4038480" y="1066320"/>
              <a:ext cx="19814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114440" y="2286000"/>
            <a:ext cx="4724640" cy="1418760"/>
            <a:chOff x="4114440" y="2286000"/>
            <a:chExt cx="4724640" cy="1418760"/>
          </a:xfrm>
        </p:grpSpPr>
        <p:sp>
          <p:nvSpPr>
            <p:cNvPr id="151" name=""/>
            <p:cNvSpPr/>
            <p:nvPr/>
          </p:nvSpPr>
          <p:spPr>
            <a:xfrm>
              <a:off x="5562720" y="3124080"/>
              <a:ext cx="3276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the tax rate to 25% 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a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betwe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25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7499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4114440" y="2286000"/>
              <a:ext cx="35053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038480" y="3885840"/>
            <a:ext cx="3353040" cy="1266840"/>
            <a:chOff x="4038480" y="3885840"/>
            <a:chExt cx="3353040" cy="1266840"/>
          </a:xfrm>
        </p:grpSpPr>
        <p:sp>
          <p:nvSpPr>
            <p:cNvPr id="154" name=""/>
            <p:cNvSpPr/>
            <p:nvPr/>
          </p:nvSpPr>
          <p:spPr>
            <a:xfrm>
              <a:off x="4114800" y="4572000"/>
              <a:ext cx="3276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the tax rate to 28% 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a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betwe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75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14999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4038480" y="3885840"/>
              <a:ext cx="10670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5" dur="1" fill="hold"/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0" y="0"/>
          <a:ext cx="6856560" cy="50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6858000" y="106668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omeTaxCalculator.cpp (3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190760" y="1600200"/>
            <a:ext cx="4343760" cy="1114200"/>
            <a:chOff x="4190760" y="1600200"/>
            <a:chExt cx="4343760" cy="1114200"/>
          </a:xfrm>
        </p:grpSpPr>
        <p:sp>
          <p:nvSpPr>
            <p:cNvPr id="160" name=""/>
            <p:cNvSpPr/>
            <p:nvPr/>
          </p:nvSpPr>
          <p:spPr>
            <a:xfrm>
              <a:off x="5257800" y="2133720"/>
              <a:ext cx="3276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the tax rate to 33% 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a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betwe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150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29999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4190760" y="1600200"/>
              <a:ext cx="20574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038120" y="2590560"/>
            <a:ext cx="4420080" cy="1266840"/>
            <a:chOff x="4038120" y="2590560"/>
            <a:chExt cx="4420080" cy="1266840"/>
          </a:xfrm>
        </p:grpSpPr>
        <p:sp>
          <p:nvSpPr>
            <p:cNvPr id="163" name=""/>
            <p:cNvSpPr/>
            <p:nvPr/>
          </p:nvSpPr>
          <p:spPr>
            <a:xfrm>
              <a:off x="6095880" y="3276720"/>
              <a:ext cx="2362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efaul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se at the end of th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witch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at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4038120" y="2590560"/>
              <a:ext cx="20574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505320" y="3581280"/>
            <a:ext cx="5105160" cy="947160"/>
            <a:chOff x="3505320" y="3581280"/>
            <a:chExt cx="5105160" cy="947160"/>
          </a:xfrm>
        </p:grpSpPr>
        <p:sp>
          <p:nvSpPr>
            <p:cNvPr id="166" name=""/>
            <p:cNvSpPr/>
            <p:nvPr/>
          </p:nvSpPr>
          <p:spPr>
            <a:xfrm>
              <a:off x="6324480" y="419112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ulate the income ta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3505320" y="3581280"/>
              <a:ext cx="35812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438280" y="4571640"/>
            <a:ext cx="3733920" cy="947160"/>
            <a:chOff x="2438280" y="4571640"/>
            <a:chExt cx="3733920" cy="947160"/>
          </a:xfrm>
        </p:grpSpPr>
        <p:sp>
          <p:nvSpPr>
            <p:cNvPr id="169" name=""/>
            <p:cNvSpPr/>
            <p:nvPr/>
          </p:nvSpPr>
          <p:spPr>
            <a:xfrm>
              <a:off x="4038480" y="5181480"/>
              <a:ext cx="2133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 the income ta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2438280" y="4571640"/>
              <a:ext cx="19814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9" dur="1" fill="hold"/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0" y="0"/>
          <a:ext cx="6856560" cy="250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25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6858000" y="106668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omeTaxCalculator.cpp (4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209320" y="685440"/>
            <a:ext cx="4648680" cy="809640"/>
            <a:chOff x="2209320" y="685440"/>
            <a:chExt cx="4648680" cy="809640"/>
          </a:xfrm>
        </p:grpSpPr>
        <p:sp>
          <p:nvSpPr>
            <p:cNvPr id="175" name=""/>
            <p:cNvSpPr/>
            <p:nvPr/>
          </p:nvSpPr>
          <p:spPr>
            <a:xfrm>
              <a:off x="3809880" y="914400"/>
              <a:ext cx="3048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 an error message if annual salary is not greater than ze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2209320" y="685440"/>
              <a:ext cx="1600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8" dur="1" fill="hold"/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9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come Tax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8580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9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come Tax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6880" y="3166920"/>
            <a:ext cx="5610240" cy="1390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7240" y="1447920"/>
            <a:ext cx="80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.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ome Tax 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prompting the user for a yearly sal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9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come Tax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66880" y="3052800"/>
            <a:ext cx="5610240" cy="1619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16880" y="1447920"/>
            <a:ext cx="770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.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ome Tax 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output for a $30,000 yearly sal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9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come Tax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6880" y="3052800"/>
            <a:ext cx="5610240" cy="1619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16880" y="1447920"/>
            <a:ext cx="78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.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ome Tax 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output for a $100,000 yearly sal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9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troducing the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Multiple-Selection Statemen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ltiple-selection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rolling expres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a value of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ypes or a type that can be converted to these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ab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 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a character literal, an integer literal or a variable containing a character or integer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be a floating-point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9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troducing the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Multiple-Selection Statemen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ement transfers control to the first statement after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abel has n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ement, execution “falls throug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faul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if no constant expression matches the controlling 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ment cannot contain tw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abels with the same constant expression or tw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faul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controlling expression does not match any constant expression and there is n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faul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se, none of the statements in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ody are execu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9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troducing the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Multiple-Selection Statemen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3" name=""/>
          <p:cNvSpPr/>
          <p:nvPr/>
        </p:nvSpPr>
        <p:spPr>
          <a:xfrm>
            <a:off x="2940120" y="1893960"/>
            <a:ext cx="3970440" cy="444168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19997" y="0"/>
                </a:lnTo>
                <a:lnTo>
                  <a:pt x="19997" y="19997"/>
                </a:lnTo>
                <a:lnTo>
                  <a:pt x="0" y="1999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86080" y="1432080"/>
            <a:ext cx="3351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2560" y="1461960"/>
            <a:ext cx="67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.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ultiple-selection statement UML activity dia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1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15:42:34Z</dcterms:created>
  <dc:creator>Jeffrey Peng</dc:creator>
  <dc:description/>
  <dc:language>en-US</dc:language>
  <cp:lastModifiedBy>Pearson Education</cp:lastModifiedBy>
  <dcterms:modified xsi:type="dcterms:W3CDTF">2004-10-11T14:10:37Z</dcterms:modified>
  <cp:revision>63</cp:revision>
  <dc:subject/>
  <dc:title>Tutorial 9 – Income Tax Calculator Application: Introducing the switch Multiple-Selection Statement</dc:title>
</cp:coreProperties>
</file>