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53.wmf" ContentType="image/x-wmf"/>
  <Override PartName="/ppt/media/image49.wmf" ContentType="image/x-wmf"/>
  <Override PartName="/ppt/media/image48.wmf" ContentType="image/x-wmf"/>
  <Override PartName="/ppt/media/image47.wmf" ContentType="image/x-wmf"/>
  <Override PartName="/ppt/media/image46.wmf" ContentType="image/x-wmf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8.png" ContentType="image/png"/>
  <Override PartName="/ppt/media/image60.wmf" ContentType="image/x-wmf"/>
  <Override PartName="/ppt/media/image31.png" ContentType="image/png"/>
  <Override PartName="/ppt/media/image30.png" ContentType="image/png"/>
  <Override PartName="/ppt/media/image13.wmf" ContentType="image/x-wmf"/>
  <Override PartName="/ppt/media/image1.wmf" ContentType="image/x-wmf"/>
  <Override PartName="/ppt/media/image35.png" ContentType="image/png"/>
  <Override PartName="/ppt/media/image25.png" ContentType="image/png"/>
  <Override PartName="/ppt/media/image65.wmf" ContentType="image/x-wmf"/>
  <Override PartName="/ppt/media/image54.wmf" ContentType="image/x-wmf"/>
  <Override PartName="/ppt/media/image55.wmf" ContentType="image/x-wmf"/>
  <Override PartName="/ppt/media/image56.wmf" ContentType="image/x-wmf"/>
  <Override PartName="/ppt/media/image57.wmf" ContentType="image/x-wmf"/>
  <Override PartName="/ppt/media/image5.png" ContentType="image/png"/>
  <Override PartName="/ppt/media/image17.png" ContentType="image/png"/>
  <Override PartName="/ppt/media/image58.wmf" ContentType="image/x-wmf"/>
  <Override PartName="/ppt/media/image59.wmf" ContentType="image/x-wmf"/>
  <Override PartName="/ppt/media/image23.png" ContentType="image/png"/>
  <Override PartName="/ppt/media/image63.wmf" ContentType="image/x-wmf"/>
  <Override PartName="/ppt/media/image24.png" ContentType="image/png"/>
  <Override PartName="/ppt/media/image64.wmf" ContentType="image/x-wmf"/>
  <Override PartName="/ppt/media/image62.wmf" ContentType="image/x-wmf"/>
  <Override PartName="/ppt/media/image22.png" ContentType="image/png"/>
  <Override PartName="/ppt/media/image77.wmf" ContentType="image/x-wmf"/>
  <Override PartName="/ppt/media/image19.png" ContentType="image/png"/>
  <Override PartName="/ppt/media/image7.png" ContentType="image/png"/>
  <Override PartName="/ppt/media/image37.png" ContentType="image/png"/>
  <Override PartName="/ppt/media/image21.png" ContentType="image/png"/>
  <Override PartName="/ppt/media/image76.wmf" ContentType="image/x-wmf"/>
  <Override PartName="/ppt/media/image18.png" ContentType="image/png"/>
  <Override PartName="/ppt/media/image6.png" ContentType="image/png"/>
  <Override PartName="/ppt/media/image36.png" ContentType="image/png"/>
  <Override PartName="/ppt/media/image20.png" ContentType="image/png"/>
  <Override PartName="/ppt/media/image75.wmf" ContentType="image/x-wmf"/>
  <Override PartName="/ppt/media/image74.wmf" ContentType="image/x-wmf"/>
  <Override PartName="/ppt/media/image16.png" ContentType="image/png"/>
  <Override PartName="/ppt/media/image4.png" ContentType="image/png"/>
  <Override PartName="/ppt/media/image34.png" ContentType="image/png"/>
  <Override PartName="/ppt/media/image73.wmf" ContentType="image/x-wmf"/>
  <Override PartName="/ppt/media/image15.png" ContentType="image/png"/>
  <Override PartName="/ppt/media/image3.png" ContentType="image/png"/>
  <Override PartName="/ppt/media/image33.png" ContentType="image/png"/>
  <Override PartName="/ppt/media/image72.wmf" ContentType="image/x-wmf"/>
  <Override PartName="/ppt/media/image14.png" ContentType="image/png"/>
  <Override PartName="/ppt/media/image2.png" ContentType="image/png"/>
  <Override PartName="/ppt/media/image32.png" ContentType="image/png"/>
  <Override PartName="/ppt/media/image71.wmf" ContentType="image/x-wmf"/>
  <Override PartName="/ppt/media/image69.wmf" ContentType="image/x-wmf"/>
  <Override PartName="/ppt/media/image70.wmf" ContentType="image/x-wmf"/>
  <Override PartName="/ppt/media/image68.wmf" ContentType="image/x-wmf"/>
  <Override PartName="/ppt/media/image67.wmf" ContentType="image/x-wmf"/>
  <Override PartName="/ppt/media/image27.png" ContentType="image/png"/>
  <Override PartName="/ppt/media/image66.wmf" ContentType="image/x-wmf"/>
  <Override PartName="/ppt/media/image26.png" ContentType="image/png"/>
  <Override PartName="/ppt/media/image10.png" ContentType="image/png"/>
  <Override PartName="/ppt/media/image28.png" ContentType="image/png"/>
  <Override PartName="/ppt/media/image50.wmf" ContentType="image/x-wmf"/>
  <Override PartName="/ppt/media/image11.png" ContentType="image/png"/>
  <Override PartName="/ppt/media/image29.png" ContentType="image/png"/>
  <Override PartName="/ppt/media/image51.wmf" ContentType="image/x-wmf"/>
  <Override PartName="/ppt/media/image12.png" ContentType="image/png"/>
  <Override PartName="/ppt/media/image52.wmf" ContentType="image/x-wmf"/>
  <Override PartName="/ppt/media/image8.wmf" ContentType="image/x-wmf"/>
  <Override PartName="/ppt/media/image40.png" ContentType="image/png"/>
  <Override PartName="/ppt/media/image9.png" ContentType="image/png"/>
  <Override PartName="/ppt/media/image61.wmf" ContentType="image/x-wmf"/>
  <Override PartName="/ppt/media/image3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38F5-5CB9-4A71-B754-09A299F96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3412-4EC4-4A34-9781-54AA26D7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113E-BB44-48AC-ADC9-A045D4909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3AB7-6CC0-4A48-B620-3DA52BD2A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F013-B85B-4399-9D8E-2C1F2D01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C780-7943-45A7-BFA4-6EDD4F06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7C0D-077C-40CF-A823-4974E317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49BA-8713-45F9-B079-17CAF5AE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FA9F-57DE-4EF0-B324-7BE31985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B9A4-31BD-40CA-873C-77895CE0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C868-91DD-4C6C-94D0-271974F3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F92E-34F9-4758-9B31-1E40F960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8160-3D9A-40F3-B256-D256BA344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2485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5 by Deitel &amp; Associates, Inc. and Pearson Education Inc. All Rights Reserved</a:t>
            </a:r>
            <a:r>
              <a:rPr b="0" lang="en-US" sz="1200" spc="-1" strike="noStrike">
                <a:solidFill>
                  <a:srgbClr val="000000"/>
                </a:solidFill>
                <a:latin typeface="AvantGar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8.wmf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0.wmf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1.wmf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3.wmf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4.wmf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5.wmf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6.wmf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utorial 17 –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yroll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lication: Introducing Inheritance and Polymorphism</a:t>
            </a:r>
            <a:endParaRPr b="0" lang="en-US" sz="36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76520"/>
            <a:ext cx="8229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7.1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7.2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Inheritance Overview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7.3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7.4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Using a Derived Class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7.5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Using Multiple Derived Classes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7.6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Polymorphism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7.7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omplet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7.8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Wrap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heritance Overview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derived class absorbs data members from its bas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rived class normally adds its own data members and member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derived class is typically more specialized than its bas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s 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lationsh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bject of the derived clas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 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of the bas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Hierarch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s inheritance relationships among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 base classes are one level above their derived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rect base classes are two or more levels above their derived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heritance Overview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89040" y="1415880"/>
          <a:ext cx="7769160" cy="516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415880"/>
                    <a:ext cx="7769160" cy="51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heritance Overview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2695680"/>
            <a:ext cx="8229600" cy="23349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37320" y="1447920"/>
            <a:ext cx="54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ance hierarchy for university stud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heritance Overview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990800"/>
            <a:ext cx="8229600" cy="3743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15800" y="1461960"/>
            <a:ext cx="667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ance hierarchy for university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munityMembe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heritance Overview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a colon,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keyword and the base class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s retain their original member ac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s are also inherited, but are not directly accessible in the derived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rived class must use the base class’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 classes can redefine the functions that they inher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90720" y="4572000"/>
            <a:ext cx="513396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heritance Overview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2300400"/>
            <a:ext cx="8229600" cy="3125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15080" y="1461960"/>
            <a:ext cx="465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ance hierarchy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ap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9040" y="136692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36692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789520" cy="452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11120" y="1461960"/>
            <a:ext cx="404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1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ass defin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46120" y="3205080"/>
            <a:ext cx="6249960" cy="1314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09320" y="1447920"/>
            <a:ext cx="47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1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the base-class defin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504960" y="2362320"/>
            <a:ext cx="3581640" cy="1447560"/>
            <a:chOff x="3504960" y="2362320"/>
            <a:chExt cx="3581640" cy="1447560"/>
          </a:xfrm>
        </p:grpSpPr>
        <p:sp>
          <p:nvSpPr>
            <p:cNvPr id="94" name=""/>
            <p:cNvSpPr/>
            <p:nvPr/>
          </p:nvSpPr>
          <p:spPr>
            <a:xfrm>
              <a:off x="4495680" y="236232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lud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header f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3504960" y="2971800"/>
              <a:ext cx="9903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9600" y="1752480"/>
            <a:ext cx="6183360" cy="3409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12200" y="1461960"/>
            <a:ext cx="494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1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alaried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181120" y="2567160"/>
            <a:ext cx="3657960" cy="732600"/>
            <a:chOff x="5181120" y="2567160"/>
            <a:chExt cx="3657960" cy="732600"/>
          </a:xfrm>
        </p:grpSpPr>
        <p:sp>
          <p:nvSpPr>
            <p:cNvPr id="100" name=""/>
            <p:cNvSpPr/>
            <p:nvPr/>
          </p:nvSpPr>
          <p:spPr>
            <a:xfrm>
              <a:off x="6019920" y="2719080"/>
              <a:ext cx="28191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alaried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herit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5181120" y="2567160"/>
              <a:ext cx="83844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038480" y="4471560"/>
            <a:ext cx="4038840" cy="809640"/>
            <a:chOff x="4038480" y="4471560"/>
            <a:chExt cx="4038840" cy="809640"/>
          </a:xfrm>
        </p:grpSpPr>
        <p:sp>
          <p:nvSpPr>
            <p:cNvPr id="103" name=""/>
            <p:cNvSpPr/>
            <p:nvPr/>
          </p:nvSpPr>
          <p:spPr>
            <a:xfrm>
              <a:off x="5867280" y="4700520"/>
              <a:ext cx="2210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ing a data member for the weekly sala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4038480" y="4471560"/>
              <a:ext cx="1828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85800" y="5105520"/>
            <a:ext cx="7769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arg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fault value is assigned to the argument if the function call does not specify tha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" dur="1" fill="hold"/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bjectiv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tutorial, you will learn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derstand inheritanc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 new classes quickly from existing classes using inheritanc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polymorphism to create an application that conveniently processes related objects as though they are the sam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79600" y="1828800"/>
            <a:ext cx="6183360" cy="2428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14720" y="1461960"/>
            <a:ext cx="555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1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alaried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structor defin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724280" y="2381400"/>
            <a:ext cx="4191120" cy="824040"/>
            <a:chOff x="4724280" y="2381400"/>
            <a:chExt cx="4191120" cy="824040"/>
          </a:xfrm>
        </p:grpSpPr>
        <p:sp>
          <p:nvSpPr>
            <p:cNvPr id="110" name=""/>
            <p:cNvSpPr/>
            <p:nvPr/>
          </p:nvSpPr>
          <p:spPr>
            <a:xfrm>
              <a:off x="6172200" y="2381400"/>
              <a:ext cx="2743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alaried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lass’s construc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4724280" y="2381400"/>
              <a:ext cx="144792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685800" y="4191120"/>
            <a:ext cx="7769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-class initializer 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base-class constructor with a member initial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 initializer list initializes a class’s data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-separated list, separated from parameter list by a co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2" dur="1" fill="hold"/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79600" y="1905120"/>
            <a:ext cx="6183360" cy="4219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19040" y="1461960"/>
            <a:ext cx="69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1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s for the data memb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eklySala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190760" y="2895120"/>
            <a:ext cx="4572360" cy="2057760"/>
            <a:chOff x="4190760" y="2895120"/>
            <a:chExt cx="4572360" cy="2057760"/>
          </a:xfrm>
        </p:grpSpPr>
        <p:sp>
          <p:nvSpPr>
            <p:cNvPr id="117" name=""/>
            <p:cNvSpPr/>
            <p:nvPr/>
          </p:nvSpPr>
          <p:spPr>
            <a:xfrm>
              <a:off x="5638680" y="3276720"/>
              <a:ext cx="3124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ng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weeklySala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4876920" y="3581280"/>
              <a:ext cx="7617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4190760" y="28951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1" dur="1" fill="hold"/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79600" y="2286000"/>
            <a:ext cx="6183360" cy="2104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12560" y="1461960"/>
            <a:ext cx="441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1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efin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09480" y="3591000"/>
            <a:ext cx="3124440" cy="1485720"/>
            <a:chOff x="609480" y="3591000"/>
            <a:chExt cx="3124440" cy="1485720"/>
          </a:xfrm>
        </p:grpSpPr>
        <p:sp>
          <p:nvSpPr>
            <p:cNvPr id="124" name=""/>
            <p:cNvSpPr/>
            <p:nvPr/>
          </p:nvSpPr>
          <p:spPr>
            <a:xfrm>
              <a:off x="609480" y="4496040"/>
              <a:ext cx="3124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alaried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form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09480" y="3591000"/>
              <a:ext cx="1676520" cy="90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685800" y="5029200"/>
            <a:ext cx="7769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ing a base-class function from a derived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base class’s name and the binary scope resolution operator before the function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a Derived Clas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494000" y="3214800"/>
            <a:ext cx="6154560" cy="1295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12200" y="1461960"/>
            <a:ext cx="622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1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alaried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ass defin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09480" y="4038120"/>
            <a:ext cx="2590920" cy="1343160"/>
            <a:chOff x="609480" y="4038120"/>
            <a:chExt cx="2590920" cy="1343160"/>
          </a:xfrm>
        </p:grpSpPr>
        <p:sp>
          <p:nvSpPr>
            <p:cNvPr id="131" name=""/>
            <p:cNvSpPr/>
            <p:nvPr/>
          </p:nvSpPr>
          <p:spPr>
            <a:xfrm>
              <a:off x="609480" y="480060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lud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alaried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header f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609480" y="4038120"/>
              <a:ext cx="16002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9" dur="1" fill="hold"/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a Derived Clas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450800" y="3114720"/>
            <a:ext cx="6240600" cy="14954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17600" y="1461960"/>
            <a:ext cx="71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1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ng an array of pointers 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alaried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b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266720" y="4114440"/>
            <a:ext cx="3657960" cy="1586520"/>
            <a:chOff x="4266720" y="4114440"/>
            <a:chExt cx="3657960" cy="1586520"/>
          </a:xfrm>
        </p:grpSpPr>
        <p:sp>
          <p:nvSpPr>
            <p:cNvPr id="137" name=""/>
            <p:cNvSpPr/>
            <p:nvPr/>
          </p:nvSpPr>
          <p:spPr>
            <a:xfrm>
              <a:off x="4800600" y="4876920"/>
              <a:ext cx="31240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store 10 pointer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alaried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4266720" y="4114440"/>
              <a:ext cx="11430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8" dur="1" fill="hold"/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a Derived Clas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790960" cy="4525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10760" y="1461960"/>
            <a:ext cx="600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2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yroll application’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52280" y="2362320"/>
            <a:ext cx="2286000" cy="580680"/>
            <a:chOff x="152280" y="2362320"/>
            <a:chExt cx="2286000" cy="580680"/>
          </a:xfrm>
        </p:grpSpPr>
        <p:sp>
          <p:nvSpPr>
            <p:cNvPr id="143" name=""/>
            <p:cNvSpPr/>
            <p:nvPr/>
          </p:nvSpPr>
          <p:spPr>
            <a:xfrm>
              <a:off x="152280" y="2362320"/>
              <a:ext cx="1981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ng variables to store user inpu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33720" y="2666880"/>
              <a:ext cx="3045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419360" y="3962520"/>
            <a:ext cx="4496040" cy="1662120"/>
            <a:chOff x="4419360" y="3962520"/>
            <a:chExt cx="4496040" cy="1662120"/>
          </a:xfrm>
        </p:grpSpPr>
        <p:sp>
          <p:nvSpPr>
            <p:cNvPr id="146" name=""/>
            <p:cNvSpPr/>
            <p:nvPr/>
          </p:nvSpPr>
          <p:spPr>
            <a:xfrm>
              <a:off x="5943600" y="4800600"/>
              <a:ext cx="2971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ing the user for and inputting an employee’s name, social security number and sala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495680" y="4800600"/>
              <a:ext cx="1447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952880" y="48006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4419360" y="4419720"/>
              <a:ext cx="1523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4419360" y="3962520"/>
              <a:ext cx="15238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2" dur="1" fill="hold"/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a Derived Clas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484280" y="3052800"/>
            <a:ext cx="6174000" cy="1619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15080" y="1461960"/>
            <a:ext cx="564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2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ng a new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alaried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bjec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800600" y="4038480"/>
            <a:ext cx="2743200" cy="1571400"/>
            <a:chOff x="4800600" y="4038480"/>
            <a:chExt cx="2743200" cy="1571400"/>
          </a:xfrm>
        </p:grpSpPr>
        <p:sp>
          <p:nvSpPr>
            <p:cNvPr id="155" name=""/>
            <p:cNvSpPr/>
            <p:nvPr/>
          </p:nvSpPr>
          <p:spPr>
            <a:xfrm>
              <a:off x="4800600" y="502920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ing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alaried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4952880" y="4038480"/>
              <a:ext cx="19051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1" dur="1" fill="hold"/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a Derived Clas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494000" y="1828800"/>
            <a:ext cx="6154560" cy="43718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14000" y="1461960"/>
            <a:ext cx="750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2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information and wages for eac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alaried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724280" y="2057400"/>
            <a:ext cx="3886200" cy="1371600"/>
            <a:chOff x="4724280" y="2057400"/>
            <a:chExt cx="3886200" cy="1371600"/>
          </a:xfrm>
        </p:grpSpPr>
        <p:sp>
          <p:nvSpPr>
            <p:cNvPr id="161" name=""/>
            <p:cNvSpPr/>
            <p:nvPr/>
          </p:nvSpPr>
          <p:spPr>
            <a:xfrm>
              <a:off x="5791320" y="2057400"/>
              <a:ext cx="28191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peating for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alaried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ointer in the 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724280" y="2895480"/>
              <a:ext cx="10670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800240" y="3276720"/>
            <a:ext cx="3886560" cy="824040"/>
            <a:chOff x="4800240" y="3276720"/>
            <a:chExt cx="3886560" cy="824040"/>
          </a:xfrm>
        </p:grpSpPr>
        <p:sp>
          <p:nvSpPr>
            <p:cNvPr id="164" name=""/>
            <p:cNvSpPr/>
            <p:nvPr/>
          </p:nvSpPr>
          <p:spPr>
            <a:xfrm>
              <a:off x="5943600" y="3276720"/>
              <a:ext cx="2743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ing the name, social security number and employee ty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4800240" y="3886200"/>
              <a:ext cx="1143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6095880" y="4571640"/>
            <a:ext cx="2743200" cy="414000"/>
            <a:chOff x="6095880" y="4571640"/>
            <a:chExt cx="2743200" cy="414000"/>
          </a:xfrm>
        </p:grpSpPr>
        <p:sp>
          <p:nvSpPr>
            <p:cNvPr id="167" name=""/>
            <p:cNvSpPr/>
            <p:nvPr/>
          </p:nvSpPr>
          <p:spPr>
            <a:xfrm>
              <a:off x="6248520" y="4648320"/>
              <a:ext cx="25905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ing the weekly sala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6095880" y="457164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733920" y="5181120"/>
            <a:ext cx="5181480" cy="414000"/>
            <a:chOff x="3733920" y="5181120"/>
            <a:chExt cx="5181480" cy="414000"/>
          </a:xfrm>
        </p:grpSpPr>
        <p:sp>
          <p:nvSpPr>
            <p:cNvPr id="170" name=""/>
            <p:cNvSpPr/>
            <p:nvPr/>
          </p:nvSpPr>
          <p:spPr>
            <a:xfrm>
              <a:off x="6324480" y="5257800"/>
              <a:ext cx="2590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dding the salary to the tot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3733920" y="5181120"/>
              <a:ext cx="2590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733920" y="5638320"/>
            <a:ext cx="2438280" cy="566280"/>
            <a:chOff x="3733920" y="5638320"/>
            <a:chExt cx="2438280" cy="566280"/>
          </a:xfrm>
        </p:grpSpPr>
        <p:sp>
          <p:nvSpPr>
            <p:cNvPr id="173" name=""/>
            <p:cNvSpPr/>
            <p:nvPr/>
          </p:nvSpPr>
          <p:spPr>
            <a:xfrm>
              <a:off x="3733920" y="5867280"/>
              <a:ext cx="2438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ing the total payro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3733920" y="5638320"/>
              <a:ext cx="1295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0" dur="1" fill="hold"/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a Derived Clas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455840" y="2886120"/>
            <a:ext cx="6230880" cy="1952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13280" y="1461960"/>
            <a:ext cx="552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2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eting eac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alaried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bjec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762120" y="4114800"/>
            <a:ext cx="2743200" cy="1571400"/>
            <a:chOff x="762120" y="4114800"/>
            <a:chExt cx="2743200" cy="1571400"/>
          </a:xfrm>
        </p:grpSpPr>
        <p:sp>
          <p:nvSpPr>
            <p:cNvPr id="179" name=""/>
            <p:cNvSpPr/>
            <p:nvPr/>
          </p:nvSpPr>
          <p:spPr>
            <a:xfrm>
              <a:off x="762120" y="510552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leting 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alaried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762120" y="4114800"/>
              <a:ext cx="17524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9" dur="1" fill="hold"/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a Derived Clas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766880" y="2995560"/>
            <a:ext cx="5610240" cy="17337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16160" y="1461960"/>
            <a:ext cx="843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2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ing information for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yro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us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alaried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84360" y="137016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a Derived Clas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66880" y="2766960"/>
            <a:ext cx="5610240" cy="21909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11120" y="1461960"/>
            <a:ext cx="84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2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the payroll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yro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us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alaried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Multiple Derived Classe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57200" y="2741760"/>
            <a:ext cx="8229600" cy="22431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6160" y="1461960"/>
            <a:ext cx="82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2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ML class diagram for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heritance hierarchy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y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Multiple Derived Classe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494000" y="3367080"/>
            <a:ext cx="6154560" cy="9907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14360" y="1461960"/>
            <a:ext cx="677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2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lar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arning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 in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809520" y="3962160"/>
            <a:ext cx="4953600" cy="947160"/>
            <a:chOff x="3809520" y="3962160"/>
            <a:chExt cx="4953600" cy="947160"/>
          </a:xfrm>
        </p:grpSpPr>
        <p:sp>
          <p:nvSpPr>
            <p:cNvPr id="194" name=""/>
            <p:cNvSpPr/>
            <p:nvPr/>
          </p:nvSpPr>
          <p:spPr>
            <a:xfrm>
              <a:off x="5638680" y="4572000"/>
              <a:ext cx="31244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arning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3809520" y="3962160"/>
              <a:ext cx="2133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8" dur="1" fill="hold"/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Multiple Derived Classe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488960" y="2971800"/>
            <a:ext cx="6164280" cy="17812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15080" y="1461960"/>
            <a:ext cx="64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2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arning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 definition for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33920" y="3885840"/>
            <a:ext cx="3962160" cy="1647720"/>
            <a:chOff x="3733920" y="3885840"/>
            <a:chExt cx="3962160" cy="1647720"/>
          </a:xfrm>
        </p:grpSpPr>
        <p:sp>
          <p:nvSpPr>
            <p:cNvPr id="200" name=""/>
            <p:cNvSpPr/>
            <p:nvPr/>
          </p:nvSpPr>
          <p:spPr>
            <a:xfrm>
              <a:off x="4952880" y="495288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lass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arnin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3733920" y="3885840"/>
              <a:ext cx="167616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7" dur="1" fill="hold"/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Multiple Derived Classe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706400" y="1752480"/>
            <a:ext cx="5729400" cy="45259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12200" y="1461960"/>
            <a:ext cx="48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2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urly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ass defin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334120" y="2743200"/>
            <a:ext cx="3657600" cy="337320"/>
            <a:chOff x="5334120" y="2743200"/>
            <a:chExt cx="3657600" cy="337320"/>
          </a:xfrm>
        </p:grpSpPr>
        <p:sp>
          <p:nvSpPr>
            <p:cNvPr id="206" name=""/>
            <p:cNvSpPr/>
            <p:nvPr/>
          </p:nvSpPr>
          <p:spPr>
            <a:xfrm>
              <a:off x="5791320" y="2743200"/>
              <a:ext cx="3200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ly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lass defini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5334120" y="2819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6" dur="1" fill="hold"/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Multiple Derived Classe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479600" y="1828800"/>
            <a:ext cx="6183360" cy="43718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14720" y="1461960"/>
            <a:ext cx="75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3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arning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 definitions in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723920" y="2514600"/>
            <a:ext cx="4039200" cy="580680"/>
            <a:chOff x="4723920" y="2514600"/>
            <a:chExt cx="4039200" cy="580680"/>
          </a:xfrm>
        </p:grpSpPr>
        <p:sp>
          <p:nvSpPr>
            <p:cNvPr id="212" name=""/>
            <p:cNvSpPr/>
            <p:nvPr/>
          </p:nvSpPr>
          <p:spPr>
            <a:xfrm>
              <a:off x="5562720" y="251460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arning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ly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la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4723920" y="26668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571640" y="4724280"/>
            <a:ext cx="4267440" cy="580680"/>
            <a:chOff x="4571640" y="4724280"/>
            <a:chExt cx="4267440" cy="580680"/>
          </a:xfrm>
        </p:grpSpPr>
        <p:sp>
          <p:nvSpPr>
            <p:cNvPr id="215" name=""/>
            <p:cNvSpPr/>
            <p:nvPr/>
          </p:nvSpPr>
          <p:spPr>
            <a:xfrm>
              <a:off x="5715000" y="4724280"/>
              <a:ext cx="3124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ly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la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4571640" y="49528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0" dur="1" fill="hold"/>
                                  <p:tgtEl>
                                    <p:spTgt spid="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Multiple Derived Classe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s to derived classes can be stored as pointers to the bas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pointer to the derived class will be implicitly converted to a pointer to the bas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Multiple Derived Classe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498680" y="3124080"/>
            <a:ext cx="6145200" cy="14763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15800" y="1461960"/>
            <a:ext cx="770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3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mission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urly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762120" y="3962160"/>
            <a:ext cx="2819160" cy="1724040"/>
            <a:chOff x="762120" y="3962160"/>
            <a:chExt cx="2819160" cy="1724040"/>
          </a:xfrm>
        </p:grpSpPr>
        <p:sp>
          <p:nvSpPr>
            <p:cNvPr id="223" name=""/>
            <p:cNvSpPr/>
            <p:nvPr/>
          </p:nvSpPr>
          <p:spPr>
            <a:xfrm>
              <a:off x="762120" y="5105520"/>
              <a:ext cx="28191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lud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mmission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ly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header fi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762120" y="3962160"/>
              <a:ext cx="13716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9" dur="1" fill="hold"/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Multiple Derived Classe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446120" y="3114720"/>
            <a:ext cx="6249960" cy="1495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16520" y="1461960"/>
            <a:ext cx="620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3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ng an array of pointers 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b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886200" y="4038480"/>
            <a:ext cx="3886200" cy="1495080"/>
            <a:chOff x="3886200" y="4038480"/>
            <a:chExt cx="3886200" cy="1495080"/>
          </a:xfrm>
        </p:grpSpPr>
        <p:sp>
          <p:nvSpPr>
            <p:cNvPr id="229" name=""/>
            <p:cNvSpPr/>
            <p:nvPr/>
          </p:nvSpPr>
          <p:spPr>
            <a:xfrm>
              <a:off x="4648320" y="4952880"/>
              <a:ext cx="3124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or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RRAY_SIZ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10) pointer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3886200" y="4038480"/>
              <a:ext cx="23623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8" dur="1" fill="hold"/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Multiple Derived Classe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660760" y="1752480"/>
            <a:ext cx="3822480" cy="4525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13280" y="1461960"/>
            <a:ext cx="608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3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ing the modifi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04920" y="3124080"/>
            <a:ext cx="2895480" cy="824040"/>
            <a:chOff x="304920" y="3124080"/>
            <a:chExt cx="2895480" cy="824040"/>
          </a:xfrm>
        </p:grpSpPr>
        <p:sp>
          <p:nvSpPr>
            <p:cNvPr id="235" name=""/>
            <p:cNvSpPr/>
            <p:nvPr/>
          </p:nvSpPr>
          <p:spPr>
            <a:xfrm>
              <a:off x="304920" y="3124080"/>
              <a:ext cx="25905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ing the user for and inputting the employee name and social secur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895480" y="320004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895480" y="3352680"/>
              <a:ext cx="304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895480" y="335268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410080" y="4038480"/>
            <a:ext cx="3276720" cy="580680"/>
            <a:chOff x="5410080" y="4038480"/>
            <a:chExt cx="3276720" cy="580680"/>
          </a:xfrm>
        </p:grpSpPr>
        <p:sp>
          <p:nvSpPr>
            <p:cNvPr id="240" name=""/>
            <p:cNvSpPr/>
            <p:nvPr/>
          </p:nvSpPr>
          <p:spPr>
            <a:xfrm>
              <a:off x="5867280" y="4038480"/>
              <a:ext cx="2819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ing a menu that prompts the user for the employee ty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5410080" y="4267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04920" y="4952880"/>
            <a:ext cx="3200400" cy="1067400"/>
            <a:chOff x="304920" y="4952880"/>
            <a:chExt cx="3200400" cy="1067400"/>
          </a:xfrm>
        </p:grpSpPr>
        <p:sp>
          <p:nvSpPr>
            <p:cNvPr id="243" name=""/>
            <p:cNvSpPr/>
            <p:nvPr/>
          </p:nvSpPr>
          <p:spPr>
            <a:xfrm>
              <a:off x="304920" y="4952880"/>
              <a:ext cx="28191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ing the user for and inputting the employee’s salary and creating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alaried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24080" y="54100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7" dur="1" fill="hold"/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66880" y="3052800"/>
            <a:ext cx="5610240" cy="1619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11120" y="1447920"/>
            <a:ext cx="54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 the complet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yro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Multiple Derived Classe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494000" y="2324160"/>
            <a:ext cx="6154560" cy="30765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15440" y="1461960"/>
            <a:ext cx="588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3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ng a new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mission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bjec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715000" y="4723920"/>
            <a:ext cx="2971800" cy="962280"/>
            <a:chOff x="5715000" y="4723920"/>
            <a:chExt cx="2971800" cy="962280"/>
          </a:xfrm>
        </p:grpSpPr>
        <p:sp>
          <p:nvSpPr>
            <p:cNvPr id="249" name=""/>
            <p:cNvSpPr/>
            <p:nvPr/>
          </p:nvSpPr>
          <p:spPr>
            <a:xfrm>
              <a:off x="5715000" y="510552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ing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mmission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5943240" y="4723920"/>
              <a:ext cx="6094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6" dur="1" fill="hold"/>
                                  <p:tgtEl>
                                    <p:spTgt spid="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Multiple Derived Classe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494000" y="3057480"/>
            <a:ext cx="6154560" cy="16099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15080" y="1461960"/>
            <a:ext cx="540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3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ng a new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urly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bjec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5866920" y="3962160"/>
            <a:ext cx="2591280" cy="1571400"/>
            <a:chOff x="5866920" y="3962160"/>
            <a:chExt cx="2591280" cy="1571400"/>
          </a:xfrm>
        </p:grpSpPr>
        <p:sp>
          <p:nvSpPr>
            <p:cNvPr id="255" name=""/>
            <p:cNvSpPr/>
            <p:nvPr/>
          </p:nvSpPr>
          <p:spPr>
            <a:xfrm>
              <a:off x="5943600" y="495288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ing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ly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flipV="1">
              <a:off x="5866920" y="3962160"/>
              <a:ext cx="11430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25" dur="1" fill="hold"/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Multiple Derived Classe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494000" y="2895480"/>
            <a:ext cx="6154560" cy="1933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412920" y="1461960"/>
            <a:ext cx="65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3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information and wages for eac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943240" y="3276720"/>
            <a:ext cx="2362680" cy="533160"/>
            <a:chOff x="5943240" y="3276720"/>
            <a:chExt cx="2362680" cy="533160"/>
          </a:xfrm>
        </p:grpSpPr>
        <p:sp>
          <p:nvSpPr>
            <p:cNvPr id="261" name=""/>
            <p:cNvSpPr/>
            <p:nvPr/>
          </p:nvSpPr>
          <p:spPr>
            <a:xfrm>
              <a:off x="6095880" y="3276720"/>
              <a:ext cx="22100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arnin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5943240" y="3429000"/>
              <a:ext cx="152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4648320" y="4495680"/>
            <a:ext cx="3124080" cy="794520"/>
            <a:chOff x="4648320" y="4495680"/>
            <a:chExt cx="3124080" cy="794520"/>
          </a:xfrm>
        </p:grpSpPr>
        <p:sp>
          <p:nvSpPr>
            <p:cNvPr id="264" name=""/>
            <p:cNvSpPr/>
            <p:nvPr/>
          </p:nvSpPr>
          <p:spPr>
            <a:xfrm>
              <a:off x="4648320" y="4952880"/>
              <a:ext cx="31240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dd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arning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the tot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4876920" y="449568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9" dur="1" fill="hold"/>
                                  <p:tgtEl>
                                    <p:spTgt spid="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Multiple Derived Classe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67" name=""/>
          <p:cNvSpPr/>
          <p:nvPr/>
        </p:nvSpPr>
        <p:spPr>
          <a:xfrm>
            <a:off x="411840" y="1447920"/>
            <a:ext cx="735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3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ing hourly employee information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yro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766880" y="2538360"/>
            <a:ext cx="5610240" cy="2648160"/>
          </a:xfrm>
          <a:prstGeom prst="rect">
            <a:avLst/>
          </a:prstGeom>
          <a:ln w="0">
            <a:noFill/>
          </a:ln>
        </p:spPr>
      </p:pic>
      <p:grpSp>
        <p:nvGrpSpPr>
          <p:cNvPr id="269" name=""/>
          <p:cNvGrpSpPr/>
          <p:nvPr/>
        </p:nvGrpSpPr>
        <p:grpSpPr>
          <a:xfrm>
            <a:off x="3809520" y="4800600"/>
            <a:ext cx="4115160" cy="1114200"/>
            <a:chOff x="3809520" y="4800600"/>
            <a:chExt cx="4115160" cy="1114200"/>
          </a:xfrm>
        </p:grpSpPr>
        <p:sp>
          <p:nvSpPr>
            <p:cNvPr id="270" name=""/>
            <p:cNvSpPr/>
            <p:nvPr/>
          </p:nvSpPr>
          <p:spPr>
            <a:xfrm>
              <a:off x="4952880" y="533412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ntering earnings information for an hourly employe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flipV="1">
              <a:off x="3809520" y="4800600"/>
              <a:ext cx="16765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48" dur="1" fill="hold"/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Multiple Derived Classe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766880" y="2881440"/>
            <a:ext cx="5610240" cy="19620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11120" y="1447920"/>
            <a:ext cx="751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3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ing salaried employee information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yro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428640" y="4572000"/>
            <a:ext cx="3505680" cy="1037880"/>
            <a:chOff x="3428640" y="4572000"/>
            <a:chExt cx="3505680" cy="1037880"/>
          </a:xfrm>
        </p:grpSpPr>
        <p:sp>
          <p:nvSpPr>
            <p:cNvPr id="276" name=""/>
            <p:cNvSpPr/>
            <p:nvPr/>
          </p:nvSpPr>
          <p:spPr>
            <a:xfrm>
              <a:off x="3809880" y="5029200"/>
              <a:ext cx="3124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ntering earnings information for a salaried employe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3428640" y="4572000"/>
              <a:ext cx="1600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57" dur="1" fill="hold"/>
                                  <p:tgtEl>
                                    <p:spTgt spid="2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Multiple Derived Classe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766880" y="3110040"/>
            <a:ext cx="5610240" cy="15048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410400" y="1447920"/>
            <a:ext cx="57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3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yro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displaying incorrect outp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971800" y="3809880"/>
            <a:ext cx="4419720" cy="1738440"/>
            <a:chOff x="2971800" y="3809880"/>
            <a:chExt cx="4419720" cy="1738440"/>
          </a:xfrm>
        </p:grpSpPr>
        <p:sp>
          <p:nvSpPr>
            <p:cNvPr id="282" name=""/>
            <p:cNvSpPr/>
            <p:nvPr/>
          </p:nvSpPr>
          <p:spPr>
            <a:xfrm>
              <a:off x="4648320" y="4724280"/>
              <a:ext cx="2743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pplication does not display employee type and displays incorrect earnings inform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2971800" y="4114440"/>
              <a:ext cx="22860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2971800" y="3809880"/>
              <a:ext cx="22860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6" dur="1" fill="hold"/>
                                  <p:tgtEl>
                                    <p:spTgt spid="2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Multiple Derived Classe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uses the type of the pointer to an object, not the type of the object, to determine which function to call when a derived class redefines a base class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6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Polymorphism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morphism allows a function call to act differently depending on the type of the object invok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lymorphism means “many forms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type of the object being pointed to determine which version of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to c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are overridden by derived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declare a function virtual precede its declaration with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6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Polymorphism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 classes are too general to be instanti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ke a class abstract by declaring a pu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u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unction h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fore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fter its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u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unction cannot be def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bstract classes can be used  to define poin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ointers can then be pointed to objects of any concrete class derived from the abstract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rete classes are classes that can be instanti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concrete class must override all pure virtual functions it inherits from its base class (if that base class is abstrac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7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mple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488960" y="3052800"/>
            <a:ext cx="6164280" cy="16192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415800" y="1461960"/>
            <a:ext cx="758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4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laring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 and a pur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 in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33520" y="4038120"/>
            <a:ext cx="3200400" cy="1419480"/>
            <a:chOff x="533520" y="4038120"/>
            <a:chExt cx="3200400" cy="1419480"/>
          </a:xfrm>
        </p:grpSpPr>
        <p:sp>
          <p:nvSpPr>
            <p:cNvPr id="295" name=""/>
            <p:cNvSpPr/>
            <p:nvPr/>
          </p:nvSpPr>
          <p:spPr>
            <a:xfrm>
              <a:off x="533520" y="487692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ing functions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o that they can be overridd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533520" y="4038120"/>
              <a:ext cx="17524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5" dur="1" fill="hold"/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66880" y="2995560"/>
            <a:ext cx="5610240" cy="1733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11840" y="1447920"/>
            <a:ext cx="66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ing employee information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yro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7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mple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498680" y="2971800"/>
            <a:ext cx="6145200" cy="17812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415440" y="1461960"/>
            <a:ext cx="680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4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ing comments in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isplayEmploye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7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mple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766880" y="2595600"/>
            <a:ext cx="5610240" cy="25336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11840" y="1447920"/>
            <a:ext cx="77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4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ing employee information in the complet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yro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7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mple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766880" y="2766960"/>
            <a:ext cx="5610240" cy="21909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407160" y="1447920"/>
            <a:ext cx="846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4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yro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using virtual functions to access objects polymorphical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33520" y="3428640"/>
            <a:ext cx="2743200" cy="2181240"/>
            <a:chOff x="533520" y="3428640"/>
            <a:chExt cx="2743200" cy="2181240"/>
          </a:xfrm>
        </p:grpSpPr>
        <p:sp>
          <p:nvSpPr>
            <p:cNvPr id="307" name=""/>
            <p:cNvSpPr/>
            <p:nvPr/>
          </p:nvSpPr>
          <p:spPr>
            <a:xfrm>
              <a:off x="533520" y="502920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ing employee type and correct earnin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533520" y="3428640"/>
              <a:ext cx="12189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533520" y="3885840"/>
              <a:ext cx="12189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533520" y="4343040"/>
              <a:ext cx="12189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533520" y="4723920"/>
              <a:ext cx="12189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4" dur="1" fill="hold"/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7086600" y="8380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.h (1 of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0" y="0"/>
          <a:ext cx="6856560" cy="425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7086600" y="8380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.h (2 of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0" y="0"/>
          <a:ext cx="6856560" cy="450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8" name=""/>
          <p:cNvGrpSpPr/>
          <p:nvPr/>
        </p:nvGrpSpPr>
        <p:grpSpPr>
          <a:xfrm>
            <a:off x="1219320" y="2057040"/>
            <a:ext cx="6553080" cy="1967400"/>
            <a:chOff x="1219320" y="2057040"/>
            <a:chExt cx="6553080" cy="1967400"/>
          </a:xfrm>
        </p:grpSpPr>
        <p:sp>
          <p:nvSpPr>
            <p:cNvPr id="319" name=""/>
            <p:cNvSpPr/>
            <p:nvPr/>
          </p:nvSpPr>
          <p:spPr>
            <a:xfrm>
              <a:off x="4724280" y="3200400"/>
              <a:ext cx="3048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functions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o that they can be processed polymorphical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 flipV="1">
              <a:off x="1219320" y="2057040"/>
              <a:ext cx="4114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93" dur="1" fill="hold"/>
                                  <p:tgtEl>
                                    <p:spTgt spid="3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0" y="0"/>
          <a:ext cx="6856560" cy="50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7086600" y="8380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.cpp (1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"/>
          <p:cNvGraphicFramePr/>
          <p:nvPr/>
        </p:nvGraphicFramePr>
        <p:xfrm>
          <a:off x="0" y="0"/>
          <a:ext cx="6856560" cy="50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7086600" y="8380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.cpp (2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"/>
          <p:cNvGraphicFramePr/>
          <p:nvPr/>
        </p:nvGraphicFramePr>
        <p:xfrm>
          <a:off x="0" y="0"/>
          <a:ext cx="6856560" cy="50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7086600" y="8380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.cpp (3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"/>
          <p:cNvGraphicFramePr/>
          <p:nvPr/>
        </p:nvGraphicFramePr>
        <p:xfrm>
          <a:off x="0" y="0"/>
          <a:ext cx="6856560" cy="200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20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7086600" y="8380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.cpp (4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0" y="0"/>
          <a:ext cx="6856560" cy="650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65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086600" y="8380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laried.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2742840" y="4191120"/>
            <a:ext cx="5029560" cy="337320"/>
            <a:chOff x="2742840" y="4191120"/>
            <a:chExt cx="5029560" cy="337320"/>
          </a:xfrm>
        </p:grpSpPr>
        <p:sp>
          <p:nvSpPr>
            <p:cNvPr id="337" name=""/>
            <p:cNvSpPr/>
            <p:nvPr/>
          </p:nvSpPr>
          <p:spPr>
            <a:xfrm>
              <a:off x="4876920" y="4191120"/>
              <a:ext cx="2895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verridd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2742840" y="43434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2" dur="1" fill="hold"/>
                                  <p:tgtEl>
                                    <p:spTgt spid="3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6880" y="3224160"/>
            <a:ext cx="5610240" cy="1276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11840" y="1447920"/>
            <a:ext cx="629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ing salary information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yro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0" y="0"/>
          <a:ext cx="6856560" cy="450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7086600" y="8380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laried.cpp (1 of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0" y="0"/>
          <a:ext cx="6856560" cy="551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7086600" y="8380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laried.cpp (2 of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0" y="0"/>
          <a:ext cx="6856560" cy="351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35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086600" y="8380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laried.cpp (3 of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3047760" y="380520"/>
            <a:ext cx="4038840" cy="581040"/>
            <a:chOff x="3047760" y="380520"/>
            <a:chExt cx="4038840" cy="581040"/>
          </a:xfrm>
        </p:grpSpPr>
        <p:sp>
          <p:nvSpPr>
            <p:cNvPr id="349" name=""/>
            <p:cNvSpPr/>
            <p:nvPr/>
          </p:nvSpPr>
          <p:spPr>
            <a:xfrm>
              <a:off x="4114800" y="38088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arning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definition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alaried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la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>
              <a:off x="3047760" y="380520"/>
              <a:ext cx="10666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2743200" y="1523880"/>
            <a:ext cx="4343400" cy="580680"/>
            <a:chOff x="2743200" y="1523880"/>
            <a:chExt cx="4343400" cy="580680"/>
          </a:xfrm>
        </p:grpSpPr>
        <p:sp>
          <p:nvSpPr>
            <p:cNvPr id="352" name=""/>
            <p:cNvSpPr/>
            <p:nvPr/>
          </p:nvSpPr>
          <p:spPr>
            <a:xfrm>
              <a:off x="4191120" y="152388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definition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alaried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la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2743200" y="1600200"/>
              <a:ext cx="1447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16" dur="1" fill="hold"/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4" name=""/>
          <p:cNvGraphicFramePr/>
          <p:nvPr/>
        </p:nvGraphicFramePr>
        <p:xfrm>
          <a:off x="0" y="0"/>
          <a:ext cx="6856560" cy="37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37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7086600" y="838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urly.h (1 of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0" y="0"/>
          <a:ext cx="6856560" cy="37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37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7086600" y="83808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urly.h (2 of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2514600" y="1447560"/>
            <a:ext cx="5181480" cy="718560"/>
            <a:chOff x="2514600" y="1447560"/>
            <a:chExt cx="5181480" cy="718560"/>
          </a:xfrm>
        </p:grpSpPr>
        <p:sp>
          <p:nvSpPr>
            <p:cNvPr id="361" name=""/>
            <p:cNvSpPr/>
            <p:nvPr/>
          </p:nvSpPr>
          <p:spPr>
            <a:xfrm>
              <a:off x="4800600" y="1828800"/>
              <a:ext cx="2895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verridd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2514600" y="1447560"/>
              <a:ext cx="22860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25" dur="1" fill="hold"/>
                                  <p:tgtEl>
                                    <p:spTgt spid="3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"/>
          <p:cNvGraphicFramePr/>
          <p:nvPr/>
        </p:nvGraphicFramePr>
        <p:xfrm>
          <a:off x="0" y="0"/>
          <a:ext cx="685656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7086600" y="8380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urly.cpp (1 of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0" y="0"/>
          <a:ext cx="6856560" cy="351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35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7086600" y="8380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urly.cpp (2 of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"/>
          <p:cNvGraphicFramePr/>
          <p:nvPr/>
        </p:nvGraphicFramePr>
        <p:xfrm>
          <a:off x="0" y="0"/>
          <a:ext cx="6856560" cy="551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"/>
          <p:cNvSpPr/>
          <p:nvPr/>
        </p:nvSpPr>
        <p:spPr>
          <a:xfrm>
            <a:off x="7086600" y="8380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urly.cpp (3 of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0" y="0"/>
          <a:ext cx="6856560" cy="50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7086600" y="8380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urly.cpp (4 of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971440" y="2133360"/>
            <a:ext cx="4953240" cy="961920"/>
            <a:chOff x="2971440" y="2133360"/>
            <a:chExt cx="4953240" cy="961920"/>
          </a:xfrm>
        </p:grpSpPr>
        <p:sp>
          <p:nvSpPr>
            <p:cNvPr id="376" name=""/>
            <p:cNvSpPr/>
            <p:nvPr/>
          </p:nvSpPr>
          <p:spPr>
            <a:xfrm>
              <a:off x="4952880" y="251460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arning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definition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ly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la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 flipV="1">
              <a:off x="2971440" y="2133360"/>
              <a:ext cx="19810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34" dur="1" fill="hold"/>
                                  <p:tgtEl>
                                    <p:spTgt spid="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0" y="0"/>
          <a:ext cx="6856560" cy="200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20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7086600" y="8380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urly.cpp (5 of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742840" y="304920"/>
            <a:ext cx="4038840" cy="580680"/>
            <a:chOff x="2742840" y="304920"/>
            <a:chExt cx="4038840" cy="580680"/>
          </a:xfrm>
        </p:grpSpPr>
        <p:sp>
          <p:nvSpPr>
            <p:cNvPr id="382" name=""/>
            <p:cNvSpPr/>
            <p:nvPr/>
          </p:nvSpPr>
          <p:spPr>
            <a:xfrm>
              <a:off x="3886200" y="30492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definition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ly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la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2742840" y="5335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3" dur="1" fill="hold"/>
                                  <p:tgtEl>
                                    <p:spTgt spid="3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66880" y="2938320"/>
            <a:ext cx="5610240" cy="1847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11480" y="1447920"/>
            <a:ext cx="782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ing a second employee’s information into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yro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0" y="0"/>
          <a:ext cx="6856560" cy="37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37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7086600" y="8380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ission.h (1 of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"/>
          <p:cNvGraphicFramePr/>
          <p:nvPr/>
        </p:nvGraphicFramePr>
        <p:xfrm>
          <a:off x="0" y="0"/>
          <a:ext cx="6856560" cy="37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37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"/>
          <p:cNvSpPr/>
          <p:nvPr/>
        </p:nvSpPr>
        <p:spPr>
          <a:xfrm>
            <a:off x="7086600" y="8380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ission.h (2 of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2666880" y="1447560"/>
            <a:ext cx="4800600" cy="489960"/>
            <a:chOff x="2666880" y="1447560"/>
            <a:chExt cx="4800600" cy="489960"/>
          </a:xfrm>
        </p:grpSpPr>
        <p:sp>
          <p:nvSpPr>
            <p:cNvPr id="391" name=""/>
            <p:cNvSpPr/>
            <p:nvPr/>
          </p:nvSpPr>
          <p:spPr>
            <a:xfrm>
              <a:off x="4572000" y="1600200"/>
              <a:ext cx="2895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verridd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 flipV="1">
              <a:off x="2666880" y="1447560"/>
              <a:ext cx="1905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52" dur="1" fill="hold"/>
                                  <p:tgtEl>
                                    <p:spTgt spid="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0" y="0"/>
          <a:ext cx="6856560" cy="626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62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7086600" y="83808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ission.cpp (1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6" name=""/>
          <p:cNvGraphicFramePr/>
          <p:nvPr/>
        </p:nvGraphicFramePr>
        <p:xfrm>
          <a:off x="0" y="0"/>
          <a:ext cx="6856560" cy="575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7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"/>
          <p:cNvSpPr/>
          <p:nvPr/>
        </p:nvSpPr>
        <p:spPr>
          <a:xfrm>
            <a:off x="7086600" y="83808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ission.cpp (2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9" name=""/>
          <p:cNvGraphicFramePr/>
          <p:nvPr/>
        </p:nvGraphicFramePr>
        <p:xfrm>
          <a:off x="0" y="0"/>
          <a:ext cx="6856560" cy="37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37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"/>
          <p:cNvSpPr/>
          <p:nvPr/>
        </p:nvSpPr>
        <p:spPr>
          <a:xfrm>
            <a:off x="7086600" y="83808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ission.cpp (3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0" y="0"/>
          <a:ext cx="6856560" cy="351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35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"/>
          <p:cNvSpPr/>
          <p:nvPr/>
        </p:nvSpPr>
        <p:spPr>
          <a:xfrm>
            <a:off x="7086600" y="83808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ission.cpp (4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352320" y="304920"/>
            <a:ext cx="4343760" cy="580680"/>
            <a:chOff x="3352320" y="304920"/>
            <a:chExt cx="4343760" cy="580680"/>
          </a:xfrm>
        </p:grpSpPr>
        <p:sp>
          <p:nvSpPr>
            <p:cNvPr id="406" name=""/>
            <p:cNvSpPr/>
            <p:nvPr/>
          </p:nvSpPr>
          <p:spPr>
            <a:xfrm>
              <a:off x="4495680" y="30492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arning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definition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mmission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la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flipV="1">
              <a:off x="3352320" y="380520"/>
              <a:ext cx="11430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3048120" y="1752480"/>
            <a:ext cx="4114800" cy="580680"/>
            <a:chOff x="3048120" y="1752480"/>
            <a:chExt cx="4114800" cy="580680"/>
          </a:xfrm>
        </p:grpSpPr>
        <p:sp>
          <p:nvSpPr>
            <p:cNvPr id="409" name=""/>
            <p:cNvSpPr/>
            <p:nvPr/>
          </p:nvSpPr>
          <p:spPr>
            <a:xfrm>
              <a:off x="4267080" y="1752480"/>
              <a:ext cx="2895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definition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mmission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la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3048120" y="19810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66" dur="1" fill="hold"/>
                                  <p:tgtEl>
                                    <p:spTgt spid="4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0" y="0"/>
          <a:ext cx="6856560" cy="626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62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086600" y="83808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yroll.cpp (1 of 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2209680" y="2743200"/>
            <a:ext cx="6248520" cy="1190160"/>
            <a:chOff x="2209680" y="2743200"/>
            <a:chExt cx="6248520" cy="1190160"/>
          </a:xfrm>
        </p:grpSpPr>
        <p:sp>
          <p:nvSpPr>
            <p:cNvPr id="415" name=""/>
            <p:cNvSpPr/>
            <p:nvPr/>
          </p:nvSpPr>
          <p:spPr>
            <a:xfrm>
              <a:off x="5562720" y="335268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luding header files for classes derived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2209680" y="2743200"/>
              <a:ext cx="33530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3124080" y="4266720"/>
            <a:ext cx="5029200" cy="977040"/>
            <a:chOff x="3124080" y="4266720"/>
            <a:chExt cx="5029200" cy="977040"/>
          </a:xfrm>
        </p:grpSpPr>
        <p:sp>
          <p:nvSpPr>
            <p:cNvPr id="418" name=""/>
            <p:cNvSpPr/>
            <p:nvPr/>
          </p:nvSpPr>
          <p:spPr>
            <a:xfrm>
              <a:off x="5486400" y="44197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prototypes declaring parameters using an array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oin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flipV="1">
              <a:off x="3124080" y="4266720"/>
              <a:ext cx="23623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80" dur="1" fill="hold"/>
                                  <p:tgtEl>
                                    <p:spTgt spid="4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"/>
          <p:cNvGraphicFramePr/>
          <p:nvPr/>
        </p:nvGraphicFramePr>
        <p:xfrm>
          <a:off x="0" y="0"/>
          <a:ext cx="6856560" cy="601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60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"/>
          <p:cNvSpPr/>
          <p:nvPr/>
        </p:nvSpPr>
        <p:spPr>
          <a:xfrm>
            <a:off x="7086600" y="83808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yroll.cpp (2 of 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3352680" y="1143000"/>
            <a:ext cx="5410440" cy="1448280"/>
            <a:chOff x="3352680" y="1143000"/>
            <a:chExt cx="5410440" cy="1448280"/>
          </a:xfrm>
        </p:grpSpPr>
        <p:sp>
          <p:nvSpPr>
            <p:cNvPr id="424" name=""/>
            <p:cNvSpPr/>
            <p:nvPr/>
          </p:nvSpPr>
          <p:spPr>
            <a:xfrm>
              <a:off x="5791320" y="1523880"/>
              <a:ext cx="29718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rray of pointer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 that enables the application to process employees polymorphical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flipV="1">
              <a:off x="3352680" y="1143000"/>
              <a:ext cx="24386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89" dur="1" fill="hold"/>
                                  <p:tgtEl>
                                    <p:spTgt spid="4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"/>
          <p:cNvGraphicFramePr/>
          <p:nvPr/>
        </p:nvGraphicFramePr>
        <p:xfrm>
          <a:off x="0" y="0"/>
          <a:ext cx="6856560" cy="626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62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"/>
          <p:cNvSpPr/>
          <p:nvPr/>
        </p:nvSpPr>
        <p:spPr>
          <a:xfrm>
            <a:off x="7086600" y="83808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yroll.cpp (3 of 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7086600" y="83808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yroll.cpp (4 of 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0" y="0"/>
          <a:ext cx="6856560" cy="626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62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2" name=""/>
          <p:cNvGrpSpPr/>
          <p:nvPr/>
        </p:nvGrpSpPr>
        <p:grpSpPr>
          <a:xfrm>
            <a:off x="2743200" y="1143000"/>
            <a:ext cx="5943600" cy="1281240"/>
            <a:chOff x="2743200" y="1143000"/>
            <a:chExt cx="5943600" cy="1281240"/>
          </a:xfrm>
        </p:grpSpPr>
        <p:sp>
          <p:nvSpPr>
            <p:cNvPr id="433" name=""/>
            <p:cNvSpPr/>
            <p:nvPr/>
          </p:nvSpPr>
          <p:spPr>
            <a:xfrm>
              <a:off x="5791320" y="160020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ele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destroy each object referenced by a pointer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 flipV="1">
              <a:off x="2743200" y="1143000"/>
              <a:ext cx="3200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98" dur="1" fill="hold"/>
                                  <p:tgtEl>
                                    <p:spTgt spid="4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66880" y="2824200"/>
            <a:ext cx="5610240" cy="2076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12200" y="1447920"/>
            <a:ext cx="756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ing a third employee’s information into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yro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5" name=""/>
          <p:cNvGraphicFramePr/>
          <p:nvPr/>
        </p:nvGraphicFramePr>
        <p:xfrm>
          <a:off x="0" y="0"/>
          <a:ext cx="6856560" cy="575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7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"/>
          <p:cNvSpPr/>
          <p:nvPr/>
        </p:nvSpPr>
        <p:spPr>
          <a:xfrm>
            <a:off x="7086600" y="83808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yroll.cpp (5 of 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2362320" y="2971800"/>
            <a:ext cx="5257800" cy="580680"/>
            <a:chOff x="2362320" y="2971800"/>
            <a:chExt cx="5257800" cy="580680"/>
          </a:xfrm>
        </p:grpSpPr>
        <p:sp>
          <p:nvSpPr>
            <p:cNvPr id="439" name=""/>
            <p:cNvSpPr/>
            <p:nvPr/>
          </p:nvSpPr>
          <p:spPr>
            <a:xfrm>
              <a:off x="5029200" y="297180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witch based on the selected employee ty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2362320" y="350532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1523520" y="3886200"/>
            <a:ext cx="6096600" cy="580680"/>
            <a:chOff x="1523520" y="3886200"/>
            <a:chExt cx="6096600" cy="580680"/>
          </a:xfrm>
        </p:grpSpPr>
        <p:sp>
          <p:nvSpPr>
            <p:cNvPr id="442" name=""/>
            <p:cNvSpPr/>
            <p:nvPr/>
          </p:nvSpPr>
          <p:spPr>
            <a:xfrm>
              <a:off x="5105520" y="388620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egin the case for a salaried employe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1523520" y="3962520"/>
              <a:ext cx="358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4191120" y="1904760"/>
            <a:ext cx="4114800" cy="733320"/>
            <a:chOff x="4191120" y="1904760"/>
            <a:chExt cx="4114800" cy="733320"/>
          </a:xfrm>
        </p:grpSpPr>
        <p:sp>
          <p:nvSpPr>
            <p:cNvPr id="445" name=""/>
            <p:cNvSpPr/>
            <p:nvPr/>
          </p:nvSpPr>
          <p:spPr>
            <a:xfrm>
              <a:off x="5410080" y="2057400"/>
              <a:ext cx="2895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 the user for and input the employee ty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 flipV="1">
              <a:off x="4191120" y="1904760"/>
              <a:ext cx="1218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17" dur="1" fill="hold"/>
                                  <p:tgtEl>
                                    <p:spTgt spid="4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7" name=""/>
          <p:cNvGraphicFramePr/>
          <p:nvPr/>
        </p:nvGraphicFramePr>
        <p:xfrm>
          <a:off x="0" y="0"/>
          <a:ext cx="6856560" cy="575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7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9" name=""/>
          <p:cNvSpPr/>
          <p:nvPr/>
        </p:nvSpPr>
        <p:spPr>
          <a:xfrm>
            <a:off x="7086600" y="83808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yroll.cpp (6 of 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3200040" y="380520"/>
            <a:ext cx="3810240" cy="1220400"/>
            <a:chOff x="3200040" y="380520"/>
            <a:chExt cx="3810240" cy="1220400"/>
          </a:xfrm>
        </p:grpSpPr>
        <p:sp>
          <p:nvSpPr>
            <p:cNvPr id="451" name=""/>
            <p:cNvSpPr/>
            <p:nvPr/>
          </p:nvSpPr>
          <p:spPr>
            <a:xfrm>
              <a:off x="3962520" y="533520"/>
              <a:ext cx="30477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create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alaried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and store a pointer to it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 flipV="1">
              <a:off x="3200040" y="38052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1599840" y="1523520"/>
            <a:ext cx="7010640" cy="885960"/>
            <a:chOff x="1599840" y="1523520"/>
            <a:chExt cx="7010640" cy="885960"/>
          </a:xfrm>
        </p:grpSpPr>
        <p:sp>
          <p:nvSpPr>
            <p:cNvPr id="454" name=""/>
            <p:cNvSpPr/>
            <p:nvPr/>
          </p:nvSpPr>
          <p:spPr>
            <a:xfrm>
              <a:off x="6324480" y="182880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egin the case for a commissioned employe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 flipV="1">
              <a:off x="1599840" y="1523520"/>
              <a:ext cx="4724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4343400" y="4572000"/>
            <a:ext cx="3505320" cy="1524600"/>
            <a:chOff x="4343400" y="4572000"/>
            <a:chExt cx="3505320" cy="1524600"/>
          </a:xfrm>
        </p:grpSpPr>
        <p:sp>
          <p:nvSpPr>
            <p:cNvPr id="457" name=""/>
            <p:cNvSpPr/>
            <p:nvPr/>
          </p:nvSpPr>
          <p:spPr>
            <a:xfrm>
              <a:off x="4876920" y="5029200"/>
              <a:ext cx="29718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create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mmission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and store a pointer to it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 flipV="1">
              <a:off x="4343400" y="457200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36" dur="1" fill="hold"/>
                                  <p:tgtEl>
                                    <p:spTgt spid="4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9" name=""/>
          <p:cNvGraphicFramePr/>
          <p:nvPr/>
        </p:nvGraphicFramePr>
        <p:xfrm>
          <a:off x="0" y="0"/>
          <a:ext cx="6856560" cy="626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62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1" name=""/>
          <p:cNvSpPr/>
          <p:nvPr/>
        </p:nvSpPr>
        <p:spPr>
          <a:xfrm>
            <a:off x="7086600" y="83808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yroll.cpp (7 of 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1599840" y="228600"/>
            <a:ext cx="6401160" cy="1875960"/>
            <a:chOff x="1599840" y="228600"/>
            <a:chExt cx="6401160" cy="1875960"/>
          </a:xfrm>
        </p:grpSpPr>
        <p:sp>
          <p:nvSpPr>
            <p:cNvPr id="463" name=""/>
            <p:cNvSpPr/>
            <p:nvPr/>
          </p:nvSpPr>
          <p:spPr>
            <a:xfrm>
              <a:off x="5486400" y="152388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egin the case for an hourly employe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 flipV="1">
              <a:off x="1599840" y="228600"/>
              <a:ext cx="38862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4343040" y="2971800"/>
            <a:ext cx="4038840" cy="1067400"/>
            <a:chOff x="4343040" y="2971800"/>
            <a:chExt cx="4038840" cy="1067400"/>
          </a:xfrm>
        </p:grpSpPr>
        <p:sp>
          <p:nvSpPr>
            <p:cNvPr id="466" name=""/>
            <p:cNvSpPr/>
            <p:nvPr/>
          </p:nvSpPr>
          <p:spPr>
            <a:xfrm>
              <a:off x="5562720" y="2971800"/>
              <a:ext cx="28191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create a ne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ly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and store a pointer to it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 flipV="1">
              <a:off x="4343040" y="3124080"/>
              <a:ext cx="12193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0" dur="1" fill="hold"/>
                                  <p:tgtEl>
                                    <p:spTgt spid="4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8" name=""/>
          <p:cNvGraphicFramePr/>
          <p:nvPr/>
        </p:nvGraphicFramePr>
        <p:xfrm>
          <a:off x="0" y="0"/>
          <a:ext cx="6856560" cy="575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7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"/>
          <p:cNvSpPr/>
          <p:nvPr/>
        </p:nvSpPr>
        <p:spPr>
          <a:xfrm>
            <a:off x="7086600" y="83808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yroll.cpp (8 of 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4800240" y="4572000"/>
            <a:ext cx="4038840" cy="1219680"/>
            <a:chOff x="4800240" y="4572000"/>
            <a:chExt cx="4038840" cy="1219680"/>
          </a:xfrm>
        </p:grpSpPr>
        <p:sp>
          <p:nvSpPr>
            <p:cNvPr id="472" name=""/>
            <p:cNvSpPr/>
            <p:nvPr/>
          </p:nvSpPr>
          <p:spPr>
            <a:xfrm>
              <a:off x="5867280" y="4724280"/>
              <a:ext cx="29718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cess each object derived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olymorphically; the overridd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arning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defined by each subclass is call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 flipV="1">
              <a:off x="4800240" y="4572000"/>
              <a:ext cx="10666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3276360" y="5334120"/>
            <a:ext cx="1981440" cy="718200"/>
            <a:chOff x="3276360" y="5334120"/>
            <a:chExt cx="1981440" cy="718200"/>
          </a:xfrm>
        </p:grpSpPr>
        <p:sp>
          <p:nvSpPr>
            <p:cNvPr id="475" name=""/>
            <p:cNvSpPr/>
            <p:nvPr/>
          </p:nvSpPr>
          <p:spPr>
            <a:xfrm>
              <a:off x="3276720" y="5715000"/>
              <a:ext cx="19810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dd earnings to tot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flipV="1">
              <a:off x="3276360" y="5334120"/>
              <a:ext cx="53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3200400" y="3505320"/>
            <a:ext cx="5486400" cy="580680"/>
            <a:chOff x="3200400" y="3505320"/>
            <a:chExt cx="5486400" cy="580680"/>
          </a:xfrm>
        </p:grpSpPr>
        <p:sp>
          <p:nvSpPr>
            <p:cNvPr id="478" name=""/>
            <p:cNvSpPr/>
            <p:nvPr/>
          </p:nvSpPr>
          <p:spPr>
            <a:xfrm>
              <a:off x="5943600" y="350532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 each employee’s name and type using polymorphis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 flipV="1">
              <a:off x="3200400" y="3733560"/>
              <a:ext cx="27432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69" dur="1" fill="hold"/>
                                  <p:tgtEl>
                                    <p:spTgt spid="4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0" name=""/>
          <p:cNvGraphicFramePr/>
          <p:nvPr/>
        </p:nvGraphicFramePr>
        <p:xfrm>
          <a:off x="0" y="0"/>
          <a:ext cx="6856560" cy="275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27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"/>
          <p:cNvSpPr/>
          <p:nvPr/>
        </p:nvSpPr>
        <p:spPr>
          <a:xfrm>
            <a:off x="7086600" y="83808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yroll.cpp (9 of 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3962520" y="456840"/>
            <a:ext cx="2361960" cy="566280"/>
            <a:chOff x="3962520" y="456840"/>
            <a:chExt cx="2361960" cy="566280"/>
          </a:xfrm>
        </p:grpSpPr>
        <p:sp>
          <p:nvSpPr>
            <p:cNvPr id="484" name=""/>
            <p:cNvSpPr/>
            <p:nvPr/>
          </p:nvSpPr>
          <p:spPr>
            <a:xfrm>
              <a:off x="4267080" y="68580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 total earnin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 flipV="1">
              <a:off x="3962520" y="45684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78" dur="1" fill="hold"/>
                                  <p:tgtEl>
                                    <p:spTgt spid="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7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yroll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66880" y="2766960"/>
            <a:ext cx="5610240" cy="2190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08960" y="1447920"/>
            <a:ext cx="349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7.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the payro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6:10:13Z</dcterms:created>
  <dc:creator>Jeffrey Peng</dc:creator>
  <dc:description/>
  <dc:language>en-US</dc:language>
  <cp:lastModifiedBy>Pearson Education</cp:lastModifiedBy>
  <dcterms:modified xsi:type="dcterms:W3CDTF">2004-10-11T14:12:48Z</dcterms:modified>
  <cp:revision>129</cp:revision>
  <dc:subject/>
  <dc:title>Tutorial 17 – Payroll Application: Introducing Inheritance and Polymorphism</dc:title>
</cp:coreProperties>
</file>