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7F7-5088-4619-9E5D-E133F686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2B1-0858-410D-902B-6CCE79B1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121-5CC2-4943-B8C2-1375CEE5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C97-9F01-43D7-A79C-84939080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103-5A96-4862-BF02-C70D2092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021-B8D6-47B0-A3D1-4E8AD9EB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99D-BE0D-4FF1-9269-49493EEC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0F3-0B87-4D5A-B58B-7D5EEAE6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A12-04BF-4646-A959-8B801587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8C9-B730-4ACF-9B5D-65DE62A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ABA-10D9-466D-A71B-7AFBCF72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EF9-7269-41FD-B91B-50F7214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578A-F971-41D3-BFD8-A625E03A8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2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aps Ga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Random Number Generation and Enumeration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2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2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Random Number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2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2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2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andom Number Gener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function prototypes for the conversion of numbers to text and text to numbers, the generation of random numbers and other utilit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pseudorandom numbers between 0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ymbolic constant define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andom Number Gener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e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used to se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termines the sequence of pseudorandom numbers it gene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 time( 0 )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te a different sequence of pseudorandom numbers each time the application r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the current calendar time in seconds since 1/1/1970 00:00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prototype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90480" y="1371600"/>
          <a:ext cx="7745400" cy="51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371600"/>
                    <a:ext cx="77454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Random Number Gener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modulus operator to generate random numbers within a certain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, followed by the typ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umeration constants start at 0, unless specified otherwise, and increment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ing to assign another value to an enumeration constant after it has been defined is an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user-defined (or programmer-defined)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Roll the two dice using random numb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Calculate and display the sum of the two d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Switch based on the sum of the two dic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Case where the sum is 7 or 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Display the winning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Case where the sum is 2, 3 or 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Display the losing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Default c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Set the value of the point to the sum of the dice and display the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While the player has not won or l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Roll the two dice using random numb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Calculate and display the sum of the two d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If the player rolled the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Display the winning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If the player rolls a 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500" spc="-1" strike="noStrike">
                <a:solidFill>
                  <a:srgbClr val="275aff"/>
                </a:solidFill>
                <a:latin typeface="Times New Roman"/>
              </a:rPr>
              <a:t>Display the losing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6960" y="1263600"/>
            <a:ext cx="56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code for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08200" y="2619360"/>
            <a:ext cx="6230880" cy="1647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5440" y="1614600"/>
            <a:ext cx="76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ndard library header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hat the application can produce random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43828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2819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657600"/>
            <a:ext cx="20574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62320" y="36576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08200" y="1959120"/>
            <a:ext cx="6230880" cy="1466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simulates rolling two 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value of the sum of the two 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2960" y="1386000"/>
            <a:ext cx="55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prot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36232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26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79600" y="1828800"/>
            <a:ext cx="6230880" cy="279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4480" y="1395360"/>
            <a:ext cx="61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constant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17528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32240" y="2057400"/>
            <a:ext cx="6230880" cy="162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8160" y="1547640"/>
            <a:ext cx="60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variables 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133720"/>
            <a:ext cx="198108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variables to store the result of the most recent dice roll, user’s point and text read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81952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32240" y="1954080"/>
            <a:ext cx="6230880" cy="1476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-defined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only be one of thre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386000"/>
            <a:ext cx="63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yword to declare an enum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133720"/>
            <a:ext cx="12956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ing an enum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4382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imulation techniques that employ random-number gene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ath library function to generate random nu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numerations to enhance code readabil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an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32240" y="2025720"/>
            <a:ext cx="6230880" cy="133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5920" y="1461960"/>
            <a:ext cx="80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variable to store values declared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um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133720"/>
            <a:ext cx="1828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a variable of 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38280" y="1940040"/>
            <a:ext cx="6230880" cy="1504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( 0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s the current “calendar time” in seconds sicne 1/1/1970 00:0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5120" y="1461960"/>
            <a:ext cx="73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r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s to seed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514600"/>
            <a:ext cx="14475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e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79600" y="1940040"/>
            <a:ext cx="6230880" cy="1504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ing the rollDic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s” two dice, displays their values and returns their 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5080" y="137160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ing” the d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666880"/>
            <a:ext cx="1676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ing” the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4" dur="1" fill="hold"/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55920" y="1905120"/>
            <a:ext cx="6230880" cy="3914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1040" y="1353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895480"/>
            <a:ext cx="1218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ning on the first 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200400"/>
            <a:ext cx="198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267080"/>
            <a:ext cx="1218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ing on the first 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523880" y="441936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3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4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08200" y="1630440"/>
            <a:ext cx="6230880" cy="2124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ing the integer equivalent of an enumeration constant to a variable of the enumeration type is a syntax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560" y="1233360"/>
            <a:ext cx="377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se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057400"/>
            <a:ext cx="2362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must match the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2096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81952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3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79600" y="2286000"/>
            <a:ext cx="6230880" cy="2257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4840" y="1549440"/>
            <a:ext cx="407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ng th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a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666880"/>
            <a:ext cx="16002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while the user has neither won, nor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124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886200"/>
            <a:ext cx="1524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the user to pres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76520" y="365760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3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4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03640" y="1981080"/>
            <a:ext cx="6230880" cy="2924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88880" y="1471680"/>
            <a:ext cx="64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ing the dice and determining the outcome of a r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251460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ing the dice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2666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581280"/>
            <a:ext cx="12956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ing the gam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447920" y="3657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3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4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79600" y="2209680"/>
            <a:ext cx="6230880" cy="2619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88880" y="1447920"/>
            <a:ext cx="49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outcome of the g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3124080"/>
            <a:ext cx="21337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outcome of the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4290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6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240600" cy="293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65560" y="1486080"/>
            <a:ext cx="45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3048120"/>
            <a:ext cx="22100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ng local variables to store di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886200"/>
            <a:ext cx="19810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ting two random numbers and storing their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09680" y="39625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5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6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55920" y="2209680"/>
            <a:ext cx="6230880" cy="1971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88880" y="1638360"/>
            <a:ext cx="57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590920"/>
            <a:ext cx="1447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the sum of the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8954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276720"/>
            <a:ext cx="13716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ing the sum of the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5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6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4280" y="2243160"/>
            <a:ext cx="7974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1400" y="1700280"/>
            <a:ext cx="70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output from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6856560" cy="325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858000" y="5335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1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990720"/>
            <a:ext cx="24382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52480" y="990720"/>
            <a:ext cx="3810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1905120"/>
            <a:ext cx="24386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dtdlib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04760" y="1676160"/>
            <a:ext cx="4190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2895480"/>
            <a:ext cx="37335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llD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828440" y="266652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4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2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209232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047760" y="22446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1240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3200400"/>
            <a:ext cx="2210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 an enum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65724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4572000"/>
            <a:ext cx="3352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a variable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25744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1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2" dur="1" fill="hold"/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3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52280"/>
            <a:ext cx="2210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ed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09320" y="304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609480"/>
            <a:ext cx="14479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” the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057040" y="762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205740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 on the first 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1424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61620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e on the first 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514600" y="3768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7" dur="1" fill="hold"/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8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4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990720"/>
            <a:ext cx="1523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must match the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266720" y="12189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2244600"/>
            <a:ext cx="2971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until user has won or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352320" y="23972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342900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” the dice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96216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453060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if user w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09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3" dur="1" fill="hold"/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4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685656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58000" y="380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5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57200"/>
            <a:ext cx="1981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if user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6665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308304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game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361960" y="312408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3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4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6858000" y="457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apsGame.cpp (6 of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248520" y="1676520"/>
            <a:ext cx="2361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 random numbers and calculate their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80060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2743200"/>
            <a:ext cx="20574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the die values and their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10516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3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4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398680" y="2590920"/>
            <a:ext cx="6288120" cy="1333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1520" y="1790640"/>
            <a:ext cx="49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r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being cal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12408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ing the call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sing a com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5" dur="1" fill="hold"/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6" dur="1" fill="hold"/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Random Numbers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66880" y="216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eed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causes the same output to be displayed each time the application is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2840" y="1638360"/>
            <a:ext cx="769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rom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whe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r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not cal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8160" y="1700280"/>
            <a:ext cx="701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an initial appearance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ps 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3760" y="1928880"/>
            <a:ext cx="56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r winning on the first roll by rolling an 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7440" y="2004840"/>
            <a:ext cx="52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r losing on the first roll by rolling a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440" y="1776240"/>
            <a:ext cx="80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r’s first roll setting the point value that the player must match to w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efore rolling a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8520" y="1752480"/>
            <a:ext cx="78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r winning the game by matching the point value before rolling a 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2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aps Gam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3400" y="1776240"/>
            <a:ext cx="682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er losing by rolling a 7 before matching the point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8:41:51Z</dcterms:created>
  <dc:creator>Eric Winokur</dc:creator>
  <dc:description/>
  <dc:language>en-US</dc:language>
  <cp:lastModifiedBy>Pearson Education</cp:lastModifiedBy>
  <dcterms:modified xsi:type="dcterms:W3CDTF">2004-10-11T14:13:34Z</dcterms:modified>
  <cp:revision>178</cp:revision>
  <dc:subject/>
  <dc:title>Tutorial 12 – Craps Game Application: Introducing Random Number Generation and Enumerations</dc:title>
</cp:coreProperties>
</file>