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wmf" ContentType="image/x-wmf"/>
  <Override PartName="/ppt/media/image7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36.wmf" ContentType="image/x-wmf"/>
  <Override PartName="/ppt/media/image1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D6F-C5F8-4F5B-B047-1C0C0D1B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426-1989-42DD-8AC0-96BCBC7D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2C6-F8AF-4688-A4CA-3BF020C1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460-7EB1-43A5-BA5F-307C50F5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066-F381-441C-BCDB-D192306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E28-B9D3-4CC2-B561-C06435C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3AB-4F81-4C4D-851B-21ACE916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CF7-BDA1-44B0-A317-DEBC7A53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963-243C-4006-B132-92D2A37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F1B-FF21-4419-B702-597E164B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356-C2F6-41FF-B59F-B758639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FE2-66D1-49E5-BCEA-6B9C39B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85DF-FD97-4A3E-908D-27B316C76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3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lary Surv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One-Dimensional Array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ing Array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Declaring and Initializing Array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3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an array by using square brack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the array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nitializ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comma-separated lists enclosed by brac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array size is specified within the square brackets, the size of the initializer list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an initializer list with more elements than the array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an initializer list with fewer elements than the array causes unintialized elements to be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733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nitializ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every element to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60404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6459480" cy="447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33520" y="5486400"/>
            <a:ext cx="38192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36760" y="2438280"/>
            <a:ext cx="6269040" cy="23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9680" y="1461960"/>
            <a:ext cx="52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d initializing an array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520" y="1943280"/>
            <a:ext cx="3657600" cy="1904400"/>
            <a:chOff x="533520" y="1943280"/>
            <a:chExt cx="3657600" cy="1904400"/>
          </a:xfrm>
        </p:grpSpPr>
        <p:sp>
          <p:nvSpPr>
            <p:cNvPr id="82" name=""/>
            <p:cNvSpPr/>
            <p:nvPr/>
          </p:nvSpPr>
          <p:spPr>
            <a:xfrm>
              <a:off x="533520" y="19432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ing and initializing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520" y="2324160"/>
              <a:ext cx="1828800" cy="15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clare array sizes to avoid “magic numb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36760" y="2886120"/>
            <a:ext cx="626904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2920" y="1447920"/>
            <a:ext cx="54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ing the values of an array’s el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47960" y="4038480"/>
            <a:ext cx="3810240" cy="1814760"/>
            <a:chOff x="4647960" y="4038480"/>
            <a:chExt cx="3810240" cy="1814760"/>
          </a:xfrm>
        </p:grpSpPr>
        <p:sp>
          <p:nvSpPr>
            <p:cNvPr id="89" name=""/>
            <p:cNvSpPr/>
            <p:nvPr/>
          </p:nvSpPr>
          <p:spPr>
            <a:xfrm>
              <a:off x="5943600" y="5029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rieving the value of each element and adding it to the total one at a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4647960" y="403848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55840" y="3124080"/>
            <a:ext cx="6230880" cy="147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2560" y="1447920"/>
            <a:ext cx="65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sum of the values of an array’s el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Declaring and Initializ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2200" y="1447920"/>
            <a:ext cx="52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 Arr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0920" y="3885840"/>
            <a:ext cx="4953600" cy="1023480"/>
            <a:chOff x="3580920" y="3885840"/>
            <a:chExt cx="4953600" cy="1023480"/>
          </a:xfrm>
        </p:grpSpPr>
        <p:sp>
          <p:nvSpPr>
            <p:cNvPr id="98" name=""/>
            <p:cNvSpPr/>
            <p:nvPr/>
          </p:nvSpPr>
          <p:spPr>
            <a:xfrm>
              <a:off x="5715000" y="457200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tal value of array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580920" y="3885840"/>
              <a:ext cx="2210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6120" y="3205080"/>
            <a:ext cx="624996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6160" y="1461960"/>
            <a:ext cx="63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prototyp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2438280"/>
            <a:ext cx="2971800" cy="1447920"/>
            <a:chOff x="380880" y="2438280"/>
            <a:chExt cx="2971800" cy="1447920"/>
          </a:xfrm>
        </p:grpSpPr>
        <p:sp>
          <p:nvSpPr>
            <p:cNvPr id="107" name=""/>
            <p:cNvSpPr/>
            <p:nvPr/>
          </p:nvSpPr>
          <p:spPr>
            <a:xfrm>
              <a:off x="380880" y="24382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3048120"/>
              <a:ext cx="1752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55840" y="2962440"/>
            <a:ext cx="6230880" cy="180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4720" y="1461960"/>
            <a:ext cx="73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to store sales and creating an arra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480" y="2438280"/>
            <a:ext cx="4419720" cy="1524240"/>
            <a:chOff x="609480" y="2438280"/>
            <a:chExt cx="4419720" cy="1524240"/>
          </a:xfrm>
        </p:grpSpPr>
        <p:sp>
          <p:nvSpPr>
            <p:cNvPr id="113" name=""/>
            <p:cNvSpPr/>
            <p:nvPr/>
          </p:nvSpPr>
          <p:spPr>
            <a:xfrm>
              <a:off x="609480" y="2438280"/>
              <a:ext cx="4419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and initializ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2819520"/>
              <a:ext cx="1752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38080" y="4191120"/>
            <a:ext cx="3353040" cy="1418760"/>
            <a:chOff x="838080" y="4191120"/>
            <a:chExt cx="3353040" cy="1418760"/>
          </a:xfrm>
        </p:grpSpPr>
        <p:sp>
          <p:nvSpPr>
            <p:cNvPr id="116" name=""/>
            <p:cNvSpPr/>
            <p:nvPr/>
          </p:nvSpPr>
          <p:spPr>
            <a:xfrm>
              <a:off x="838080" y="5029200"/>
              <a:ext cx="3353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initializing its eleme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38080" y="419112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55840" y="3043080"/>
            <a:ext cx="6230880" cy="163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11840" y="1447920"/>
            <a:ext cx="35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ing user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4038480"/>
            <a:ext cx="2209680" cy="1738440"/>
            <a:chOff x="457200" y="4038480"/>
            <a:chExt cx="2209680" cy="1738440"/>
          </a:xfrm>
        </p:grpSpPr>
        <p:sp>
          <p:nvSpPr>
            <p:cNvPr id="122" name=""/>
            <p:cNvSpPr/>
            <p:nvPr/>
          </p:nvSpPr>
          <p:spPr>
            <a:xfrm>
              <a:off x="457200" y="4952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a salesperson’s total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403848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initialize arrays to store groups of related val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information in an arr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individual elements of an arr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6120" y="3114720"/>
            <a:ext cx="624996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6160" y="1447920"/>
            <a:ext cx="820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ream manipulators to display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3520" y="4038120"/>
            <a:ext cx="2895480" cy="1099800"/>
            <a:chOff x="533520" y="4038120"/>
            <a:chExt cx="2895480" cy="1099800"/>
          </a:xfrm>
        </p:grpSpPr>
        <p:sp>
          <p:nvSpPr>
            <p:cNvPr id="128" name=""/>
            <p:cNvSpPr/>
            <p:nvPr/>
          </p:nvSpPr>
          <p:spPr>
            <a:xfrm>
              <a:off x="533520" y="48006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ting floating-point 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828800" y="40381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6120" y="2871720"/>
            <a:ext cx="6249960" cy="198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000" y="1461960"/>
            <a:ext cx="69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repeats until user enters an invalid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3520" y="3809520"/>
            <a:ext cx="2743200" cy="1967400"/>
            <a:chOff x="533520" y="3809520"/>
            <a:chExt cx="2743200" cy="1967400"/>
          </a:xfrm>
        </p:grpSpPr>
        <p:sp>
          <p:nvSpPr>
            <p:cNvPr id="134" name=""/>
            <p:cNvSpPr/>
            <p:nvPr/>
          </p:nvSpPr>
          <p:spPr>
            <a:xfrm>
              <a:off x="533520" y="4952880"/>
              <a:ext cx="27432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will process user input and prompt the user for the next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85800" y="3809520"/>
              <a:ext cx="1676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6120" y="2962440"/>
            <a:ext cx="6249960" cy="1800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9680" y="144792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09480" y="4114800"/>
            <a:ext cx="2286000" cy="1662120"/>
            <a:chOff x="609480" y="4114800"/>
            <a:chExt cx="2286000" cy="1662120"/>
          </a:xfrm>
        </p:grpSpPr>
        <p:sp>
          <p:nvSpPr>
            <p:cNvPr id="140" name=""/>
            <p:cNvSpPr/>
            <p:nvPr/>
          </p:nvSpPr>
          <p:spPr>
            <a:xfrm>
              <a:off x="609480" y="49528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the salary and its corresponding index i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62120" y="411480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65120" y="2819520"/>
            <a:ext cx="6411960" cy="101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2560" y="1461960"/>
            <a:ext cx="833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 issued by the compiler when assign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76520" y="3580920"/>
            <a:ext cx="3200400" cy="947160"/>
            <a:chOff x="1676520" y="3580920"/>
            <a:chExt cx="3200400" cy="947160"/>
          </a:xfrm>
        </p:grpSpPr>
        <p:sp>
          <p:nvSpPr>
            <p:cNvPr id="146" name=""/>
            <p:cNvSpPr/>
            <p:nvPr/>
          </p:nvSpPr>
          <p:spPr>
            <a:xfrm>
              <a:off x="1676520" y="419076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rning due to possible loss of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209320" y="3580920"/>
              <a:ext cx="838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85800" y="487692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ings do not prevent the application from compiling, but might indicate logic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6120" y="3295800"/>
            <a:ext cx="6249960" cy="1133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3640" y="1461960"/>
            <a:ext cx="77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ly converting the floating-point result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revent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w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495680" y="4114440"/>
            <a:ext cx="2971800" cy="1343160"/>
            <a:chOff x="4495680" y="4114440"/>
            <a:chExt cx="2971800" cy="1343160"/>
          </a:xfrm>
        </p:grpSpPr>
        <p:sp>
          <p:nvSpPr>
            <p:cNvPr id="153" name=""/>
            <p:cNvSpPr/>
            <p:nvPr/>
          </p:nvSpPr>
          <p:spPr>
            <a:xfrm>
              <a:off x="4495680" y="48769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converting the result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revent a w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647960" y="4114440"/>
              <a:ext cx="1447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46120" y="2552760"/>
            <a:ext cx="6249960" cy="2619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4000" y="1461960"/>
            <a:ext cx="59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the count of salaries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Arr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19720" y="3809520"/>
            <a:ext cx="3733560" cy="1724040"/>
            <a:chOff x="4419720" y="3809520"/>
            <a:chExt cx="3733560" cy="1724040"/>
          </a:xfrm>
        </p:grpSpPr>
        <p:sp>
          <p:nvSpPr>
            <p:cNvPr id="159" name=""/>
            <p:cNvSpPr/>
            <p:nvPr/>
          </p:nvSpPr>
          <p:spPr>
            <a:xfrm>
              <a:off x="5562720" y="495288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the appropriate elemen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4724280" y="4419360"/>
              <a:ext cx="1981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419720" y="3809520"/>
              <a:ext cx="2286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9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50800" y="2886120"/>
            <a:ext cx="6240600" cy="1952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5080" y="1447920"/>
            <a:ext cx="79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salary and prompting the user for the next sales fig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24280" y="4343400"/>
            <a:ext cx="3810240" cy="1175400"/>
            <a:chOff x="4724280" y="4343400"/>
            <a:chExt cx="3810240" cy="1175400"/>
          </a:xfrm>
        </p:grpSpPr>
        <p:sp>
          <p:nvSpPr>
            <p:cNvPr id="166" name=""/>
            <p:cNvSpPr/>
            <p:nvPr/>
          </p:nvSpPr>
          <p:spPr>
            <a:xfrm>
              <a:off x="5410080" y="518148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user for next sales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724280" y="4343400"/>
              <a:ext cx="2895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8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1440" y="2133720"/>
            <a:ext cx="6259680" cy="1495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8320" y="1461960"/>
            <a:ext cx="79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Arr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reference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1640" y="3057120"/>
            <a:ext cx="4267440" cy="824400"/>
            <a:chOff x="4571640" y="3057120"/>
            <a:chExt cx="4267440" cy="824400"/>
          </a:xfrm>
        </p:grpSpPr>
        <p:sp>
          <p:nvSpPr>
            <p:cNvPr id="172" name=""/>
            <p:cNvSpPr/>
            <p:nvPr/>
          </p:nvSpPr>
          <p:spPr>
            <a:xfrm>
              <a:off x="6172200" y="3057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pass-be-reference when pas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571640" y="3057120"/>
              <a:ext cx="16002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5800" y="46483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are passed-by-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that are passed-by-reference give the callee direct access to the argument in the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7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1440" y="2971800"/>
            <a:ext cx="6259680" cy="178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4000" y="1461960"/>
            <a:ext cx="51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2286000"/>
            <a:ext cx="1828800" cy="1447920"/>
            <a:chOff x="457200" y="2286000"/>
            <a:chExt cx="1828800" cy="1447920"/>
          </a:xfrm>
        </p:grpSpPr>
        <p:sp>
          <p:nvSpPr>
            <p:cNvPr id="179" name=""/>
            <p:cNvSpPr/>
            <p:nvPr/>
          </p:nvSpPr>
          <p:spPr>
            <a:xfrm>
              <a:off x="457200" y="22860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2895480"/>
              <a:ext cx="1219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50800" y="2719440"/>
            <a:ext cx="624060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120" y="1461960"/>
            <a:ext cx="78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and displaying a table header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yTo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1828800"/>
            <a:ext cx="2590920" cy="1905120"/>
            <a:chOff x="457200" y="1828800"/>
            <a:chExt cx="2590920" cy="1905120"/>
          </a:xfrm>
        </p:grpSpPr>
        <p:sp>
          <p:nvSpPr>
            <p:cNvPr id="185" name=""/>
            <p:cNvSpPr/>
            <p:nvPr/>
          </p:nvSpPr>
          <p:spPr>
            <a:xfrm>
              <a:off x="457200" y="1828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local variables to store the upper and lower bounds for each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2666880"/>
              <a:ext cx="1828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495320" y="4495320"/>
            <a:ext cx="4115160" cy="1099800"/>
            <a:chOff x="4495320" y="4495320"/>
            <a:chExt cx="4115160" cy="1099800"/>
          </a:xfrm>
        </p:grpSpPr>
        <p:sp>
          <p:nvSpPr>
            <p:cNvPr id="188" name=""/>
            <p:cNvSpPr/>
            <p:nvPr/>
          </p:nvSpPr>
          <p:spPr>
            <a:xfrm>
              <a:off x="6324480" y="525780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 table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495320" y="4495320"/>
              <a:ext cx="2590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411200"/>
          <a:ext cx="776916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41440" y="2467080"/>
            <a:ext cx="6259680" cy="279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1120" y="1447920"/>
            <a:ext cx="65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number of salaries in each salary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480" y="1905120"/>
            <a:ext cx="3124440" cy="1295280"/>
            <a:chOff x="609480" y="1905120"/>
            <a:chExt cx="3124440" cy="1295280"/>
          </a:xfrm>
        </p:grpSpPr>
        <p:sp>
          <p:nvSpPr>
            <p:cNvPr id="194" name=""/>
            <p:cNvSpPr/>
            <p:nvPr/>
          </p:nvSpPr>
          <p:spPr>
            <a:xfrm>
              <a:off x="609480" y="1905120"/>
              <a:ext cx="3124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va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480" y="2209680"/>
              <a:ext cx="1676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520" y="3809520"/>
            <a:ext cx="2743200" cy="2181240"/>
            <a:chOff x="533520" y="3809520"/>
            <a:chExt cx="2743200" cy="2181240"/>
          </a:xfrm>
        </p:grpSpPr>
        <p:sp>
          <p:nvSpPr>
            <p:cNvPr id="197" name=""/>
            <p:cNvSpPr/>
            <p:nvPr/>
          </p:nvSpPr>
          <p:spPr>
            <a:xfrm>
              <a:off x="533520" y="54100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ing the upper and lower bounds for the current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33520" y="3809520"/>
              <a:ext cx="2057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257800" y="4495320"/>
            <a:ext cx="3048120" cy="1419480"/>
            <a:chOff x="5257800" y="4495320"/>
            <a:chExt cx="3048120" cy="1419480"/>
          </a:xfrm>
        </p:grpSpPr>
        <p:sp>
          <p:nvSpPr>
            <p:cNvPr id="200" name=""/>
            <p:cNvSpPr/>
            <p:nvPr/>
          </p:nvSpPr>
          <p:spPr>
            <a:xfrm>
              <a:off x="5486400" y="533412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salary range and number of salaries in that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257800" y="449532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55840" y="3114720"/>
            <a:ext cx="6230880" cy="1495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5440" y="1447920"/>
            <a:ext cx="68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the range and salary count for $1000 and gre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4114440"/>
            <a:ext cx="2971800" cy="1343160"/>
            <a:chOff x="5029200" y="4114440"/>
            <a:chExt cx="2971800" cy="1343160"/>
          </a:xfrm>
        </p:grpSpPr>
        <p:sp>
          <p:nvSpPr>
            <p:cNvPr id="206" name=""/>
            <p:cNvSpPr/>
            <p:nvPr/>
          </p:nvSpPr>
          <p:spPr>
            <a:xfrm>
              <a:off x="5562720" y="48769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for the final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5029200" y="41144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8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66880" y="2481120"/>
            <a:ext cx="5610240" cy="2762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3280" y="1447920"/>
            <a:ext cx="69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input and output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66880" y="2766960"/>
            <a:ext cx="5610240" cy="2190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0040" y="1447920"/>
            <a:ext cx="64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of salaries in each range displayed upon ex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81080" y="2362320"/>
            <a:ext cx="6477120" cy="961560"/>
            <a:chOff x="1981080" y="2362320"/>
            <a:chExt cx="6477120" cy="961560"/>
          </a:xfrm>
        </p:grpSpPr>
        <p:sp>
          <p:nvSpPr>
            <p:cNvPr id="218" name=""/>
            <p:cNvSpPr/>
            <p:nvPr/>
          </p:nvSpPr>
          <p:spPr>
            <a:xfrm>
              <a:off x="5638680" y="27432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1981080" y="236232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057040" y="3657600"/>
            <a:ext cx="6629760" cy="337320"/>
            <a:chOff x="2057040" y="3657600"/>
            <a:chExt cx="6629760" cy="337320"/>
          </a:xfrm>
        </p:grpSpPr>
        <p:sp>
          <p:nvSpPr>
            <p:cNvPr id="221" name=""/>
            <p:cNvSpPr/>
            <p:nvPr/>
          </p:nvSpPr>
          <p:spPr>
            <a:xfrm>
              <a:off x="5562720" y="365760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057040" y="373392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057040" y="4114800"/>
            <a:ext cx="6553440" cy="961920"/>
            <a:chOff x="2057040" y="4114800"/>
            <a:chExt cx="6553440" cy="961920"/>
          </a:xfrm>
        </p:grpSpPr>
        <p:sp>
          <p:nvSpPr>
            <p:cNvPr id="224" name=""/>
            <p:cNvSpPr/>
            <p:nvPr/>
          </p:nvSpPr>
          <p:spPr>
            <a:xfrm>
              <a:off x="5486400" y="449604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initialize its eleme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057040" y="4114800"/>
              <a:ext cx="3429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7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361960" y="914400"/>
            <a:ext cx="4495680" cy="824040"/>
            <a:chOff x="2361960" y="914400"/>
            <a:chExt cx="4495680" cy="824040"/>
          </a:xfrm>
        </p:grpSpPr>
        <p:sp>
          <p:nvSpPr>
            <p:cNvPr id="230" name=""/>
            <p:cNvSpPr/>
            <p:nvPr/>
          </p:nvSpPr>
          <p:spPr>
            <a:xfrm>
              <a:off x="4455000" y="914400"/>
              <a:ext cx="2402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processes user input and prompts for the next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361960" y="1219320"/>
              <a:ext cx="20926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2438280"/>
            <a:ext cx="4572000" cy="1433880"/>
            <a:chOff x="3886200" y="2438280"/>
            <a:chExt cx="4572000" cy="1433880"/>
          </a:xfrm>
        </p:grpSpPr>
        <p:sp>
          <p:nvSpPr>
            <p:cNvPr id="233" name=""/>
            <p:cNvSpPr/>
            <p:nvPr/>
          </p:nvSpPr>
          <p:spPr>
            <a:xfrm>
              <a:off x="6248520" y="30481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e the salary and its corresponding index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3886200" y="243828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19520" y="3581280"/>
            <a:ext cx="4343400" cy="1647720"/>
            <a:chOff x="2819520" y="3581280"/>
            <a:chExt cx="4343400" cy="1647720"/>
          </a:xfrm>
        </p:grpSpPr>
        <p:sp>
          <p:nvSpPr>
            <p:cNvPr id="236" name=""/>
            <p:cNvSpPr/>
            <p:nvPr/>
          </p:nvSpPr>
          <p:spPr>
            <a:xfrm>
              <a:off x="4648320" y="46483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the appropriate element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819520" y="3581280"/>
              <a:ext cx="1828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3047760" y="441936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6" dur="1" fill="hold"/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8120" y="2285640"/>
            <a:ext cx="5257800" cy="1357920"/>
            <a:chOff x="3048120" y="2285640"/>
            <a:chExt cx="5257800" cy="1357920"/>
          </a:xfrm>
        </p:grpSpPr>
        <p:sp>
          <p:nvSpPr>
            <p:cNvPr id="243" name=""/>
            <p:cNvSpPr/>
            <p:nvPr/>
          </p:nvSpPr>
          <p:spPr>
            <a:xfrm>
              <a:off x="5791320" y="2819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ass-by-reference when pas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splayTot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3048120" y="2285640"/>
              <a:ext cx="2743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18960" y="5028840"/>
            <a:ext cx="2667240" cy="1053000"/>
            <a:chOff x="1218960" y="5028840"/>
            <a:chExt cx="2667240" cy="1053000"/>
          </a:xfrm>
        </p:grpSpPr>
        <p:sp>
          <p:nvSpPr>
            <p:cNvPr id="246" name=""/>
            <p:cNvSpPr/>
            <p:nvPr/>
          </p:nvSpPr>
          <p:spPr>
            <a:xfrm>
              <a:off x="1295280" y="525780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local variables to store the upper and lower bounds for each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1218960" y="50288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0" dur="1" fill="hold"/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934320" y="9907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ySurvey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190760" y="380880"/>
            <a:ext cx="3581640" cy="337320"/>
            <a:chOff x="4190760" y="380880"/>
            <a:chExt cx="3581640" cy="337320"/>
          </a:xfrm>
        </p:grpSpPr>
        <p:sp>
          <p:nvSpPr>
            <p:cNvPr id="252" name=""/>
            <p:cNvSpPr/>
            <p:nvPr/>
          </p:nvSpPr>
          <p:spPr>
            <a:xfrm>
              <a:off x="5715000" y="380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a table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190760" y="533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123720" y="1219320"/>
            <a:ext cx="3734280" cy="337320"/>
            <a:chOff x="3123720" y="1219320"/>
            <a:chExt cx="3734280" cy="337320"/>
          </a:xfrm>
        </p:grpSpPr>
        <p:sp>
          <p:nvSpPr>
            <p:cNvPr id="255" name=""/>
            <p:cNvSpPr/>
            <p:nvPr/>
          </p:nvSpPr>
          <p:spPr>
            <a:xfrm>
              <a:off x="3962520" y="12193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va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23720" y="1295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00040" y="1905120"/>
            <a:ext cx="5639040" cy="580680"/>
            <a:chOff x="3200040" y="1905120"/>
            <a:chExt cx="5639040" cy="580680"/>
          </a:xfrm>
        </p:grpSpPr>
        <p:sp>
          <p:nvSpPr>
            <p:cNvPr id="258" name=""/>
            <p:cNvSpPr/>
            <p:nvPr/>
          </p:nvSpPr>
          <p:spPr>
            <a:xfrm>
              <a:off x="6095880" y="19051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the lower and upper bounds for the current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200040" y="19051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657600" y="2895480"/>
            <a:ext cx="4876920" cy="1114200"/>
            <a:chOff x="3657600" y="2895480"/>
            <a:chExt cx="4876920" cy="1114200"/>
          </a:xfrm>
        </p:grpSpPr>
        <p:sp>
          <p:nvSpPr>
            <p:cNvPr id="261" name=""/>
            <p:cNvSpPr/>
            <p:nvPr/>
          </p:nvSpPr>
          <p:spPr>
            <a:xfrm>
              <a:off x="5715000" y="34290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salary range and number of salaries in that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3657600" y="2895480"/>
              <a:ext cx="2743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352680" y="4114440"/>
            <a:ext cx="3353040" cy="1266840"/>
            <a:chOff x="3352680" y="4114440"/>
            <a:chExt cx="3353040" cy="1266840"/>
          </a:xfrm>
        </p:grpSpPr>
        <p:sp>
          <p:nvSpPr>
            <p:cNvPr id="264" name=""/>
            <p:cNvSpPr/>
            <p:nvPr/>
          </p:nvSpPr>
          <p:spPr>
            <a:xfrm>
              <a:off x="4495680" y="48006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count for the final salary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352680" y="411444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9" dur="1" fill="hold"/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760" y="1447920"/>
            <a:ext cx="60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" y="1447920"/>
            <a:ext cx="80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a salary and prompting for the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429000" y="4191120"/>
            <a:ext cx="4114800" cy="1099080"/>
            <a:chOff x="3429000" y="4191120"/>
            <a:chExt cx="4114800" cy="1099080"/>
          </a:xfrm>
        </p:grpSpPr>
        <p:sp>
          <p:nvSpPr>
            <p:cNvPr id="56" name=""/>
            <p:cNvSpPr/>
            <p:nvPr/>
          </p:nvSpPr>
          <p:spPr>
            <a:xfrm>
              <a:off x="5181480" y="49528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3429000" y="419112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367000"/>
            <a:ext cx="5610240" cy="2990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0400" y="1447920"/>
            <a:ext cx="72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several sales figure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y Surv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ry Surve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6880" y="2652840"/>
            <a:ext cx="5610240" cy="241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8960" y="1447920"/>
            <a:ext cx="48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distribution of sal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Array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re groups of variables with the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rray name and an index (position number) to refer to individual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es range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one less than the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will not prevent an application from attempting to access an element outside of an array’s vali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ing to access a nonexistent element may result in a logic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Array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"/>
          <p:cNvSpPr/>
          <p:nvPr/>
        </p:nvSpPr>
        <p:spPr>
          <a:xfrm>
            <a:off x="2630520" y="1793880"/>
            <a:ext cx="2922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6520" y="1461960"/>
            <a:ext cx="57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ts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nsisting of 13 elem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79560" y="1752480"/>
            <a:ext cx="538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8:31:00Z</dcterms:created>
  <dc:creator>Jeffrey Peng</dc:creator>
  <dc:description/>
  <dc:language>en-US</dc:language>
  <cp:lastModifiedBy>Pearson Education</cp:lastModifiedBy>
  <dcterms:modified xsi:type="dcterms:W3CDTF">2004-10-11T14:13:23Z</dcterms:modified>
  <cp:revision>55</cp:revision>
  <dc:subject/>
  <dc:title>Tutorial 13 – Salary Survey Application: Introducing One-Dimensional Arrays</dc:title>
</cp:coreProperties>
</file>