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9.png" ContentType="image/png"/>
  <Override PartName="/ppt/media/image18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23B-E760-4A82-B0DD-F73113AF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E16-11E8-404B-84F9-8A781793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78A-256D-4673-834C-BB742CBA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D045-6ED1-491B-9D6C-EB7C4BA1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097-9A71-4520-B55B-6AABB88C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0722-C5AB-4C50-B341-8B5A0E80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3BB-EAB3-4E6A-8351-8CF0C539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D85-919F-4C78-8750-DE2BDF93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F78-8B88-4B29-9D08-81EAB587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C5C-8CFC-4477-9998-C1254CFA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16E-ED86-4E05-BE4D-71747E6D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6C9-45BC-4B05-8065-FE845448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31E1-E680-4B5C-AB83-95C2E0281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1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ndrais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Scope and Function Prototype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1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1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Function Prototyp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1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55840" y="2305080"/>
            <a:ext cx="6230880" cy="3114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09680" y="1447920"/>
            <a:ext cx="64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local variable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rais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1905120"/>
            <a:ext cx="2209680" cy="1218960"/>
            <a:chOff x="304920" y="1905120"/>
            <a:chExt cx="2209680" cy="1218960"/>
          </a:xfrm>
        </p:grpSpPr>
        <p:sp>
          <p:nvSpPr>
            <p:cNvPr id="76" name=""/>
            <p:cNvSpPr/>
            <p:nvPr/>
          </p:nvSpPr>
          <p:spPr>
            <a:xfrm>
              <a:off x="304920" y="19051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of a local variable is the beginning of the variable’s sco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2743200"/>
              <a:ext cx="1828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286000" y="5181120"/>
            <a:ext cx="2819520" cy="885960"/>
            <a:chOff x="2286000" y="5181120"/>
            <a:chExt cx="2819520" cy="885960"/>
          </a:xfrm>
        </p:grpSpPr>
        <p:sp>
          <p:nvSpPr>
            <p:cNvPr id="79" name=""/>
            <p:cNvSpPr/>
            <p:nvPr/>
          </p:nvSpPr>
          <p:spPr>
            <a:xfrm>
              <a:off x="2666880" y="548640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ht brace ends the scope of a local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86000" y="518112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" dur="1" fill="hold"/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55840" y="2790720"/>
            <a:ext cx="6230880" cy="214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09320" y="1447920"/>
            <a:ext cx="711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second local variable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rais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733560" y="4114800"/>
            <a:ext cx="4343760" cy="1571400"/>
            <a:chOff x="3733560" y="4114800"/>
            <a:chExt cx="4343760" cy="1571400"/>
          </a:xfrm>
        </p:grpSpPr>
        <p:sp>
          <p:nvSpPr>
            <p:cNvPr id="85" name=""/>
            <p:cNvSpPr/>
            <p:nvPr/>
          </p:nvSpPr>
          <p:spPr>
            <a:xfrm>
              <a:off x="4876920" y="51055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tDon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beginning of the variable’s sco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3733560" y="4114800"/>
              <a:ext cx="1981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066680" y="4419360"/>
            <a:ext cx="2210040" cy="1647720"/>
            <a:chOff x="1066680" y="4419360"/>
            <a:chExt cx="2210040" cy="1647720"/>
          </a:xfrm>
        </p:grpSpPr>
        <p:sp>
          <p:nvSpPr>
            <p:cNvPr id="88" name=""/>
            <p:cNvSpPr/>
            <p:nvPr/>
          </p:nvSpPr>
          <p:spPr>
            <a:xfrm>
              <a:off x="1066680" y="548640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ht brace 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tDon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sco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1600200" y="4419360"/>
              <a:ext cx="8380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" dur="1" fill="hold"/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the function’s return type, name and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the compiler to validate function cal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gument coercion occurs when arguments do not match the types specified in the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rototype is not necessary if a function is defined before it is called (the header acts as prototyp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ing the function prototype is “declaring” the function; writing the function body is “defining” th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signature is the function name and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55840" y="2633760"/>
            <a:ext cx="6230880" cy="245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8320" y="1461960"/>
            <a:ext cx="82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natedAmou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verted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perform the calcu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876560" y="4419360"/>
            <a:ext cx="3810240" cy="1571400"/>
            <a:chOff x="4876560" y="4419360"/>
            <a:chExt cx="3810240" cy="1571400"/>
          </a:xfrm>
        </p:grpSpPr>
        <p:sp>
          <p:nvSpPr>
            <p:cNvPr id="96" name=""/>
            <p:cNvSpPr/>
            <p:nvPr/>
          </p:nvSpPr>
          <p:spPr>
            <a:xfrm>
              <a:off x="5791320" y="541008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natedAm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mplicitly converted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76560" y="4419360"/>
              <a:ext cx="990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98840" y="1882800"/>
            <a:ext cx="6240240" cy="1619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prototype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getting the semicolon after a function prototype is a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ing a function before the function prototype has been declared or the function has been defined is a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7960" y="1461960"/>
            <a:ext cx="778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ing a function prototype for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Do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523880" y="2742840"/>
            <a:ext cx="2743200" cy="1176120"/>
            <a:chOff x="1523880" y="2742840"/>
            <a:chExt cx="2743200" cy="1176120"/>
          </a:xfrm>
        </p:grpSpPr>
        <p:sp>
          <p:nvSpPr>
            <p:cNvPr id="103" name=""/>
            <p:cNvSpPr/>
            <p:nvPr/>
          </p:nvSpPr>
          <p:spPr>
            <a:xfrm>
              <a:off x="1523880" y="358164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ing a function proto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905120" y="2742840"/>
              <a:ext cx="14475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50800" y="2957400"/>
            <a:ext cx="6240600" cy="1809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3640" y="1447920"/>
            <a:ext cx="80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donation amount after operating expenses are dedu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33760" y="4495320"/>
            <a:ext cx="2972160" cy="1343160"/>
            <a:chOff x="5333760" y="4495320"/>
            <a:chExt cx="2972160" cy="1343160"/>
          </a:xfrm>
        </p:grpSpPr>
        <p:sp>
          <p:nvSpPr>
            <p:cNvPr id="109" name=""/>
            <p:cNvSpPr/>
            <p:nvPr/>
          </p:nvSpPr>
          <p:spPr>
            <a:xfrm>
              <a:off x="5486400" y="52578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donation amount after expenses are deduc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5333760" y="449532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3" dur="1" fill="hold"/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6120" y="2952720"/>
            <a:ext cx="6249960" cy="1819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12920" y="1447920"/>
            <a:ext cx="69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ing and displaying the total amount raised for char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80880" y="4266720"/>
            <a:ext cx="2514600" cy="1343160"/>
            <a:chOff x="380880" y="4266720"/>
            <a:chExt cx="2514600" cy="1343160"/>
          </a:xfrm>
        </p:grpSpPr>
        <p:sp>
          <p:nvSpPr>
            <p:cNvPr id="115" name=""/>
            <p:cNvSpPr/>
            <p:nvPr/>
          </p:nvSpPr>
          <p:spPr>
            <a:xfrm>
              <a:off x="380880" y="502920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total amount raised for cha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914400" y="4266720"/>
              <a:ext cx="1676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33520" y="2057400"/>
            <a:ext cx="2590560" cy="1676520"/>
            <a:chOff x="533520" y="2057400"/>
            <a:chExt cx="2590560" cy="1676520"/>
          </a:xfrm>
        </p:grpSpPr>
        <p:sp>
          <p:nvSpPr>
            <p:cNvPr id="118" name=""/>
            <p:cNvSpPr/>
            <p:nvPr/>
          </p:nvSpPr>
          <p:spPr>
            <a:xfrm>
              <a:off x="533520" y="205740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ing the global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2438280"/>
              <a:ext cx="16002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7" dur="1" fill="hold"/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55840" y="2967120"/>
            <a:ext cx="6230880" cy="1790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15800" y="1447920"/>
            <a:ext cx="52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the next don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5800" y="3962160"/>
            <a:ext cx="2438280" cy="1571400"/>
            <a:chOff x="685800" y="3962160"/>
            <a:chExt cx="2438280" cy="1571400"/>
          </a:xfrm>
        </p:grpSpPr>
        <p:sp>
          <p:nvSpPr>
            <p:cNvPr id="124" name=""/>
            <p:cNvSpPr/>
            <p:nvPr/>
          </p:nvSpPr>
          <p:spPr>
            <a:xfrm>
              <a:off x="685800" y="49528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the next do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85800" y="3962160"/>
              <a:ext cx="19051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10040" y="14479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7010280" y="9144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draiser.cpp (1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23520" y="4038480"/>
            <a:ext cx="3048480" cy="1814760"/>
            <a:chOff x="1523520" y="4038480"/>
            <a:chExt cx="3048480" cy="1814760"/>
          </a:xfrm>
        </p:grpSpPr>
        <p:sp>
          <p:nvSpPr>
            <p:cNvPr id="133" name=""/>
            <p:cNvSpPr/>
            <p:nvPr/>
          </p:nvSpPr>
          <p:spPr>
            <a:xfrm>
              <a:off x="2362320" y="502920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of a local variable is the beginning of the variable’s sco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1523520" y="4038480"/>
              <a:ext cx="8384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124080" y="1905120"/>
            <a:ext cx="5029200" cy="337320"/>
            <a:chOff x="3124080" y="1905120"/>
            <a:chExt cx="5029200" cy="337320"/>
          </a:xfrm>
        </p:grpSpPr>
        <p:sp>
          <p:nvSpPr>
            <p:cNvPr id="136" name=""/>
            <p:cNvSpPr/>
            <p:nvPr/>
          </p:nvSpPr>
          <p:spPr>
            <a:xfrm>
              <a:off x="5943600" y="190512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a global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124080" y="2133720"/>
              <a:ext cx="28195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361960" y="2819160"/>
            <a:ext cx="5943960" cy="870840"/>
            <a:chOff x="2361960" y="2819160"/>
            <a:chExt cx="5943960" cy="870840"/>
          </a:xfrm>
        </p:grpSpPr>
        <p:sp>
          <p:nvSpPr>
            <p:cNvPr id="139" name=""/>
            <p:cNvSpPr/>
            <p:nvPr/>
          </p:nvSpPr>
          <p:spPr>
            <a:xfrm>
              <a:off x="5715000" y="335268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a function proto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361960" y="2819160"/>
              <a:ext cx="3352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5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variables that can be used in all the application’s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rgument coercion to implicitly convert the value of an argument to a func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function prototypes to validate your function ca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7010280" y="9144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draiser.cpp (2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438280" y="2438280"/>
            <a:ext cx="6400800" cy="609840"/>
            <a:chOff x="2438280" y="2438280"/>
            <a:chExt cx="6400800" cy="609840"/>
          </a:xfrm>
        </p:grpSpPr>
        <p:sp>
          <p:nvSpPr>
            <p:cNvPr id="145" name=""/>
            <p:cNvSpPr/>
            <p:nvPr/>
          </p:nvSpPr>
          <p:spPr>
            <a:xfrm>
              <a:off x="5638680" y="24382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tDon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beginning of the variable’s sco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2438280" y="2590920"/>
              <a:ext cx="3200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419720" y="3352680"/>
            <a:ext cx="4267080" cy="733320"/>
            <a:chOff x="4419720" y="3352680"/>
            <a:chExt cx="4267080" cy="733320"/>
          </a:xfrm>
        </p:grpSpPr>
        <p:sp>
          <p:nvSpPr>
            <p:cNvPr id="148" name=""/>
            <p:cNvSpPr/>
            <p:nvPr/>
          </p:nvSpPr>
          <p:spPr>
            <a:xfrm>
              <a:off x="6095880" y="35053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he donation amount after expenses are deduc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4419720" y="3352680"/>
              <a:ext cx="1676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437920" y="4038120"/>
            <a:ext cx="5868000" cy="642600"/>
            <a:chOff x="2437920" y="4038120"/>
            <a:chExt cx="5868000" cy="642600"/>
          </a:xfrm>
        </p:grpSpPr>
        <p:sp>
          <p:nvSpPr>
            <p:cNvPr id="151" name=""/>
            <p:cNvSpPr/>
            <p:nvPr/>
          </p:nvSpPr>
          <p:spPr>
            <a:xfrm>
              <a:off x="6248520" y="43434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 global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2437920" y="4038120"/>
              <a:ext cx="3886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010280" y="9144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draiser.cpp (3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85440" y="1066680"/>
            <a:ext cx="7010640" cy="1114200"/>
            <a:chOff x="685440" y="1066680"/>
            <a:chExt cx="7010640" cy="1114200"/>
          </a:xfrm>
        </p:grpSpPr>
        <p:sp>
          <p:nvSpPr>
            <p:cNvPr id="157" name=""/>
            <p:cNvSpPr/>
            <p:nvPr/>
          </p:nvSpPr>
          <p:spPr>
            <a:xfrm>
              <a:off x="5486400" y="16002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ht brace end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tDon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sco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685440" y="1066680"/>
              <a:ext cx="6705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56840" y="2286000"/>
            <a:ext cx="7467840" cy="961560"/>
            <a:chOff x="456840" y="2286000"/>
            <a:chExt cx="7467840" cy="961560"/>
          </a:xfrm>
        </p:grpSpPr>
        <p:sp>
          <p:nvSpPr>
            <p:cNvPr id="160" name=""/>
            <p:cNvSpPr/>
            <p:nvPr/>
          </p:nvSpPr>
          <p:spPr>
            <a:xfrm>
              <a:off x="5486400" y="26668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ht brace ends the scope of the local vari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56840" y="2286000"/>
              <a:ext cx="7467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733920" y="3657600"/>
            <a:ext cx="4266720" cy="580680"/>
            <a:chOff x="3733920" y="3657600"/>
            <a:chExt cx="4266720" cy="580680"/>
          </a:xfrm>
        </p:grpSpPr>
        <p:sp>
          <p:nvSpPr>
            <p:cNvPr id="163" name=""/>
            <p:cNvSpPr/>
            <p:nvPr/>
          </p:nvSpPr>
          <p:spPr>
            <a:xfrm>
              <a:off x="5128560" y="3657600"/>
              <a:ext cx="2872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natedAm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mplicitly converted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733920" y="3886200"/>
              <a:ext cx="1394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3" dur="1" fill="hold"/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55840" y="2890800"/>
            <a:ext cx="6230880" cy="1943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12920" y="1461960"/>
            <a:ext cx="832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mpting to acce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local varia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rossDo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en it i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sc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952520" y="4343040"/>
            <a:ext cx="3734280" cy="1510200"/>
            <a:chOff x="4952520" y="4343040"/>
            <a:chExt cx="3734280" cy="1510200"/>
          </a:xfrm>
        </p:grpSpPr>
        <p:sp>
          <p:nvSpPr>
            <p:cNvPr id="169" name=""/>
            <p:cNvSpPr/>
            <p:nvPr/>
          </p:nvSpPr>
          <p:spPr>
            <a:xfrm>
              <a:off x="5686560" y="5029200"/>
              <a:ext cx="3000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ying to acces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ossDon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local variable, which is out of sco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4952520" y="4343040"/>
              <a:ext cx="814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2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Prototyp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28880" y="3348000"/>
            <a:ext cx="5286240" cy="1028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12200" y="1461960"/>
            <a:ext cx="795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mpting to acce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local varia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rossDo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us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ation err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411200"/>
          <a:ext cx="7769160" cy="51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1200"/>
                    <a:ext cx="776916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840" y="1447920"/>
            <a:ext cx="57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rais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3280" y="1447920"/>
            <a:ext cx="60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rais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with first donation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2938320"/>
            <a:ext cx="5610240" cy="1847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2920" y="1447920"/>
            <a:ext cx="37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ing further don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4419360"/>
            <a:ext cx="1981080" cy="1190520"/>
            <a:chOff x="914400" y="4419360"/>
            <a:chExt cx="1981080" cy="1190520"/>
          </a:xfrm>
        </p:grpSpPr>
        <p:sp>
          <p:nvSpPr>
            <p:cNvPr id="59" name=""/>
            <p:cNvSpPr/>
            <p:nvPr/>
          </p:nvSpPr>
          <p:spPr>
            <a:xfrm>
              <a:off x="914400" y="50292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tal of all donations (minus expense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990720" y="441936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4360" y="1411200"/>
          <a:ext cx="7769160" cy="51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1200"/>
                    <a:ext cx="776916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 is the portion of the application where a variable can be ac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have file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scope is from the variable declaration to the end of th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be avoided to prevent subtle logic errors or used as a cons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variables have block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lock scope is from the variable declaration to the end of the block (the closing right br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 hide any global variables with the same name while in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rais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50800" y="2209680"/>
            <a:ext cx="6240600" cy="166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8240" y="1447920"/>
            <a:ext cx="54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global variable in the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80880" y="3143160"/>
            <a:ext cx="2362320" cy="1251720"/>
            <a:chOff x="380880" y="3143160"/>
            <a:chExt cx="2362320" cy="1251720"/>
          </a:xfrm>
        </p:grpSpPr>
        <p:sp>
          <p:nvSpPr>
            <p:cNvPr id="70" name=""/>
            <p:cNvSpPr/>
            <p:nvPr/>
          </p:nvSpPr>
          <p:spPr>
            <a:xfrm>
              <a:off x="380880" y="405756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a global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09480" y="3143160"/>
              <a:ext cx="1600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7:49:30Z</dcterms:created>
  <dc:creator>Jeffrey Peng</dc:creator>
  <dc:description/>
  <dc:language>en-US</dc:language>
  <cp:lastModifiedBy>Pearson Education</cp:lastModifiedBy>
  <dcterms:modified xsi:type="dcterms:W3CDTF">2004-10-11T14:11:33Z</dcterms:modified>
  <cp:revision>46</cp:revision>
  <dc:subject/>
  <dc:title>Tutorial 11 – Fundraiser Application: Introducing Scope and Function Prototypes</dc:title>
</cp:coreProperties>
</file>