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24.png" ContentType="image/png"/>
  <Override PartName="/ppt/media/image23.png" ContentType="image/png"/>
  <Override PartName="/ppt/media/image28.wmf" ContentType="image/x-wmf"/>
  <Override PartName="/ppt/media/image10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5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9.wmf" ContentType="image/x-wmf"/>
  <Override PartName="/ppt/media/image6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wmf" ContentType="image/x-wmf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5077-B742-4046-8EE8-1C0757AD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0A74-FEEF-42EA-A5F1-8B86BDA9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1FDE-7AAE-4ED5-B13F-43328F518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968E-45A4-4C80-BD9F-89108B4C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60A0-4B71-41D3-8F02-18D6E99C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973C-6597-49C0-9400-C5C8A5F6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0807-379D-40E2-9098-82347EEC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B290-389F-4844-B799-2E990DCE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41FB-6869-437B-B3F3-FF9F59C3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2620-32EC-4C0E-9675-A7601C1A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39C4-92EB-44D8-AFD4-90A849B0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7019-516E-4BE8-81A8-22F36EA0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3CE0-B657-455B-B010-A0CC6E728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2485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5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torial 5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nt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y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pplication: Introducing Logical Operators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94004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5.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ntal Payment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5.2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ntal Payment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5.3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Introduction to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5.4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Logical Operator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5.5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rap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troduction to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46120" y="3205080"/>
            <a:ext cx="6249960" cy="1314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14000" y="1461960"/>
            <a:ext cx="609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tring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ndard library header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429000" y="4038480"/>
            <a:ext cx="3657600" cy="1738440"/>
            <a:chOff x="3429000" y="4038480"/>
            <a:chExt cx="3657600" cy="1738440"/>
          </a:xfrm>
        </p:grpSpPr>
        <p:sp>
          <p:nvSpPr>
            <p:cNvPr id="76" name=""/>
            <p:cNvSpPr/>
            <p:nvPr/>
          </p:nvSpPr>
          <p:spPr>
            <a:xfrm>
              <a:off x="3962520" y="4952880"/>
              <a:ext cx="3124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string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header file enables access to classes and functions defined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3429000" y="4038480"/>
              <a:ext cx="1447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" dur="1" fill="hold"/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troduction to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60520" y="2795760"/>
            <a:ext cx="6221520" cy="2133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14000" y="1461960"/>
            <a:ext cx="589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variables of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yp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28600" y="4190760"/>
            <a:ext cx="2666880" cy="1647720"/>
            <a:chOff x="228600" y="4190760"/>
            <a:chExt cx="2666880" cy="1647720"/>
          </a:xfrm>
        </p:grpSpPr>
        <p:sp>
          <p:nvSpPr>
            <p:cNvPr id="82" name=""/>
            <p:cNvSpPr/>
            <p:nvPr/>
          </p:nvSpPr>
          <p:spPr>
            <a:xfrm>
              <a:off x="228600" y="52578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e the variables that store user inpu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609480" y="4190760"/>
              <a:ext cx="16002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6" dur="1" fill="hold"/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troduction to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etlin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ts a line of text from the input stream (first argument) and puts it in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second argumen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is delimited (or terminated) at the first newline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cessary wh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put might contain white space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tream extractor operator inputs up to the first white space character or newline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example, if the user enters “Bob Green”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line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ould sto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Bo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ee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ould sto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Bob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een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ould be left in the input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troduction to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55840" y="3043080"/>
            <a:ext cx="6230880" cy="1638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18680" y="1461960"/>
            <a:ext cx="814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pting the user for the patient name and us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li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 the name into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105520" y="4114440"/>
            <a:ext cx="3809880" cy="1510200"/>
            <a:chOff x="5105520" y="4114440"/>
            <a:chExt cx="3809880" cy="1510200"/>
          </a:xfrm>
        </p:grpSpPr>
        <p:sp>
          <p:nvSpPr>
            <p:cNvPr id="90" name=""/>
            <p:cNvSpPr/>
            <p:nvPr/>
          </p:nvSpPr>
          <p:spPr>
            <a:xfrm>
              <a:off x="6019920" y="480060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 the user for the patient’s name and input the response in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ati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5105520" y="4114440"/>
              <a:ext cx="1295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" dur="1" fill="hold"/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troduction to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455840" y="2567160"/>
            <a:ext cx="6230880" cy="2590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17600" y="1447920"/>
            <a:ext cx="774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pting the user for and inputting responses for services perform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57200" y="3962520"/>
            <a:ext cx="2590920" cy="1952280"/>
            <a:chOff x="457200" y="3962520"/>
            <a:chExt cx="2590920" cy="1952280"/>
          </a:xfrm>
        </p:grpSpPr>
        <p:sp>
          <p:nvSpPr>
            <p:cNvPr id="96" name=""/>
            <p:cNvSpPr/>
            <p:nvPr/>
          </p:nvSpPr>
          <p:spPr>
            <a:xfrm>
              <a:off x="457200" y="533412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 the user for and input services perform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85800" y="3962520"/>
              <a:ext cx="14479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4" dur="1" fill="hold"/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troduction to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55840" y="1905120"/>
            <a:ext cx="6230880" cy="4228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13280" y="1447920"/>
            <a:ext cx="571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ing the total cost for the patient’s vis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962520" y="2666880"/>
            <a:ext cx="4647960" cy="580680"/>
            <a:chOff x="3962520" y="2666880"/>
            <a:chExt cx="4647960" cy="580680"/>
          </a:xfrm>
        </p:grpSpPr>
        <p:sp>
          <p:nvSpPr>
            <p:cNvPr id="102" name=""/>
            <p:cNvSpPr/>
            <p:nvPr/>
          </p:nvSpPr>
          <p:spPr>
            <a:xfrm>
              <a:off x="5638680" y="266688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ot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initialize its valu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3962520" y="2666880"/>
              <a:ext cx="16761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257800" y="4190760"/>
            <a:ext cx="3505320" cy="1190520"/>
            <a:chOff x="5257800" y="4190760"/>
            <a:chExt cx="3505320" cy="1190520"/>
          </a:xfrm>
        </p:grpSpPr>
        <p:sp>
          <p:nvSpPr>
            <p:cNvPr id="105" name=""/>
            <p:cNvSpPr/>
            <p:nvPr/>
          </p:nvSpPr>
          <p:spPr>
            <a:xfrm>
              <a:off x="6324480" y="480060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a service was performed, add its cost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o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5257800" y="4190760"/>
              <a:ext cx="12952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8" dur="1" fill="hold"/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troduction to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55840" y="2886120"/>
            <a:ext cx="6230880" cy="1952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11840" y="1447920"/>
            <a:ext cx="51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1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the total cost in dollar form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85800" y="2362320"/>
            <a:ext cx="2514600" cy="1295280"/>
            <a:chOff x="685800" y="2362320"/>
            <a:chExt cx="2514600" cy="1295280"/>
          </a:xfrm>
        </p:grpSpPr>
        <p:sp>
          <p:nvSpPr>
            <p:cNvPr id="111" name=""/>
            <p:cNvSpPr/>
            <p:nvPr/>
          </p:nvSpPr>
          <p:spPr>
            <a:xfrm>
              <a:off x="685800" y="2362320"/>
              <a:ext cx="2514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ot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s currenc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5800" y="2666880"/>
              <a:ext cx="16765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7" dur="1" fill="hold"/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troduction to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66880" y="3110040"/>
            <a:ext cx="5610240" cy="1504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12560" y="1447920"/>
            <a:ext cx="814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output with no patient name entered and no services selec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895120" y="4191120"/>
            <a:ext cx="5258160" cy="1585800"/>
            <a:chOff x="2895120" y="4191120"/>
            <a:chExt cx="5258160" cy="1585800"/>
          </a:xfrm>
        </p:grpSpPr>
        <p:sp>
          <p:nvSpPr>
            <p:cNvPr id="117" name=""/>
            <p:cNvSpPr/>
            <p:nvPr/>
          </p:nvSpPr>
          <p:spPr>
            <a:xfrm>
              <a:off x="5943600" y="495288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plication calculates a bill of $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.0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hen no services are selec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2895120" y="4191120"/>
              <a:ext cx="43434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6" dur="1" fill="hold"/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troduction to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66880" y="3110040"/>
            <a:ext cx="5610240" cy="15048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13280" y="1447920"/>
            <a:ext cx="793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1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output with a service selected, but no patient name ente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gical Operator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6230880" cy="1962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15800" y="1461960"/>
            <a:ext cx="560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1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ng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tement to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762120" y="2895480"/>
            <a:ext cx="3352680" cy="1438200"/>
            <a:chOff x="762120" y="2895480"/>
            <a:chExt cx="3352680" cy="1438200"/>
          </a:xfrm>
        </p:grpSpPr>
        <p:sp>
          <p:nvSpPr>
            <p:cNvPr id="126" name=""/>
            <p:cNvSpPr/>
            <p:nvPr/>
          </p:nvSpPr>
          <p:spPr>
            <a:xfrm>
              <a:off x="762120" y="3996360"/>
              <a:ext cx="3352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erify that a patient name was enter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762120" y="2895480"/>
              <a:ext cx="1676160" cy="110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685800" y="4267080"/>
            <a:ext cx="77691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mpty str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“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ains no 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-access operator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llows access to an object’s data an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cti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turns the number of characters in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5" dur="1" fill="hold"/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bjectiv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tutorial, you will lear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to store user input as single charact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to store user input as strings of charact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logical operators to form more complex condi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gical Operato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55840" y="3119400"/>
            <a:ext cx="6230880" cy="1486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13640" y="1447920"/>
            <a:ext cx="52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1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an error message to the us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33520" y="4191120"/>
            <a:ext cx="2057400" cy="1099080"/>
            <a:chOff x="533520" y="4191120"/>
            <a:chExt cx="2057400" cy="1099080"/>
          </a:xfrm>
        </p:grpSpPr>
        <p:sp>
          <p:nvSpPr>
            <p:cNvPr id="133" name=""/>
            <p:cNvSpPr/>
            <p:nvPr/>
          </p:nvSpPr>
          <p:spPr>
            <a:xfrm>
              <a:off x="533520" y="4952880"/>
              <a:ext cx="19810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dd an error mess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838080" y="4191120"/>
              <a:ext cx="175284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4" dur="1" fill="hold"/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gical Operato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854520" cy="45259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16520" y="1461960"/>
            <a:ext cx="518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1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ng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rt to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t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85800" y="1981080"/>
            <a:ext cx="2514600" cy="337320"/>
            <a:chOff x="685800" y="1981080"/>
            <a:chExt cx="2514600" cy="337320"/>
          </a:xfrm>
        </p:grpSpPr>
        <p:sp>
          <p:nvSpPr>
            <p:cNvPr id="139" name=""/>
            <p:cNvSpPr/>
            <p:nvPr/>
          </p:nvSpPr>
          <p:spPr>
            <a:xfrm>
              <a:off x="685800" y="1981080"/>
              <a:ext cx="1523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l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t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09680" y="1981080"/>
              <a:ext cx="9907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85800" y="5410080"/>
            <a:ext cx="2514600" cy="824040"/>
            <a:chOff x="685800" y="5410080"/>
            <a:chExt cx="2514600" cy="824040"/>
          </a:xfrm>
        </p:grpSpPr>
        <p:sp>
          <p:nvSpPr>
            <p:cNvPr id="142" name=""/>
            <p:cNvSpPr/>
            <p:nvPr/>
          </p:nvSpPr>
          <p:spPr>
            <a:xfrm>
              <a:off x="685800" y="5410080"/>
              <a:ext cx="1752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ight brace to end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l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t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38280" y="563868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8" dur="1" fill="hold"/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gical Operato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766880" y="3281400"/>
            <a:ext cx="5610240" cy="1162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12920" y="1447920"/>
            <a:ext cx="53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1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output without a name ente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gical Operato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766880" y="3110040"/>
            <a:ext cx="5610240" cy="15048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12920" y="1447920"/>
            <a:ext cx="81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1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output with a name entered, but without any services selec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038480" y="2438280"/>
            <a:ext cx="3962520" cy="1067040"/>
            <a:chOff x="4038480" y="2438280"/>
            <a:chExt cx="3962520" cy="1067040"/>
          </a:xfrm>
        </p:grpSpPr>
        <p:sp>
          <p:nvSpPr>
            <p:cNvPr id="151" name=""/>
            <p:cNvSpPr/>
            <p:nvPr/>
          </p:nvSpPr>
          <p:spPr>
            <a:xfrm>
              <a:off x="5410080" y="2438280"/>
              <a:ext cx="2590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r must now enter a 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038480" y="2666880"/>
              <a:ext cx="13716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819520" y="4191120"/>
            <a:ext cx="5410080" cy="1738440"/>
            <a:chOff x="2819520" y="4191120"/>
            <a:chExt cx="5410080" cy="1738440"/>
          </a:xfrm>
        </p:grpSpPr>
        <p:sp>
          <p:nvSpPr>
            <p:cNvPr id="154" name=""/>
            <p:cNvSpPr/>
            <p:nvPr/>
          </p:nvSpPr>
          <p:spPr>
            <a:xfrm>
              <a:off x="5410080" y="5105520"/>
              <a:ext cx="2819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plication calculates a bill of $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.0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hen a name is entered but no services are selec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2819520" y="4191120"/>
              <a:ext cx="30477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2" dur="1" fill="hold"/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gical Operato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8256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684360" y="3352680"/>
            <a:ext cx="77691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 conditions combine multiple simple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eration evaluates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ly if both operand expressions evaluate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operand is evaluated only if first operand evaluates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hort-circuit eval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uth table displays the outcome of a complex condition for all possible values for its simple condition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gical Operato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8256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684360" y="3886200"/>
            <a:ext cx="77691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eration evaluates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either or both operand expressions evaluate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operand is evaluated only if first operand evaluates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hort-circuit eval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gical Operato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8256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685800" y="3581280"/>
            <a:ext cx="77691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eration reverses the truth value of the operand 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io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io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also be written as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io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ion2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gical Operato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455840" y="2800440"/>
            <a:ext cx="6230880" cy="2124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10400" y="1461960"/>
            <a:ext cx="468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2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multip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ogical opera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04920" y="3809880"/>
            <a:ext cx="2514600" cy="1861560"/>
            <a:chOff x="304920" y="3809880"/>
            <a:chExt cx="2514600" cy="1861560"/>
          </a:xfrm>
        </p:grpSpPr>
        <p:sp>
          <p:nvSpPr>
            <p:cNvPr id="172" name=""/>
            <p:cNvSpPr/>
            <p:nvPr/>
          </p:nvSpPr>
          <p:spPr>
            <a:xfrm>
              <a:off x="304920" y="5334120"/>
              <a:ext cx="2514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sert a complex expres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533520" y="3809880"/>
              <a:ext cx="22860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1" dur="1" fill="hold"/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gical Operato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55840" y="2871720"/>
            <a:ext cx="6230880" cy="19814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11840" y="1447920"/>
            <a:ext cx="655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2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an error message if no services are selec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114440" y="4190760"/>
            <a:ext cx="3200760" cy="1571400"/>
            <a:chOff x="4114440" y="4190760"/>
            <a:chExt cx="3200760" cy="1571400"/>
          </a:xfrm>
        </p:grpSpPr>
        <p:sp>
          <p:nvSpPr>
            <p:cNvPr id="178" name=""/>
            <p:cNvSpPr/>
            <p:nvPr/>
          </p:nvSpPr>
          <p:spPr>
            <a:xfrm>
              <a:off x="4800600" y="518148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dd an error message to the body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t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4114440" y="4190760"/>
              <a:ext cx="16765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0" dur="1" fill="hold"/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gical Operato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160720" y="1752480"/>
            <a:ext cx="4821120" cy="45259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17240" y="1461960"/>
            <a:ext cx="59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2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ng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rt to the nest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t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2133720"/>
            <a:ext cx="15242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2286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8600" y="4876920"/>
            <a:ext cx="2819520" cy="685800"/>
            <a:chOff x="228600" y="4876920"/>
            <a:chExt cx="2819520" cy="685800"/>
          </a:xfrm>
        </p:grpSpPr>
        <p:sp>
          <p:nvSpPr>
            <p:cNvPr id="186" name=""/>
            <p:cNvSpPr/>
            <p:nvPr/>
          </p:nvSpPr>
          <p:spPr>
            <a:xfrm>
              <a:off x="228600" y="487692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ight brace to end the nes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l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t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19520" y="510552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9" dur="1" fill="hold"/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ntal Paym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436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gical Operato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52480" y="2438280"/>
            <a:ext cx="5610240" cy="11620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10760" y="1447920"/>
            <a:ext cx="64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2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completed application with incorrect inp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752480" y="4038480"/>
            <a:ext cx="56102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Logical Operato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66880" y="3110040"/>
            <a:ext cx="5610240" cy="15048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11480" y="1447920"/>
            <a:ext cx="62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2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completed application with correct inp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0"/>
          <a:ext cx="6856560" cy="52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6934320" y="83808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ntalPayment.cpp (1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505320" y="1676520"/>
            <a:ext cx="4724280" cy="1523880"/>
            <a:chOff x="3505320" y="1676520"/>
            <a:chExt cx="4724280" cy="1523880"/>
          </a:xfrm>
        </p:grpSpPr>
        <p:sp>
          <p:nvSpPr>
            <p:cNvPr id="199" name=""/>
            <p:cNvSpPr/>
            <p:nvPr/>
          </p:nvSpPr>
          <p:spPr>
            <a:xfrm>
              <a:off x="6629400" y="1676520"/>
              <a:ext cx="1600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e variab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3505320" y="1828800"/>
              <a:ext cx="31240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2742840" y="4876920"/>
            <a:ext cx="4572360" cy="1175400"/>
            <a:chOff x="2742840" y="4876920"/>
            <a:chExt cx="4572360" cy="1175400"/>
          </a:xfrm>
        </p:grpSpPr>
        <p:sp>
          <p:nvSpPr>
            <p:cNvPr id="202" name=""/>
            <p:cNvSpPr/>
            <p:nvPr/>
          </p:nvSpPr>
          <p:spPr>
            <a:xfrm>
              <a:off x="5410080" y="5715000"/>
              <a:ext cx="1905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tain patient 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2742840" y="4876920"/>
              <a:ext cx="2971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3" dur="1" fill="hold"/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0" y="0"/>
          <a:ext cx="685656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6934320" y="83808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ntalPayment.cpp (2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286000" y="685800"/>
            <a:ext cx="6324480" cy="1738440"/>
            <a:chOff x="2286000" y="685800"/>
            <a:chExt cx="6324480" cy="1738440"/>
          </a:xfrm>
        </p:grpSpPr>
        <p:sp>
          <p:nvSpPr>
            <p:cNvPr id="208" name=""/>
            <p:cNvSpPr/>
            <p:nvPr/>
          </p:nvSpPr>
          <p:spPr>
            <a:xfrm>
              <a:off x="5638680" y="1600200"/>
              <a:ext cx="2971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iz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determine whether the user entered a 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2286000" y="685800"/>
              <a:ext cx="49528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2" dur="1" fill="hold"/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934320" y="83808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ntalPayment.cpp (3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0"/>
          <a:ext cx="6856560" cy="551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3200040" y="533160"/>
            <a:ext cx="5334480" cy="1967400"/>
            <a:chOff x="3200040" y="533160"/>
            <a:chExt cx="5334480" cy="1967400"/>
          </a:xfrm>
        </p:grpSpPr>
        <p:sp>
          <p:nvSpPr>
            <p:cNvPr id="214" name=""/>
            <p:cNvSpPr/>
            <p:nvPr/>
          </p:nvSpPr>
          <p:spPr>
            <a:xfrm>
              <a:off x="5867280" y="16765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multiple logical operators to determine whether any services were selec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3200040" y="533160"/>
              <a:ext cx="44197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1" dur="1" fill="hold"/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0" y="0"/>
          <a:ext cx="685656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6934320" y="83808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ntalPayment.cpp (4 o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600200"/>
            <a:ext cx="3810240" cy="914400"/>
            <a:chOff x="3733560" y="1600200"/>
            <a:chExt cx="3810240" cy="914400"/>
          </a:xfrm>
        </p:grpSpPr>
        <p:sp>
          <p:nvSpPr>
            <p:cNvPr id="220" name=""/>
            <p:cNvSpPr/>
            <p:nvPr/>
          </p:nvSpPr>
          <p:spPr>
            <a:xfrm>
              <a:off x="5334120" y="1600200"/>
              <a:ext cx="2209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ormat and display to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3733560" y="1905120"/>
              <a:ext cx="1600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4114440" y="1905120"/>
              <a:ext cx="1219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0" dur="1" fill="hold"/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ntal Paym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6880" y="3224160"/>
            <a:ext cx="5610240" cy="1276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4360" y="1447920"/>
            <a:ext cx="607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ntal Pay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before input is ente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ntal Paym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66880" y="3224160"/>
            <a:ext cx="5610240" cy="1276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13640" y="1447920"/>
            <a:ext cx="65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message displays when no patient name is ente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85800" y="4038120"/>
            <a:ext cx="1371600" cy="1557000"/>
            <a:chOff x="685800" y="4038120"/>
            <a:chExt cx="1371600" cy="1557000"/>
          </a:xfrm>
        </p:grpSpPr>
        <p:sp>
          <p:nvSpPr>
            <p:cNvPr id="56" name=""/>
            <p:cNvSpPr/>
            <p:nvPr/>
          </p:nvSpPr>
          <p:spPr>
            <a:xfrm>
              <a:off x="685800" y="5257800"/>
              <a:ext cx="1371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rror mess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914400" y="4038120"/>
              <a:ext cx="99072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ntal Paym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66880" y="2938320"/>
            <a:ext cx="5610240" cy="1847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11480" y="1447920"/>
            <a:ext cx="636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message displays when no services are selec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85800" y="4343040"/>
            <a:ext cx="1371600" cy="1557000"/>
            <a:chOff x="685800" y="4343040"/>
            <a:chExt cx="1371600" cy="1557000"/>
          </a:xfrm>
        </p:grpSpPr>
        <p:sp>
          <p:nvSpPr>
            <p:cNvPr id="62" name=""/>
            <p:cNvSpPr/>
            <p:nvPr/>
          </p:nvSpPr>
          <p:spPr>
            <a:xfrm>
              <a:off x="685800" y="5562720"/>
              <a:ext cx="1371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rror mess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14400" y="4343040"/>
              <a:ext cx="99072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" dur="1" fill="hold"/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ntal Paym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66880" y="2938320"/>
            <a:ext cx="5610240" cy="1847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14000" y="1447920"/>
            <a:ext cx="789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5.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ntal Pay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with input entered and total cost of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ntal Paymen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580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5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troduction to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 single character constant (or literal)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se values are stored as integer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ording to the ASCII character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 strings of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d in the C++ Standard Libr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includ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tring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ndard library header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be initialized with an integer or character const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assigned a character constant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19:03:21Z</dcterms:created>
  <dc:creator>Jeffrey Peng</dc:creator>
  <dc:description/>
  <dc:language>en-US</dc:language>
  <cp:lastModifiedBy>Pearson Education</cp:lastModifiedBy>
  <dcterms:modified xsi:type="dcterms:W3CDTF">2004-10-11T14:11:15Z</dcterms:modified>
  <cp:revision>104</cp:revision>
  <dc:subject/>
  <dc:title>Tutorial 5 – Dental Payment Application: Introducing Logical Operators, chars and strings</dc:title>
</cp:coreProperties>
</file>